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chimes.wav" ContentType="audio/x-wav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538F9-336F-4DF2-B0F2-8D3AF768CD9E}" type="slidenum">
              <a:rPr b="0" lang="es-E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75522-14F8-4320-A309-4C5735C1CB7C}" type="slidenum">
              <a:rPr b="0" lang="es-E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D9F2B-21CA-4DEE-96E3-39299582CD38}" type="slidenum">
              <a:rPr b="0" lang="es-E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913C9-762F-44B3-A770-BF92CFF0043D}" type="slidenum">
              <a:rPr b="0" lang="es-E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971F4-5D7E-4411-A7D0-52DDCC8824FA}" type="slidenum">
              <a:rPr b="0" lang="es-E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15A3A-58D4-4144-9B51-772C94AB49C1}" type="slidenum">
              <a:rPr b="0" lang="es-E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F17B7-B789-4413-97E1-EC2BF7E1FB3F}" type="slidenum">
              <a:rPr b="0" lang="es-E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08EFB-891D-4D37-A545-1459184A76B8}" type="slidenum">
              <a:rPr b="0" lang="es-E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74B75-6F3A-4396-9685-4DB59E956B57}" type="slidenum">
              <a:rPr b="0" lang="es-E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6FE6F-70E7-43A2-A5D1-5F17858AEC67}" type="slidenum">
              <a:rPr b="0" lang="es-E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23061-4BE4-400F-916E-CD9B11B62498}" type="slidenum">
              <a:rPr b="0" lang="es-E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3C1B0-F28D-4034-99A3-305DB18BED9B}" type="slidenum">
              <a:rPr b="0" lang="es-E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2E4DC-F416-4AF0-ACB3-6A547E86C6F7}" type="slidenum">
              <a:rPr b="0" lang="es-E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AD352-5EB4-4E12-B34B-610278A8425E}" type="slidenum">
              <a:rPr b="0" lang="es-E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344C3-523D-4DF6-9485-94B5FCCC4437}" type="slidenum">
              <a:rPr b="0" lang="es-E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EEAE0-3662-4FF6-BE54-E199303C0E70}" type="slidenum">
              <a:rPr b="0" lang="es-E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CBAAE-2609-44F3-A9AC-A0E93C83183F}" type="slidenum">
              <a:rPr b="0" lang="es-E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30094-143F-41F5-953E-557691E4CB6F}" type="slidenum">
              <a:rPr b="0" lang="es-E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9F74F-155E-47E9-A70D-03219771B9DE}" type="slidenum">
              <a:rPr b="0" lang="es-E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448CC-08DF-4135-B643-F1B109F5D350}" type="slidenum">
              <a:rPr b="0" lang="es-E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E0B03-6AAF-461F-97C6-77D7FB5EA1AF}" type="slidenum">
              <a:rPr b="0" lang="es-E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6BA2E-B07C-419F-851E-1B4191A56487}" type="slidenum">
              <a:rPr b="0" lang="es-E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7A921-661F-46EE-95C0-651FDE121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92E06-97C3-4401-9D98-0AC0D68F8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1508C-E6B5-4037-9951-B1145CF4A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B72D4-5F05-43BF-A336-6F204E097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A9D36-55BA-4F70-B7D7-2E256AFF2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AFCDD-67A5-40EE-B45E-1548592D2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7CFF8-C28F-44C4-ABE6-3A6B08C72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2CC24-4AAC-4E9D-A961-01CBBF163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BEAED-3D84-4AE2-B0EC-5329ED4CC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6870E-1DD0-4746-A3D5-83381DDE0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04CCA-020E-4C14-A911-4C910DD5F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041DC-0615-41A1-ACC4-061C7B910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16E2F-511D-4281-8D47-26F3EE372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85F45-50A7-462F-B8F4-BB024172F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220DB-CB32-4718-A891-EED863C4E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82505-A23D-40BC-BE90-7614A35B6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03FA9-1B68-4AD0-AF94-FCF1F33F9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7B3B3A-3A53-4914-B253-CD720F28A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4706E7-F6F4-48E0-B4F9-C90F74466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25F759-73DB-4EC2-B23F-FCA2CAE92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5CBD70-704F-4A5A-AA10-9A1118779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C7A159-963C-4B11-A967-A7D0CE30E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10A5A-0DEC-4606-A5E0-18247F471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7793C5-D636-4202-BBA6-BC407CE95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E4F7A6-D1E9-4D5F-8935-8429D13E6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FE7CF7-7066-4AF5-A75B-E1BAB979A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A96DB2-A5BD-4834-A237-FEBC2AC1E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C2F4E3-FE84-4D62-B516-32A7C2A6E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A6B98D-6F48-4DA5-9C8B-F84578C32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805A1E-613D-4A34-87BB-A6A148363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F4424-6ABC-47E6-BA9E-079BC940F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3DC13-B0B8-4228-97AE-55333EDEA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D8185-8BEE-4825-A4FB-55EAC1C22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39600-CD56-4981-87FF-7A7FDD759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6EE78D-F8AA-452F-840A-DE35D89EB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01A95-F590-4AAE-A463-AE70E6232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4C29E-75E9-47B9-A86E-383490F31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D5DE1-0D2F-4556-97C4-5A7ED769D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2EB84-3035-43B2-B528-1FD51AEA8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B5D93-4092-4A06-AAF0-7E9E8642D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4D318-3E61-4A82-B84F-E779A4F0C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5CB7B-D24C-498F-AC46-14E144AFB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6A4EA-CC78-4875-8A01-297DC231B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E36CAB-F16C-4453-8BB0-97C1755C1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3C0E9-1FB9-4AAC-AE84-D8F4ADE46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704079-362E-4BD7-9184-1FEE7B2CE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A3406E-ED3C-4657-A109-208311806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FEF4FA-4231-471B-AB14-D259FAC44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C2750A-C482-4D62-8B06-2FD071EB7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AB270C-E92C-49DB-A3A7-031065C7E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52D281-EBD1-41D3-8A9F-7892DF95E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AC9A40-E063-4D4B-80BC-80E252EEC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2A3D3C-6D48-4127-87D9-3D79C3A7C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BA4A18-7B31-41E0-B1D9-C2512E56B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681A5A-327A-4672-8956-9C91D1B5A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EB5E7-B998-4B64-954D-AE47EBCF9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8162BA-56E0-4ADB-B64D-4772A4EF1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944062-694D-45AF-8931-40F08525E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308602-57B7-4A4D-A307-11FC4E322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7A8CDC-0862-45D6-9686-55CCE305A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4FD323-86AF-4D91-8817-4F119A850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784F55-6A2E-49F5-A401-4B12E0A4C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87673F-1F7C-46FD-B4A6-7611423FA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3E0150-D7DD-4DA5-8895-BF003C71E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22ACA6-4C8D-4DF2-BFF3-B94F332E3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A6BB88-BEDB-445E-966B-04C57B319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8DD93-60C1-4B27-9720-DD3756E41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93E09F-E523-4ABE-9B0C-467F8CF80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818DE3-23E8-4EBD-BA55-8D9070DF2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C0F1DD-679E-4314-A6A5-F67612C38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4B08ED-8CEB-4ECB-B21E-A8221A240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993DEF-3FE3-44D8-BE5B-EE07ADD2C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3FB548-CA0E-42CA-8806-91E45C03F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255957-CC3D-422F-9A3F-820CB79BB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43A551-07D5-4BF0-9424-97EDE75DF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B97493-8256-42B6-A19F-893EE6EA4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A6BBBE-940A-421D-B10B-62C813FCF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C790C-071E-4DB8-A27F-9C01F304D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3F9205-5E0C-4A70-8CCF-68FEE0367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937D3E-443F-416E-94C5-70C68021C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37F7AB-4970-4CC5-9AF3-E7ABA2F3F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5A8948-86A7-4C63-BE4A-990183560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342864-B853-4F88-AC5D-3B7D4F2BE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C7AD4-C471-413F-9E65-8820FCF64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D8DEE-B290-48F0-A9D2-5CCB6788F22A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4" descr="logo fcfm"/>
          <p:cNvPicPr/>
          <p:nvPr/>
        </p:nvPicPr>
        <p:blipFill>
          <a:blip r:embed="rId2"/>
          <a:stretch/>
        </p:blipFill>
        <p:spPr>
          <a:xfrm>
            <a:off x="5867280" y="404640"/>
            <a:ext cx="2818080" cy="925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5" descr="logo cms"/>
          <p:cNvPicPr/>
          <p:nvPr/>
        </p:nvPicPr>
        <p:blipFill>
          <a:blip r:embed="rId3"/>
          <a:stretch/>
        </p:blipFill>
        <p:spPr>
          <a:xfrm>
            <a:off x="5867280" y="4724280"/>
            <a:ext cx="2846520" cy="1606680"/>
          </a:xfrm>
          <a:prstGeom prst="rect">
            <a:avLst/>
          </a:prstGeom>
          <a:ln w="0">
            <a:noFill/>
          </a:ln>
        </p:spPr>
      </p:pic>
      <p:sp>
        <p:nvSpPr>
          <p:cNvPr id="43" name="16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17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18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19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20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23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24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25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26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27 Conector recto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28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29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30 Elipse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31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32 Elipse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33 Elipse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2EFEB-CCBB-42B4-B695-7EFAB633421A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3" descr="logo cms"/>
          <p:cNvPicPr/>
          <p:nvPr/>
        </p:nvPicPr>
        <p:blipFill>
          <a:blip r:embed="rId2"/>
          <a:stretch/>
        </p:blipFill>
        <p:spPr>
          <a:xfrm>
            <a:off x="468360" y="5734080"/>
            <a:ext cx="1295280" cy="731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4" descr="logo fcfm"/>
          <p:cNvPicPr/>
          <p:nvPr/>
        </p:nvPicPr>
        <p:blipFill>
          <a:blip r:embed="rId3"/>
          <a:stretch/>
        </p:blipFill>
        <p:spPr>
          <a:xfrm>
            <a:off x="6156360" y="5734080"/>
            <a:ext cx="1944720" cy="639720"/>
          </a:xfrm>
          <a:prstGeom prst="rect">
            <a:avLst/>
          </a:prstGeom>
          <a:ln w="0">
            <a:noFill/>
          </a:ln>
        </p:spPr>
      </p:pic>
      <p:sp>
        <p:nvSpPr>
          <p:cNvPr id="102" name="16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17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1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1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2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23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 rot="5400000">
            <a:off x="7946280" y="107352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97024-39B9-4E0F-B0F6-E2C19F0E7303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9"/>
          </p:nvPr>
        </p:nvSpPr>
        <p:spPr>
          <a:xfrm rot="5400000">
            <a:off x="7186680" y="383868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12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14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6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7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8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19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20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23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24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25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26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27 Elipse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28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29 Elipse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30 Elipse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31 Conector recto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eece1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eece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78C20-ACB4-4BB2-A46D-2717C30EF224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2138D-0E0E-46CB-8B36-73EFC4CD12BE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14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16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17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18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19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20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B5F27-8F5A-4758-8094-B4239D35FF2C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14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16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17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18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19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20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C4317-D079-4163-AD0A-C16925C53DC6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4"/>
          <p:cNvSpPr/>
          <p:nvPr/>
        </p:nvSpPr>
        <p:spPr>
          <a:xfrm>
            <a:off x="1143000" y="1785960"/>
            <a:ext cx="7586640" cy="20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4700" spc="-1" strike="noStrike">
                <a:solidFill>
                  <a:srgbClr val="1f497d"/>
                </a:solidFill>
                <a:latin typeface="Trebuchet MS"/>
              </a:rPr>
              <a:t>Clase 8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4700" spc="-1" strike="noStrike">
                <a:solidFill>
                  <a:srgbClr val="1f497d"/>
                </a:solidFill>
                <a:latin typeface="Trebuchet MS"/>
              </a:rPr>
              <a:t>Marketing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2 Imagen" descr="LOGO_CMS_jpg.JPG"/>
          <p:cNvPicPr/>
          <p:nvPr/>
        </p:nvPicPr>
        <p:blipFill>
          <a:blip r:embed="rId1"/>
          <a:stretch/>
        </p:blipFill>
        <p:spPr>
          <a:xfrm>
            <a:off x="5508720" y="4422600"/>
            <a:ext cx="3373200" cy="243540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2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Trebuchet MS"/>
              </a:rPr>
              <a:t>Áreas de Beneficios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684360" y="1600200"/>
          <a:ext cx="7848360" cy="3557520"/>
        </p:xfrm>
        <a:graphic>
          <a:graphicData uri="http://schemas.openxmlformats.org/drawingml/2006/table">
            <a:tbl>
              <a:tblPr/>
              <a:tblGrid>
                <a:gridCol w="3887640"/>
                <a:gridCol w="3960720"/>
              </a:tblGrid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Áreas Intern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Áreas Extern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os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ant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rec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eneficios Fija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edios de Produc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erca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ipos de Clien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Zonas Geográfic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anales de Distribu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romo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01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Trebuchet MS"/>
              </a:rPr>
              <a:t>Factores Influyentes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Objetivos de la 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stos (límite inferi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lasticidad de Demanda/Pre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Valor del Producto en los Cl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mpet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Estrategia de la 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Trebuchet MS"/>
              </a:rPr>
              <a:t>Estrategias de Precio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95280" y="22050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Penetración: bajo pre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Alineamiento: precio prome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Selección: Alto pre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Trebuchet MS"/>
              </a:rPr>
              <a:t>Algunas preguntas…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95280" y="2205000"/>
            <a:ext cx="822960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¿Qué reacción tendrá la competencia frente a nuestros nuevos precio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¿Cómo será aceptado por el canal de distribución la nueva tarifa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Trebuchet MS"/>
              </a:rPr>
              <a:t>Algunas preguntas…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¿El precio fijado es coherente con el resto de la gama y el posicionamiento que queremos darl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¿Los precios fijados nos permiten alcanzar los objetivos marcados para este añ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Trebuchet MS"/>
              </a:rPr>
              <a:t>Concepto de Promoción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26560" y="1773360"/>
            <a:ext cx="7510680" cy="31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Es COMUNICAR, informar y persuadir al cliente y otros interesados sobre la empresa, sus productos, ofertas, 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… </a:t>
            </a: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para el logro de los objetivos organizacionales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Trebuchet MS"/>
              </a:rPr>
              <a:t>Promoción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Promoción de Ven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Fuerza de Venta o Venta perso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Public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Relaciones Públ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Comunicación Interac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Trebuchet MS"/>
              </a:rPr>
              <a:t>Promoción de Ventas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Incen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Incrementar las ventas de un P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Me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Trebuchet MS"/>
              </a:rPr>
              <a:t>Objetivos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Aumentar Participación de 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Romper lealtad de clientes en la compet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Reducir existe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Fide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Mayor espacio en detalli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Lograr aprobación de productos nue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Trebuchet MS"/>
              </a:rPr>
              <a:t>Herramientas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Muest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Cup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Regalos Publicit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Rebaj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Premios a la fide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Descu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Ev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Concur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68000" y="206028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1f497d"/>
                </a:solidFill>
                <a:latin typeface="Trebuchet MS"/>
              </a:rPr>
              <a:t>Marketing Mix</a:t>
            </a: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268000" y="4076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3 Imagen" descr="LOGO_CMS_jpg.JPG"/>
          <p:cNvPicPr/>
          <p:nvPr/>
        </p:nvPicPr>
        <p:blipFill>
          <a:blip r:embed="rId1"/>
          <a:stretch/>
        </p:blipFill>
        <p:spPr>
          <a:xfrm>
            <a:off x="5508720" y="4422600"/>
            <a:ext cx="3373200" cy="2435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Trebuchet MS"/>
              </a:rPr>
              <a:t>Concepto de Plaza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923400" y="2406600"/>
            <a:ext cx="6272280" cy="224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Cómo hacer llegar físicamente el producto o servicio al cliente, es decir agrega valor a las dimensiones TIEMPO y LUGA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Trebuchet MS"/>
              </a:rPr>
              <a:t>Decisiones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Canal de Distribu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Longitud del Ca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Lugares de disponibilidad del P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Tiempos de disponibilidad del P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Personal a car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¿Distribución Electrónic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Trebuchet MS"/>
              </a:rPr>
              <a:t>Canal de Distribución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Venta Direc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Agente: vende en nombre de la 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Distribuidor: vende a minori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Minori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Venta Complement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Trebuchet MS"/>
              </a:rPr>
              <a:t>Evolución del Marketing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439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4" descr="lbm_capitulo1_grafico2"/>
          <p:cNvPicPr/>
          <p:nvPr/>
        </p:nvPicPr>
        <p:blipFill>
          <a:blip r:embed="rId2"/>
          <a:stretch/>
        </p:blipFill>
        <p:spPr>
          <a:xfrm>
            <a:off x="596880" y="1708200"/>
            <a:ext cx="7253280" cy="4105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Trebuchet MS"/>
              </a:rPr>
              <a:t>Evolución del Marketing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42" name="Rectangle 5"/>
          <p:cNvSpPr/>
          <p:nvPr/>
        </p:nvSpPr>
        <p:spPr>
          <a:xfrm>
            <a:off x="369000" y="1629000"/>
            <a:ext cx="2570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rebuchet MS"/>
              </a:rPr>
              <a:t>Marketing de masas</a:t>
            </a:r>
            <a:r>
              <a:rPr b="0" lang="es-CL" sz="1800" spc="-1" strike="noStrike">
                <a:solidFill>
                  <a:srgbClr val="000000"/>
                </a:solidFill>
                <a:latin typeface="Trebuchet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i="1" lang="es-CL" sz="1800" spc="-1" strike="noStrike">
                <a:solidFill>
                  <a:srgbClr val="000000"/>
                </a:solidFill>
                <a:latin typeface="Trebuchet MS"/>
              </a:rPr>
              <a:t>Enfocado al producto</a:t>
            </a:r>
            <a:br>
              <a:rPr sz="1800"/>
            </a:br>
            <a:r>
              <a:rPr b="0" i="1" lang="es-CL" sz="1800" spc="-1" strike="noStrike">
                <a:solidFill>
                  <a:srgbClr val="000000"/>
                </a:solidFill>
                <a:latin typeface="Trebuchet MS"/>
              </a:rPr>
              <a:t>Anónimo</a:t>
            </a:r>
            <a:br>
              <a:rPr sz="1800"/>
            </a:br>
            <a:r>
              <a:rPr b="0" i="1" lang="es-CL" sz="1800" spc="-1" strike="noStrike">
                <a:solidFill>
                  <a:srgbClr val="000000"/>
                </a:solidFill>
                <a:latin typeface="Trebuchet MS"/>
              </a:rPr>
              <a:t>Pocas campañas</a:t>
            </a:r>
            <a:br>
              <a:rPr sz="1800"/>
            </a:br>
            <a:r>
              <a:rPr b="0" i="1" lang="es-CL" sz="1800" spc="-1" strike="noStrike">
                <a:solidFill>
                  <a:srgbClr val="000000"/>
                </a:solidFill>
                <a:latin typeface="Trebuchet MS"/>
              </a:rPr>
              <a:t>Gran alcance</a:t>
            </a:r>
            <a:br>
              <a:rPr sz="1800"/>
            </a:br>
            <a:r>
              <a:rPr b="0" i="1" lang="es-CL" sz="1800" spc="-1" strike="noStrike">
                <a:solidFill>
                  <a:srgbClr val="000000"/>
                </a:solidFill>
                <a:latin typeface="Trebuchet MS"/>
              </a:rPr>
              <a:t>Sin investigación</a:t>
            </a:r>
            <a:br>
              <a:rPr sz="1800"/>
            </a:br>
            <a:r>
              <a:rPr b="0" i="1" lang="es-CL" sz="1800" spc="-1" strike="noStrike">
                <a:solidFill>
                  <a:srgbClr val="000000"/>
                </a:solidFill>
                <a:latin typeface="Trebuchet MS"/>
              </a:rPr>
              <a:t>Corta duración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6"/>
          <p:cNvSpPr/>
          <p:nvPr/>
        </p:nvSpPr>
        <p:spPr>
          <a:xfrm>
            <a:off x="3132000" y="1629000"/>
            <a:ext cx="5639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rebuchet MS"/>
              </a:rPr>
              <a:t>Marketing relacional</a:t>
            </a:r>
            <a:r>
              <a:rPr b="0" lang="es-CL" sz="1800" spc="-1" strike="noStrike">
                <a:solidFill>
                  <a:srgbClr val="000000"/>
                </a:solidFill>
                <a:latin typeface="Trebuchet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rebuchet MS"/>
              </a:rPr>
              <a:t>Enfocado al cliente</a:t>
            </a:r>
            <a:br>
              <a:rPr sz="1800"/>
            </a:br>
            <a:r>
              <a:rPr b="0" i="1" lang="es-CL" sz="1800" spc="-1" strike="noStrike">
                <a:solidFill>
                  <a:srgbClr val="000000"/>
                </a:solidFill>
                <a:latin typeface="Trebuchet MS"/>
              </a:rPr>
              <a:t>Dirigido a personas (individual)</a:t>
            </a:r>
            <a:br>
              <a:rPr sz="1800"/>
            </a:br>
            <a:r>
              <a:rPr b="0" i="1" lang="es-CL" sz="1800" spc="-1" strike="noStrike">
                <a:solidFill>
                  <a:srgbClr val="000000"/>
                </a:solidFill>
                <a:latin typeface="Trebuchet MS"/>
              </a:rPr>
              <a:t>Muchas campañas</a:t>
            </a:r>
            <a:br>
              <a:rPr sz="1800"/>
            </a:br>
            <a:r>
              <a:rPr b="0" i="1" lang="es-CL" sz="1800" spc="-1" strike="noStrike">
                <a:solidFill>
                  <a:srgbClr val="000000"/>
                </a:solidFill>
                <a:latin typeface="Trebuchet MS"/>
              </a:rPr>
              <a:t>Alcance reducido</a:t>
            </a:r>
            <a:br>
              <a:rPr sz="1800"/>
            </a:br>
            <a:r>
              <a:rPr b="0" i="1" lang="es-CL" sz="1800" spc="-1" strike="noStrike">
                <a:solidFill>
                  <a:srgbClr val="000000"/>
                </a:solidFill>
                <a:latin typeface="Trebuchet MS"/>
              </a:rPr>
              <a:t>Basado en perfiles y comportamientos de clientes detallados</a:t>
            </a:r>
            <a:r>
              <a:rPr b="0" lang="es-CL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7"/>
          <p:cNvSpPr/>
          <p:nvPr/>
        </p:nvSpPr>
        <p:spPr>
          <a:xfrm>
            <a:off x="250920" y="4443840"/>
            <a:ext cx="860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rebuchet MS"/>
              </a:rPr>
              <a:t>Uno a uno no significa sólamente comunicarse con los clientes como individuos, sino desarrollar productos y mensajes personalizados basados en sus necesidad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5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268000" y="206028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1f497d"/>
                </a:solidFill>
                <a:latin typeface="Trebuchet MS"/>
              </a:rPr>
              <a:t>Modelo STP</a:t>
            </a: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2268000" y="4076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1f497d"/>
                </a:solidFill>
                <a:latin typeface="Trebuchet MS"/>
              </a:rPr>
              <a:t>Segmentación , Targeting y Posicion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3 Imagen" descr="LOGO_CMS_jpg.JPG"/>
          <p:cNvPicPr/>
          <p:nvPr/>
        </p:nvPicPr>
        <p:blipFill>
          <a:blip r:embed="rId1"/>
          <a:stretch/>
        </p:blipFill>
        <p:spPr>
          <a:xfrm>
            <a:off x="5867280" y="4437000"/>
            <a:ext cx="3097440" cy="2233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Introducción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68000" y="165096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Cualquier empresa que quiera vender un producto o servicio en un mercado no puede servir a todos los clientes de ese merca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f81bd"/>
                </a:solidFill>
                <a:latin typeface="Trebuchet MS"/>
              </a:rPr>
              <a:t>Necesidad de identificar los segmentos más atractivos a los cuales está en posibilidad de servir con efica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Conceptos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68000" y="165096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f81bd"/>
                </a:solidFill>
                <a:latin typeface="Trebuchet MS"/>
              </a:rPr>
              <a:t>Segmentación: </a:t>
            </a: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Proceso de clasificar grupos de acuerdo con características que son relevantes para el comportamiento de compra o de consu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f81bd"/>
                </a:solidFill>
                <a:latin typeface="Trebuchet MS"/>
              </a:rPr>
              <a:t>Segmento: </a:t>
            </a: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Grupo de individuos o entidades con pautas de consumo similares y que reaccionan de forma homogénea ante estímulos de 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Segmentación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468000" y="165096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La segmentación surge de la idea que en la sociedad existen distintos grupos de person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Existen clientes distintos y por lo tanto necesidades distint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La segmentación es un proceso donde se identifican y agrupan personas que tienen una actitud común y que poseen ciertas características que las identifican y distinguen de otr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Segmentación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459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  <p:sp>
        <p:nvSpPr>
          <p:cNvPr id="460" name="2 Marcador de contenido"/>
          <p:cNvSpPr/>
          <p:nvPr/>
        </p:nvSpPr>
        <p:spPr>
          <a:xfrm>
            <a:off x="571680" y="1700280"/>
            <a:ext cx="7467480" cy="37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Estas características determinan comportamientos de compra similar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Lo anterior nos permite diferenciar la OFERTA (haciéndoles a los grupos elegidos ofertas que les brinden mayor satisfacción) y,  conocer y entender mejor al cli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Trebuchet MS"/>
              </a:rPr>
              <a:t>¿Por qué MIX?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240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Mezcla de Herramien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Objetivos de la empre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2"/>
          <p:cNvSpPr/>
          <p:nvPr/>
        </p:nvSpPr>
        <p:spPr>
          <a:xfrm>
            <a:off x="395280" y="3357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1f497d"/>
                </a:solidFill>
                <a:latin typeface="Trebuchet MS"/>
              </a:rPr>
              <a:t>“</a:t>
            </a:r>
            <a:r>
              <a:rPr b="0" lang="es-CL" sz="2600" spc="-1" strike="noStrike">
                <a:solidFill>
                  <a:srgbClr val="1f497d"/>
                </a:solidFill>
                <a:latin typeface="Trebuchet MS"/>
              </a:rPr>
              <a:t>El uso selectivo de la combinación de diferentes variables de marketing para alcanzar los objetivos empresariales”</a:t>
            </a:r>
            <a:r>
              <a:rPr b="0" lang="en-US" sz="2600" spc="-1" strike="noStrike">
                <a:solidFill>
                  <a:srgbClr val="1f497d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4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Beneficios de la Segmentación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68000" y="165096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Permite una mejor identificación de oportunidades de 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Permite mejorar la asignación de recur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Provee guías para el desarrollo de campañas de 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Provee guías para el posicionamiento del produ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Provee guías para el diseño de nuevos produc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Permite diferencia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Beneficios de la Segmentación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468000" y="165096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Permite satisfacer mejor las necesidades y preferencias de los diferentes grupos de cl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La segmentación permite adaptar el marketing mix a las necesidades especificas, mejorando así eficacia y efectividad del uso de recurs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Medir evolución de diferentes tendencias para cada seg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Optimizar recur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Ser precisos en lograr los obje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Objetivos de la Segmentación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68000" y="165096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La estrategia de la segmentación tiene como objetivo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Identificar nuevas oportun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Decidir en que mercado de productos invert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Desarrollar beneficios al consumidor y ventajas competitiv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5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Tipos de Segmentación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472" name="Diagrama 3" descr=""/>
          <p:cNvPicPr/>
          <p:nvPr/>
        </p:nvPicPr>
        <p:blipFill>
          <a:blip r:embed="rId2"/>
          <a:srcRect l="0" t="-653" r="0" b="-2117"/>
          <a:stretch/>
        </p:blipFill>
        <p:spPr>
          <a:xfrm>
            <a:off x="357120" y="1428840"/>
            <a:ext cx="6215040" cy="4286160"/>
          </a:xfrm>
          <a:prstGeom prst="rect">
            <a:avLst/>
          </a:prstGeom>
          <a:ln w="0">
            <a:noFill/>
          </a:ln>
        </p:spPr>
      </p:pic>
      <p:pic>
        <p:nvPicPr>
          <p:cNvPr id="473" name="Objeto 4" descr=""/>
          <p:cNvPicPr/>
          <p:nvPr/>
        </p:nvPicPr>
        <p:blipFill>
          <a:blip r:embed="rId3"/>
          <a:srcRect l="0" t="-150" r="-498" b="-386"/>
          <a:stretch/>
        </p:blipFill>
        <p:spPr>
          <a:xfrm>
            <a:off x="6643800" y="1928880"/>
            <a:ext cx="361800" cy="2905200"/>
          </a:xfrm>
          <a:prstGeom prst="rect">
            <a:avLst/>
          </a:prstGeom>
          <a:ln w="0">
            <a:noFill/>
          </a:ln>
        </p:spPr>
      </p:pic>
      <p:sp>
        <p:nvSpPr>
          <p:cNvPr id="474" name="5 CuadroTexto"/>
          <p:cNvSpPr/>
          <p:nvPr/>
        </p:nvSpPr>
        <p:spPr>
          <a:xfrm>
            <a:off x="7286760" y="1714680"/>
            <a:ext cx="857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¿Cómo Segmentar?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468000" y="165096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Elegir variables de segmentación, aquellas características que distinguen a un grupo de clientes de ot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Elegir una técnica de análisis para medir o revisar las variables de segmentación en los cli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Aplicar dicha técnica para identificar los segmen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Describir un perfil para cada seg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f497d"/>
                </a:solidFill>
                <a:latin typeface="Trebuchet MS"/>
              </a:rPr>
              <a:t>Criterios para una segmentación efectiva</a:t>
            </a: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480" name="Diagrama 5" descr=""/>
          <p:cNvPicPr/>
          <p:nvPr/>
        </p:nvPicPr>
        <p:blipFill>
          <a:blip r:embed="rId2"/>
          <a:stretch/>
        </p:blipFill>
        <p:spPr>
          <a:xfrm>
            <a:off x="714240" y="1357200"/>
            <a:ext cx="7358040" cy="4357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Ideas para analizar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468000" y="165096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La segmentación no es más que descomponer el mercado en oportunidades de negoc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Es conveniente usar varias variables de segmentación a la vez, para perfeccionar la predicción del comportamiento de compra y caracterizar adecuadamente a un merc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Cuidado con la complejidad excesiva</a:t>
            </a: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En general, comportamiento de compra = f (variables de segmentación). (func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 txBox="1"/>
          <p:nvPr/>
        </p:nvSpPr>
        <p:spPr>
          <a:xfrm>
            <a:off x="714240" y="2356920"/>
            <a:ext cx="7467840" cy="17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04a7b"/>
                </a:solidFill>
                <a:latin typeface="Trebuchet MS"/>
              </a:rPr>
              <a:t>“ </a:t>
            </a:r>
            <a:r>
              <a:rPr b="1" lang="es-ES" sz="2800" spc="-1" strike="noStrike">
                <a:solidFill>
                  <a:srgbClr val="604a7b"/>
                </a:solidFill>
                <a:latin typeface="Trebuchet MS"/>
              </a:rPr>
              <a:t>Si usted no esta pensando en segmentación, usted no esta pensand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604a7b"/>
                </a:solidFill>
                <a:latin typeface="Trebuchet MS"/>
              </a:rPr>
              <a:t>                                </a:t>
            </a:r>
            <a:r>
              <a:rPr b="1" lang="es-ES" sz="2800" spc="-1" strike="noStrike">
                <a:solidFill>
                  <a:srgbClr val="604a7b"/>
                </a:solidFill>
                <a:latin typeface="Trebuchet MS"/>
              </a:rPr>
              <a:t>Theodore Levi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2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Introducción al Target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468000" y="165096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Después de haber dividido al Mercado en partes, es posible volver a verlo de otro mo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Podemos elegir cual de ellos es más atrac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Podemos elegir cual de ellos es más conven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Pero siempre tenemos que elegir: Yo puedo conocer todos los segmentos, pero sólo en algunos de ellos tendré oportunidad de es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Target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68000" y="165096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El target es la definición del Consumidor que se desea alcanz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Obviamente no serán los únicos, pero sí los princip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Está prohibido que sea genérica (Cualquier producto podría atacar al segmento ABC1 entre 18 y 35 añ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Cómo son?, Qué esperan de la marca? ,Qué les gusta hacer?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Trebuchet MS"/>
              </a:rPr>
              <a:t>4 P´s del Marketing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791640" y="2019240"/>
            <a:ext cx="4977000" cy="390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RODU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RE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ROMO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LA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Target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468000" y="165096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El target debe ser una descripción muy precisa de nuestro consumidor pretend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Tiene que ser tan clara la descripción que hasta deberíamos poder dibujar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El target no es excluyente, pero sí preferen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Nos permite saber hacia dónde vamos a orientar la mayor cantidad de recursos de 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El target puede evolucionar en el tiempo, pero no puede estar cambiando constantemente sin sent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Características y Consecuencias del Target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468000" y="165096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f81bd"/>
                </a:solidFill>
                <a:latin typeface="Trebuchet MS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Prec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Clar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O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Esta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f81bd"/>
                </a:solidFill>
                <a:latin typeface="Trebuchet MS"/>
              </a:rPr>
              <a:t>Consecuenci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Define la inversión en recur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Define la orientación de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Determina lo impor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Posicionamiento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468000" y="165096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Cómo ubicamos la marca en la mente de los consumidor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Es la forma en que queremos que los consumidores piensen sobre nuestra mar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Tiene que tener un punto diferencial v/s los competi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Deberá ser perdu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Posicionamiento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785520" y="2571840"/>
            <a:ext cx="7467480" cy="19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064a2"/>
                </a:solidFill>
                <a:latin typeface="Trebuchet MS"/>
              </a:rPr>
              <a:t>El posicionamiento, condiciona a todas las actividades de Marketing que se realizan. Es tan importante que si cambia seguido, la marca va perdiendo identidad. Podría evolucionar más que cambi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Posicionamiento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468000" y="165096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El posicionamiento es la forma en que la empresa es percibida subjetivamente por el consumidor, es decir, la forma en que las personas sienten y valoran el producto o servicio. Implica el acto de diseñar la imagen, productos y servicios de la empresa de modo tal que los consumidores perciban su diferencia en relación a la competencia (diferenciars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Posicionamiento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468000" y="165096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f81bd"/>
                </a:solidFill>
                <a:latin typeface="Trebuchet MS"/>
              </a:rPr>
              <a:t>Posicionamiento deseado: </a:t>
            </a: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Es la forma en que la empresa </a:t>
            </a:r>
            <a:r>
              <a:rPr b="1" lang="es-ES" sz="2000" spc="-1" strike="noStrike">
                <a:solidFill>
                  <a:srgbClr val="000000"/>
                </a:solidFill>
                <a:latin typeface="Trebuchet MS"/>
              </a:rPr>
              <a:t>quiere</a:t>
            </a: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 que su producto sea percibi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f81bd"/>
                </a:solidFill>
                <a:latin typeface="Trebuchet MS"/>
              </a:rPr>
              <a:t>Posicionamiento efectivo</a:t>
            </a:r>
            <a:r>
              <a:rPr b="0" lang="es-ES" sz="2000" spc="-1" strike="noStrike">
                <a:solidFill>
                  <a:srgbClr val="4f81bd"/>
                </a:solidFill>
                <a:latin typeface="Trebuchet MS"/>
              </a:rPr>
              <a:t>: </a:t>
            </a: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Es la forma en que la empresa </a:t>
            </a:r>
            <a:r>
              <a:rPr b="1" lang="es-ES" sz="2000" spc="-1" strike="noStrike">
                <a:solidFill>
                  <a:srgbClr val="000000"/>
                </a:solidFill>
                <a:latin typeface="Trebuchet MS"/>
              </a:rPr>
              <a:t>es</a:t>
            </a: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 percibida por sus consumid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rebuchet MS"/>
              </a:rPr>
              <a:t>Una estrategia de posicionamiento consta de los siguientes pa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45720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SzPct val="8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rebuchet MS"/>
              </a:rPr>
              <a:t>Identificar posibles ventaj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45720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SzPct val="8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rebuchet MS"/>
              </a:rPr>
              <a:t>Seleccionar las ventajas adecuadas y alcanz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45720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SzPct val="8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rebuchet MS"/>
              </a:rPr>
              <a:t>Crear la diferenciación re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45720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SzPct val="8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rebuchet MS"/>
              </a:rPr>
              <a:t>Comunicarlo eficazmente al mer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Posicionamiento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468000" y="165096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Es vital que la imagen diseñada llegue a los consumidores mediante una comunicación efect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el posicionamiento es una IMAGEN MENTAL de mi marca y mi producto en la cabeza del cliente</a:t>
            </a: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, se debe recordar por tanto que n</a:t>
            </a: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o necesito cualquier imagen mental, necesito aquella que MOTIVA LA COMPRA</a:t>
            </a: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Trebuchet MS"/>
              </a:rPr>
              <a:t>Concepto de Producto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7931160" cy="20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Conjunto de características y atributos tangibles e intangibles que el comprador acepta, en principio, como algo que va a satisfacer sus necesidade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4"/>
          <p:cNvSpPr/>
          <p:nvPr/>
        </p:nvSpPr>
        <p:spPr>
          <a:xfrm>
            <a:off x="179280" y="3500280"/>
            <a:ext cx="8748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Los Consumidores No Compran Productos; Adquieren La Esperanza De Conseguir Benefici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4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Trebuchet MS"/>
              </a:rPr>
              <a:t>Atributos del Producto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042560" y="1557360"/>
            <a:ext cx="490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Núcl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re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nv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iseño, forma y tama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rvi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magen del produ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magen de la 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14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1f497d"/>
                </a:solidFill>
                <a:latin typeface="Trebuchet MS"/>
              </a:rPr>
              <a:t>PRODUCTO AUMENTADO</a:t>
            </a:r>
            <a:endParaRPr b="0" lang="en-US" sz="19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77" name="Rectangle 3"/>
          <p:cNvSpPr/>
          <p:nvPr/>
        </p:nvSpPr>
        <p:spPr>
          <a:xfrm>
            <a:off x="609480" y="1219320"/>
            <a:ext cx="7891560" cy="433836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3209760" y="1371600"/>
            <a:ext cx="25070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eeece1"/>
                </a:solidFill>
                <a:latin typeface="Verdana"/>
              </a:rPr>
              <a:t>ASPECTOS AÑADI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eeece1"/>
                </a:solidFill>
                <a:latin typeface="Verdana"/>
              </a:rPr>
              <a:t>Producto “aumentado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5"/>
          <p:cNvSpPr/>
          <p:nvPr/>
        </p:nvSpPr>
        <p:spPr>
          <a:xfrm>
            <a:off x="1905120" y="2133720"/>
            <a:ext cx="5572080" cy="26193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6"/>
          <p:cNvSpPr/>
          <p:nvPr/>
        </p:nvSpPr>
        <p:spPr>
          <a:xfrm>
            <a:off x="3276720" y="3200400"/>
            <a:ext cx="2590560" cy="738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BENEFIC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BÁS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7"/>
          <p:cNvSpPr/>
          <p:nvPr/>
        </p:nvSpPr>
        <p:spPr>
          <a:xfrm>
            <a:off x="3435480" y="2286000"/>
            <a:ext cx="23760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ASPECTOS FORM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Producto “intangible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          </a:t>
            </a: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Cal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8"/>
          <p:cNvSpPr/>
          <p:nvPr/>
        </p:nvSpPr>
        <p:spPr>
          <a:xfrm rot="5400000">
            <a:off x="2226960" y="3455640"/>
            <a:ext cx="810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Mar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9"/>
          <p:cNvSpPr/>
          <p:nvPr/>
        </p:nvSpPr>
        <p:spPr>
          <a:xfrm rot="16200000">
            <a:off x="5863680" y="3526920"/>
            <a:ext cx="885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Env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0"/>
          <p:cNvSpPr/>
          <p:nvPr/>
        </p:nvSpPr>
        <p:spPr>
          <a:xfrm>
            <a:off x="3756960" y="4267080"/>
            <a:ext cx="1497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Estilo</a:t>
            </a: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Diseñ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11"/>
          <p:cNvSpPr/>
          <p:nvPr/>
        </p:nvSpPr>
        <p:spPr>
          <a:xfrm>
            <a:off x="2512440" y="4929120"/>
            <a:ext cx="4619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eeece1"/>
                </a:solidFill>
                <a:latin typeface="Verdana"/>
              </a:rPr>
              <a:t>Servicio posventa                          Financi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2"/>
          <p:cNvSpPr/>
          <p:nvPr/>
        </p:nvSpPr>
        <p:spPr>
          <a:xfrm rot="5400000">
            <a:off x="-22680" y="3446280"/>
            <a:ext cx="2938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eeece1"/>
                </a:solidFill>
                <a:latin typeface="Verdana"/>
              </a:rPr>
              <a:t>Entrega           Garant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13"/>
          <p:cNvSpPr/>
          <p:nvPr/>
        </p:nvSpPr>
        <p:spPr>
          <a:xfrm rot="16200000">
            <a:off x="6324480" y="3415680"/>
            <a:ext cx="33163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eeece1"/>
                </a:solidFill>
                <a:latin typeface="Verdana"/>
              </a:rPr>
              <a:t>Instalación        Manteni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14"/>
          <p:cNvSpPr/>
          <p:nvPr/>
        </p:nvSpPr>
        <p:spPr>
          <a:xfrm>
            <a:off x="5165640" y="5772240"/>
            <a:ext cx="2680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uente: adaptado Philip Kot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Trebuchet MS"/>
              </a:rPr>
              <a:t>Concepto de Precio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822960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Estimación cuantitativa sobre un producto y que expresa la aceptación o no del consumidor hacia los atributos de dicho producto, atendiendo a la capacidad para satisfacer necesidad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Trebuchet MS"/>
              </a:rPr>
              <a:t>Concepto de Precio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3" name="Rectangle 3"/>
          <p:cNvSpPr/>
          <p:nvPr/>
        </p:nvSpPr>
        <p:spPr>
          <a:xfrm>
            <a:off x="539640" y="2133720"/>
            <a:ext cx="259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Necesidades de Merc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4"/>
          <p:cNvSpPr/>
          <p:nvPr/>
        </p:nvSpPr>
        <p:spPr>
          <a:xfrm>
            <a:off x="6012000" y="2133720"/>
            <a:ext cx="266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roceso de Prod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5"/>
          <p:cNvSpPr/>
          <p:nvPr/>
        </p:nvSpPr>
        <p:spPr>
          <a:xfrm rot="19288200">
            <a:off x="3203280" y="3213000"/>
            <a:ext cx="504720" cy="1511280"/>
          </a:xfrm>
          <a:prstGeom prst="downArrow">
            <a:avLst>
              <a:gd name="adj1" fmla="val 50000"/>
              <a:gd name="adj2" fmla="val 7485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6"/>
          <p:cNvSpPr/>
          <p:nvPr/>
        </p:nvSpPr>
        <p:spPr>
          <a:xfrm rot="2131200">
            <a:off x="5435640" y="3212640"/>
            <a:ext cx="504720" cy="1511280"/>
          </a:xfrm>
          <a:prstGeom prst="downArrow">
            <a:avLst>
              <a:gd name="adj1" fmla="val 50000"/>
              <a:gd name="adj2" fmla="val 7485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7"/>
          <p:cNvSpPr/>
          <p:nvPr/>
        </p:nvSpPr>
        <p:spPr>
          <a:xfrm>
            <a:off x="3203640" y="4724280"/>
            <a:ext cx="259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jación Pre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7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20:44:41Z</dcterms:created>
  <dc:creator> </dc:creator>
  <dc:description/>
  <dc:language>en-US</dc:language>
  <cp:lastModifiedBy>Incubadora3</cp:lastModifiedBy>
  <dcterms:modified xsi:type="dcterms:W3CDTF">2011-12-21T16:47:38Z</dcterms:modified>
  <cp:revision>56</cp:revision>
  <dc:subject/>
  <dc:title>Diapositiva 1</dc:title>
</cp:coreProperties>
</file>