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200-4945-485A-891C-D05C5207CAD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9D3D-4B16-416F-8EAF-6DA943D27BF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9295-56CA-4CCE-B5F3-1A5AED896DB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A4E-5BC5-4A88-A122-7B2B29AA135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395B-7408-471A-A5D1-76AEAB06F862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C2D-04E5-4E38-9335-B15BDB6AF58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550-28A8-4F06-A7D2-FCAB08AFCD8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C5E-3A60-4E18-A711-4A0B987EBD6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3FC-B845-4E06-A63E-CA454142B12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55AE-DDC2-4480-A0D0-51918A49BA8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42A-8433-4B3D-B274-24ED8BEA5B0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39A-EA5E-48F9-8AF4-C6688F5768A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2D1-216D-41DA-A29F-9563C452174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E3B-6D09-4C7A-9FB8-96F548E171A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06B8-5FB4-4DAA-A39E-29CC26E62C8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CC1-A590-4222-B90F-70A44AFACEB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877A-05FD-42E4-BFFF-D96B4AED8E2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180-4D5E-4D86-B2B7-413350C3571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AA19-27B9-40D7-8E47-5B91A72FE53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B736-C11A-4A5B-99C9-9592E1489CC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F49-3A66-4276-B776-4102CA94C2D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ED55-AE90-46F4-81B4-AA9135770F9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53A3-A9EC-45C1-8CCA-63EF5C01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E114-A203-4BCF-9EE1-C7F6C1A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07F9-2EB9-44F5-B202-F86B97DF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BF8F-B088-4E13-9691-F1A5E0BC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D9AE-35BE-47C8-A862-00FC48E8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EA8D-ABDE-48B2-A3A9-3201414A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B7C2-5E40-4F84-B1CE-EB00E0C7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ED87-C6A7-4D76-A099-45A7E2C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CE72-51BF-498F-9539-4BD1DC89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70A-791C-4BD1-A9BA-48FD594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B0E2-D319-4DAB-85C4-F182606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C309-A40C-4A57-9109-0494E61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29A5-CA6B-411A-8C54-0F5B9FE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33F8-F30F-43C4-8219-7CB25BC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504B-3BB8-4992-9B61-4FB14D1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83E-94A0-4A37-92AB-4667092D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29A3-AE34-425B-A5D7-E7537669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A8470-4A72-443E-AE0A-01AB2B20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C1D38-3CD3-4C46-9FF4-A779A9BF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754F0-46D0-4647-8C31-EFA20BCD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A017C-7CB6-46FC-AA27-F3BA227D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35599-EBAD-4B6C-AA64-30D849DB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8069-6DCA-47D4-BE03-36C83BC0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9E860-EE86-4F21-B7EE-AB3542A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E9FC0-ACBA-4B39-A669-2D4836A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B5378-E2F9-450C-903F-5C908EA2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96800-1BE9-45FF-9048-1050E43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75340-9DBC-4F04-912E-B77FA0C8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B7382-CF40-4755-8C1A-B91EFB46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E7CC6-A08D-4560-B755-50FEE9D6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5A41-20EA-4023-B597-57357C35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2843-655C-498C-98EB-C5615845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F0832-6EEA-4024-AC5B-F060622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7388-F5B9-4CC6-97ED-5A21882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A594-4AB4-4039-8676-BE184E2C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ACF1-6EF3-4EBA-9B63-E370A7C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357C-5C43-4BF0-9800-E0E8D2A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69DAD-12ED-4F9B-8F4A-BD1C709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B854-6331-42B1-9C97-6F5FB81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82B6-E29C-4227-A873-F5721703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5E18-64E4-4D13-B808-955FF277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8714-4025-4654-8048-5D94E5E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F37B-C7B6-4CF7-BDC5-9BE5E8BE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3EDE1-FAAC-4C91-8A98-7E4C7CE9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3574-E80C-4EF2-B341-B50A8DB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4955D-B5AA-4EA9-95A7-67DAD650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7D41C-449B-474B-B2B8-49E3C3DC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E999B-C9B0-40E6-AB1A-2BEF1DAC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D558C-1B60-41C3-BC66-7F51175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66265-CB6A-4FF7-A988-DFDF9E4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57756-9351-4099-81B6-72B07740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CC30B-4A10-41BC-A952-BEFFECC7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152A3-79BC-4A14-ACD9-91C0DFC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FD2B1-AA3B-4D6E-B6DF-FA17438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558BE-316D-4CF9-8AFE-7D597DB8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4BD8-8944-449D-90A9-B630606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77905-CE1E-4074-8574-E32FD291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5919D-F0C6-4142-B3E9-BBE27CE8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EF809-E845-4A2F-9737-424629E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889DB-D816-49D5-A35D-7FC20AE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87572-452E-41F0-AAEB-192998C7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431B1-2BF6-40C2-8DCD-87C5A31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B5C1C-1083-4CB9-AF11-8BF786CA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190D90-9780-497F-80D8-19D54C85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619FD-6BFF-429A-BB01-15ECB706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94CB7-3E2A-4BDC-903A-86B1416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CBF6-DDB7-4A32-91EE-8E73050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35288-62A7-4436-93F7-8EF0BE2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08C37-5A71-4C3F-A7AB-12AF1099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EAE00-2271-448A-8252-08F11672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13A4B-6DE5-47C1-B105-1A790941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6A60D-E1B6-495B-BA82-38C48F5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A1F49-82DF-4186-8E9D-BF8B50E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B3557-479B-43AF-934C-D22E54F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9F698-F5AD-447C-A73C-6FBE7C9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32669-60EA-40DD-81A7-B0BD5136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B7A34-14D9-4F08-A1FE-8FB805C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7B09-7D3E-4CDB-84C0-F779603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DF62A-A0DB-493E-9706-58349AF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29331-AAD4-4A91-BDC5-59449F8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E1B4A-C7C6-4FE0-B638-34DFE5B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758A3-A247-4660-A2B9-97C0F3E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916B4-3426-49D7-BD07-2AEBED7A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21D5-82C1-4943-85CA-A95BA6E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5A90-0BBE-4476-8035-A4CE7B8D18D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3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34E-2327-4772-A821-705DF4F88A2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2089-CFD0-4192-9BDE-5771061D9A4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D48-797D-4F4C-B83E-187025AFEF3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6CEB-D1B1-4FF1-9DA6-79B8D4D3E72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57F-D4B2-4AA5-B1F5-81D7C5D46EC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E499-9EF7-45BA-A9E9-CB9A645CF23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143000" y="1785960"/>
            <a:ext cx="758664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Clase 8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Market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2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Áreas de Benefici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4360" y="1600200"/>
          <a:ext cx="7848360" cy="35575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In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Ex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neficios Fi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r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s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nas Geográf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les de Dis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Factores Influyent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os (límite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asticidad de Demanda/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 del Produ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rateg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strategias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netración: baj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ineamiento: precio pro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lección: Al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Qué reacción tendrá la competencia frente a nuestros nuevos preci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Cómo será aceptado por el canal de distribución la nueva tarif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El precio fijado es coherente con el resto de la gama y el posicionamiento que queremos dar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Los precios fijados nos permiten alcanzar los objetivos marcados para este a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1068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COMUNICAR, informar y persuadir al cliente y otros interesados sobre la empresa, sus productos, oferta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el logro de los objetivos organizacion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mo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uerza de Venta o Venta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unicación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 de V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rementar las ventas de un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Objetiv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umentar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omper lealtad de clientes en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ducir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Fid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espacio en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grar aprobación de productos n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Herrami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galos Public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emios a la fide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Trebuchet MS"/>
              </a:rPr>
              <a:t>Marketing Mix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3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laza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23400" y="2406600"/>
            <a:ext cx="62722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hacer llegar físicamente el producto o servicio al cliente, es decir agrega valor a las dimensiones TIEMPO y LU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Decision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anal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ngitu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ugare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iempo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rsonal a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Distribución Electrón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anal de Distribu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gente: vende en nombre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istribuidor: vende a 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lbm_capitulo1_grafico2"/>
          <p:cNvPicPr/>
          <p:nvPr/>
        </p:nvPicPr>
        <p:blipFill>
          <a:blip r:embed="rId2"/>
          <a:stretch/>
        </p:blipFill>
        <p:spPr>
          <a:xfrm>
            <a:off x="596880" y="1708200"/>
            <a:ext cx="72532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69000" y="1629000"/>
            <a:ext cx="257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de masa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product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ónim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Poc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Gran alcanc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Sin investigación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Corta dur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132000" y="16290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relacional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client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Dirigido a personas (individual)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Much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lcance reduci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Basado en perfiles y comportamientos de clientes detallado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0920" y="4443840"/>
            <a:ext cx="86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Uno a uno no significa sólamente comunicarse con los clientes como individuos, sino desarrollar productos y mensajes personalizados basados en sus neces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Modelo STP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egmentación , Targeting y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3 Imagen" descr="LOGO_CMS_jpg.JPG"/>
          <p:cNvPicPr/>
          <p:nvPr/>
        </p:nvPicPr>
        <p:blipFill>
          <a:blip r:embed="rId1"/>
          <a:stretch/>
        </p:blipFill>
        <p:spPr>
          <a:xfrm>
            <a:off x="5867280" y="4437000"/>
            <a:ext cx="30974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ualquier empresa que quiera vender un producto o servicio en un mercado no puede servir a todos los clientes de ese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Necesidad de identificar los segmentos más atractivos a los cuales está en posibilidad de servir con e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ncept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ación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ceso de clasificar grupos de acuerdo con características que son relevantes para el comportamiento de compra o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o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upo de individuos o entidades con pautas de consumo similares y que reaccionan de forma homogénea ante estímul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surge de la idea que en la sociedad existen distintos grupos de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lientes distintos y por lo tanto necesidades disti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es un proceso donde se identifican y agrupan personas que tienen una actitud común y que poseen ciertas características que las identifican y distinguen de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60" name="2 Marcador de contenido"/>
          <p:cNvSpPr/>
          <p:nvPr/>
        </p:nvSpPr>
        <p:spPr>
          <a:xfrm>
            <a:off x="57168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s características determinan comportamientos de compra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 anterior nos permite diferenciar la OFERTA (haciéndoles a los grupos elegidos ofertas que les brinden mayor satisfacción) y,  conocer y entender mejor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¿Por qué MIX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cla de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5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“</a:t>
            </a: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El uso selectivo de la combinación de diferentes variables de marketing para alcanzar los objetivos empresariales”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una mejor identificación de oportunidade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mejorar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esarrollo de campaña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posicionamient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iseño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mite satisfacer mejor las necesidades y preferencias de los diferentes grupo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permite adaptar el marketing mix a las necesidades especificas, mejorando así eficacia y efectividad del us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dir evolución de diferentes tendencias para cada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ptim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 precisos en logra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Objetiv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estrategia de la segmentación tiene como objetiv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dentificar nueva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cidir en que mercado de productos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arrollar beneficios al consumidor y ventajas competi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pos de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2" name="Diagrama 3" descr=""/>
          <p:cNvPicPr/>
          <p:nvPr/>
        </p:nvPicPr>
        <p:blipFill>
          <a:blip r:embed="rId2"/>
          <a:srcRect l="0" t="-653" r="0" b="-2117"/>
          <a:stretch/>
        </p:blipFill>
        <p:spPr>
          <a:xfrm>
            <a:off x="357120" y="1428840"/>
            <a:ext cx="6215040" cy="4286160"/>
          </a:xfrm>
          <a:prstGeom prst="rect">
            <a:avLst/>
          </a:prstGeom>
          <a:ln w="0">
            <a:noFill/>
          </a:ln>
        </p:spPr>
      </p:pic>
      <p:pic>
        <p:nvPicPr>
          <p:cNvPr id="473" name="Objeto 4" descr=""/>
          <p:cNvPicPr/>
          <p:nvPr/>
        </p:nvPicPr>
        <p:blipFill>
          <a:blip r:embed="rId3"/>
          <a:srcRect l="0" t="-150" r="-498" b="-386"/>
          <a:stretch/>
        </p:blipFill>
        <p:spPr>
          <a:xfrm>
            <a:off x="6643800" y="1928880"/>
            <a:ext cx="36180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5 CuadroTexto"/>
          <p:cNvSpPr/>
          <p:nvPr/>
        </p:nvSpPr>
        <p:spPr>
          <a:xfrm>
            <a:off x="7286760" y="1714680"/>
            <a:ext cx="85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¿Cómo Segmentar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variables de segmentación, aquellas características que distinguen a un grupo de clientes de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una técnica de análisis para medir o revisar las variables de segmentación en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r dicha técnica para identificar l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cribir un perfil para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Trebuchet MS"/>
              </a:rPr>
              <a:t>Criterios para una segmentación efectiv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0" name="Diagrama 5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3580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deas para analizar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a segmentación no es más que descomponer el mercado en oportunidades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conveniente usar varias variables de segmentación a la vez, para perfeccionar la predicción del comportamiento de compra y caracterizar adecuadamente a un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idado con la complejidad excesiv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n general, comportamiento de compra = f (variables de segmentación). (fu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14240" y="2356920"/>
            <a:ext cx="746784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Trebuchet MS"/>
              </a:rPr>
              <a:t>“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Si usted no esta pensando en segmentación, usted no esta pensa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                               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Theodore Lev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2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 a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pués de haber dividido al Mercado en partes, es posible volver a verlo de otr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atr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o siempre tenemos que elegir: Yo puedo conocer todos los segmentos, pero sólo en algunos de ellos tendré oportunidad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es la definición del Consumidor que se desea alcan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bviamente no serán los únicos, pero sí lo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á prohibido que sea genérica (Cualquier producto podría atacar al segmento ABC1 entre 18 y 35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son?, Qué esperan de la marca? ,Qué les gusta hace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4 P´s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91640" y="2019240"/>
            <a:ext cx="49770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debe ser una descripción muy precisa de nuestro consumidor pre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ser tan clara la descripción que hasta deberíamos poder dibu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no es excluyente, pero sí pre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s permite saber hacia dónde vamos a orientar la mayor cantidad de recurs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puede evolucionar en el tiempo, pero no puede estar cambiando constantemente sin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racterísticas y Consecuencias de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inversión en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orientación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termina lo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ubicamos la marca en la mente de los consumi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la forma en que queremos que los consumidores piensen sobre nuestr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tener un punto diferencial v/s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berá ser per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85520" y="2571840"/>
            <a:ext cx="74674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64a2"/>
                </a:solidFill>
                <a:latin typeface="Trebuchet MS"/>
              </a:rPr>
              <a:t>El posicionamiento, condiciona a todas las actividades de Marketing que se realizan. Es tan importante que si cambia seguido, la marca va perdiendo identidad. Podría evolucionar más que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osicionamiento es la forma en que la empresa es percibida subjetivamente por el consumidor, es decir, la forma en que las personas sienten y valoran el producto o servicio. Implica el acto de diseñar la imagen, productos y servicios de la empresa de modo tal que los consumidores perciban su diferencia en relación a la competencia (diferencia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deseado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quiere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que su producto sea perc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efectivo</a:t>
            </a:r>
            <a:r>
              <a:rPr b="0" lang="es-ES" sz="2000" spc="-1" strike="noStrike">
                <a:solidFill>
                  <a:srgbClr val="4f81bd"/>
                </a:solidFill>
                <a:latin typeface="Trebuchet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percibida por su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a estrategia de posicionamiento consta de los siguientes p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dentificar posible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Seleccionar las ventajas adecuadas y a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rear la diferenciación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unicarlo eficazmente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vital que la imagen diseñada llegue a los consumidores mediante una comunicación ef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posicionamiento es una IMAGEN MENTAL de mi marca y mi producto en la cabeza del cliente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, se debe recordar por tanto que 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o necesito cualquier imagen mental, necesito aquella que MOTIVA LA COMPR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311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junto de características y atributos tangibles e intangibles que el comprador acepta, en principio, como algo que va a satisfacer sus necesi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9280" y="3500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Consumidores No Compran Productos; Adquieren La Esperanza De Conseguir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Atributos del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v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, forma y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1f497d"/>
                </a:solidFill>
                <a:latin typeface="Trebuchet MS"/>
              </a:rPr>
              <a:t>PRODUCTO AUMENTADO</a:t>
            </a:r>
            <a:endParaRPr b="0" lang="en-US" sz="19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09760" y="1371600"/>
            <a:ext cx="2507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ASPECTO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Producto “aumentad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435480" y="228600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SPECTOS 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ducto “intang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 rot="5400000">
            <a:off x="2226960" y="345564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 rot="16200000">
            <a:off x="5863680" y="352692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v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56960" y="4267080"/>
            <a:ext cx="149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til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512440" y="4929120"/>
            <a:ext cx="461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Servicio posventa                         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 rot="5400000">
            <a:off x="-22680" y="3446280"/>
            <a:ext cx="29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Entrega           Garant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6324480" y="3415680"/>
            <a:ext cx="331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Instalación       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imación cuantitativa sobre un producto y que expresa la aceptación o no del consumidor hacia los atributos de dicho producto, atendiendo a la capacidad para satisfacer necesida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539640" y="2133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cesidades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12000" y="2133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 rot="19288200">
            <a:off x="3203280" y="321300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2131200">
            <a:off x="5435640" y="321264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03640" y="472428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jación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7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Incubadora3</cp:lastModifiedBy>
  <dcterms:modified xsi:type="dcterms:W3CDTF">2011-12-21T16:47:38Z</dcterms:modified>
  <cp:revision>56</cp:revision>
  <dc:subject/>
  <dc:title>Diapositiva 1</dc:title>
</cp:coreProperties>
</file>