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96A0-96C4-4B53-B6EF-0AF1C9E6B9F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1F1-052D-430C-993D-2FB6A5C00C4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41C4-538E-485D-A301-9194C0C260B4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56FE-42A6-4F5D-B600-420BF4B88453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FB7F-4825-4E3C-931C-829BB56FAF4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DDD5-697D-438A-8438-88F38E2151B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86F8-AC6F-47BE-ADB9-AA431F08A44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7146-EA83-4908-B94A-16DBAEA6424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FA1A-BF77-424B-80E2-1FDA9F6A2F4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34D6-9354-4697-B8F3-2DE07091BEA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FA88-F0B6-4B53-91AF-DD112B05AA1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8B87-D1E5-4E7C-AE9B-22DF52C78CD1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7A4-210C-48D9-8633-B178DBE3AFCF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75A4-CEC8-4EA5-ACCB-0D84EEEB248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39D5-62A9-483F-9D5A-1ABDB218C569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A7F2-6622-4724-B334-C7F2CC7C1F2D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8978-F1E5-43FD-843F-50607057C70E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64E3-08AE-4898-BCCB-0950D7E47A9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69D2-A7EA-48AB-9C72-FC22867D957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FE6F-1DAC-4EE8-8958-3D40CF4C2F3A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93B-6BE3-449C-BA0C-9987D61DDC98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FBF-9B27-4D62-A1D9-3409E5BAC820}" type="slidenum">
              <a:rPr b="0" lang="es-ES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F8957-1803-468B-8E17-7E6DA0FE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3B95-F0AA-4C1B-8B82-F14DCA2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694C3-543D-44E8-9F47-9537D785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4622-32F2-4658-A0D9-6DEEE7F0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2B06-6473-441D-8FA8-91F338FD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AE68-773C-4A1C-9F34-2B34684A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5BE6-F7D5-4CC8-9D49-EE69E584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3BDA-DE5D-4B5B-ABE0-3C125E62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C702E-B1B1-44A5-9C4A-595B5B72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65F5-DECD-4EA9-A07C-FC73F04A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5B705-D73F-4EA5-A1E3-160DF6C7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253E8-23F0-4C4F-931E-52096F69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5A7B-D040-494E-A3ED-E535D69F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DA03-7C87-4672-872C-CD1EE04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28BE-190B-4F0E-84E3-0CE982E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7313-4D65-4698-8830-A7A05716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F6D2-6474-47F2-A613-B031CE603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A25E8A-2FC4-47FE-9D95-11604101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D338E-1D5A-41DB-963B-58699DE1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35B3DC-C56C-4718-B881-3555E280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DADCC-2148-4D48-8D84-6C7609C6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D4A86-AB25-41CF-9C5D-32511B6B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1D40A-18F8-4058-AC9B-78759EAD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86754-BC93-4F07-81ED-5DB3C81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6BFC31-9F35-49CB-AC5C-D131D346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15EA45-FC4E-48FE-9900-F4518D81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38771-E082-48B8-93CA-A6FB6BD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B9B979-DFB5-438B-89FD-B9372CF5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AE7853-6650-461A-B416-163416DF4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E3B05-3AAE-4885-A1EF-F27089CF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F80FB-14EE-44CF-B8A5-120A351E5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96DD-DF21-4404-8F77-550DEFA48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FC90-6C92-4AD9-A8BA-20BAF6AE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3A7E-9301-45CD-8416-2C81F271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C8518-B4AF-4CC0-B066-96147AE6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CDD6-0B0C-4D37-B63F-315A04D9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15C5D-8023-4DCE-B5D3-AB3C9AE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ED859-8ADE-44B3-9B4D-07A5CD47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9C5B-4D56-4D2A-86B2-5E5525E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24F30-1274-425E-816D-415A53C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95C88-5475-4D50-9B1C-CA8ECE78D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7CEB-1F9E-45B0-9AF8-EB6F9E30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4DA6-F3B2-48B8-8C48-4EA6B751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A61AA-AC12-49E0-B2A2-5AFCBF2C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D1D67-7AFB-4F49-85D4-691CD41A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090FC2-C0B7-4D05-9C29-4B4E5C42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67D319-A44F-4C42-BAE5-B5E0C99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D4558-A97D-4CF4-97B7-C0A46F0F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202EA1-1454-4E82-99C9-642DD545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0DC9A2-23FE-45CB-B91C-52564EE0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0AA3DE-6449-4FF3-A6F0-6EA142F8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085C6-FEE6-4869-A974-7FD08BC5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EDB9F-AB92-4BB2-9409-05D54067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878451-9C61-47D1-8581-8D3467C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76567F-CCEE-41ED-B7B0-5E224346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915BD-1669-447F-8761-EDCE782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5E0A0-6842-44F7-80DB-DAF6D2CDD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33378-666B-4C0B-B9CB-1C159AB2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157AFE-360B-43A1-8244-2E1F4EB7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A2D59C-984D-4C9A-8DF0-830CF9F5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1ADDD3-B948-4C1D-825D-8C5833ED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894A5-0174-40CB-ACD6-B3467488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CE60EB-9EC9-4BE7-B0CA-F51B6C690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B5DF6E-9641-4737-BB86-878A3817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830F1F-6C5C-4838-9465-4C87EEE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BB9CA-D6EA-47D0-993F-9B03716F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D904A-1BB1-4B09-AF73-5E4B0582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577DD-C921-423A-8D01-D48C5D70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D691EF-6E81-4B44-9A71-DB121F8C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F5E2F-8E74-4FB6-8F54-C35F8FB2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DD7D54-D7A4-4416-AE17-BA509129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55F92-FF57-4F03-BEBA-B5376F73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CA2025-EFC1-4F59-91CB-74B557BB4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7AA79-764D-474F-8DEB-8CC7B666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DE0C49-1B37-4CB4-99D1-9C5C677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F72E77-9981-45D1-A54A-9191BA05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72BDEF-7B43-4EEE-88EC-24572956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139F2-4FD2-4546-BC51-719D7634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AEA669-B071-43B7-B87B-9BCCA15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0F5874-3D2E-44F7-8A97-6A6636D9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ECEF7-274D-4D0C-ACEF-A5136EC2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6D640-770A-40A7-8CAA-6AF388CA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E3238D-CCB3-489E-8306-14FE4C46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F7143-4861-4F37-B98A-B0DEA89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2A75-DE2F-4ADC-BDDC-F21F3C4400F1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logo fcfm"/>
          <p:cNvPicPr/>
          <p:nvPr/>
        </p:nvPicPr>
        <p:blipFill>
          <a:blip r:embed="rId2"/>
          <a:stretch/>
        </p:blipFill>
        <p:spPr>
          <a:xfrm>
            <a:off x="5867280" y="404640"/>
            <a:ext cx="2818080" cy="925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5" descr="logo cms"/>
          <p:cNvPicPr/>
          <p:nvPr/>
        </p:nvPicPr>
        <p:blipFill>
          <a:blip r:embed="rId3"/>
          <a:stretch/>
        </p:blipFill>
        <p:spPr>
          <a:xfrm>
            <a:off x="5867280" y="4724280"/>
            <a:ext cx="2846520" cy="1606680"/>
          </a:xfrm>
          <a:prstGeom prst="rect">
            <a:avLst/>
          </a:prstGeom>
          <a:ln w="0">
            <a:noFill/>
          </a:ln>
        </p:spPr>
      </p:pic>
      <p:sp>
        <p:nvSpPr>
          <p:cNvPr id="43" name="16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7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8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9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0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23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24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25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26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27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8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9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30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31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2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33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34E9-A59D-4818-8CC7-09874BDBB395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3" descr="logo cms"/>
          <p:cNvPicPr/>
          <p:nvPr/>
        </p:nvPicPr>
        <p:blipFill>
          <a:blip r:embed="rId2"/>
          <a:stretch/>
        </p:blipFill>
        <p:spPr>
          <a:xfrm>
            <a:off x="468360" y="5734080"/>
            <a:ext cx="1295280" cy="731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logo fcfm"/>
          <p:cNvPicPr/>
          <p:nvPr/>
        </p:nvPicPr>
        <p:blipFill>
          <a:blip r:embed="rId3"/>
          <a:stretch/>
        </p:blipFill>
        <p:spPr>
          <a:xfrm>
            <a:off x="6156360" y="5734080"/>
            <a:ext cx="1944720" cy="639720"/>
          </a:xfrm>
          <a:prstGeom prst="rect">
            <a:avLst/>
          </a:prstGeom>
          <a:ln w="0">
            <a:noFill/>
          </a:ln>
        </p:spPr>
      </p:pic>
      <p:sp>
        <p:nvSpPr>
          <p:cNvPr id="102" name="16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7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 rot="5400000">
            <a:off x="7946280" y="107352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6341-8521-4BC5-84E2-7BD3703C5E9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9"/>
          </p:nvPr>
        </p:nvSpPr>
        <p:spPr>
          <a:xfrm rot="5400000">
            <a:off x="7186680" y="383868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eec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569-956B-45A7-A46E-5ADFD3201F1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99B4-166F-415E-8ABE-0756E440AD7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D9B-DC38-472B-B553-48FA52EA88F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4471a6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b2c1d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dcb3b2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5909-1C00-4022-B4A2-FF1A1B94C519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1143000" y="1785960"/>
            <a:ext cx="7586640" cy="20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Clase 8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4700" spc="-1" strike="noStrike">
                <a:solidFill>
                  <a:srgbClr val="1f497d"/>
                </a:solidFill>
                <a:latin typeface="Trebuchet MS"/>
              </a:rPr>
              <a:t>Marketing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2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Áreas de Benefici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84360" y="1600200"/>
          <a:ext cx="7848360" cy="3557520"/>
        </p:xfrm>
        <a:graphic>
          <a:graphicData uri="http://schemas.openxmlformats.org/drawingml/2006/table">
            <a:tbl>
              <a:tblPr/>
              <a:tblGrid>
                <a:gridCol w="3887640"/>
                <a:gridCol w="39607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In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Áreas Exter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t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ec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Beneficios Fij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dios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Merc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ipos de Clie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Zonas Geográf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anales de Distrib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Promo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Factores Influyent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stos (límite inferi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asticidad de Demanda/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 del Producto en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rategia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strategias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netración: baj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lineamiento: precio prome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Selección: Alto 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Qué reacción tendrá la competencia frente a nuestros nuevos preci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Cómo será aceptado por el canal de distribución la nueva tarif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Algunas preguntas…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El precio fijado es coherente con el resto de la gama y el posicionamiento que queremos dar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Los precios fijados nos permiten alcanzar los objetivos marcados para este añ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7510680" cy="31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COMUNICAR, informar y persuadir al cliente y otros interesados sobre la empresa, sus productos, ofertas, 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ara el logro de los objetivos organizacionales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moc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Fuerza de Venta o Venta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Relaciones Públ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omunicación Interac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Promoción de V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en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Incrementar las ventas de un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Objetiv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umentar Participación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omper lealtad de clientes en la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ducir exist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Fide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ayor espacio en detal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grar aprobación de productos nue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Herramienta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galos Publici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Reba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remios a la fide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escu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v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Trebuchet MS"/>
              </a:rPr>
              <a:t>Marketing Mix</a:t>
            </a:r>
            <a:endParaRPr b="0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3 Imagen" descr="LOGO_CMS_jpg.JPG"/>
          <p:cNvPicPr/>
          <p:nvPr/>
        </p:nvPicPr>
        <p:blipFill>
          <a:blip r:embed="rId1"/>
          <a:stretch/>
        </p:blipFill>
        <p:spPr>
          <a:xfrm>
            <a:off x="5508720" y="4422600"/>
            <a:ext cx="3373200" cy="2435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oncepto de Plaza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23400" y="2406600"/>
            <a:ext cx="62722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hacer llegar físicamente el producto o servicio al cliente, es decir agrega valor a las dimensiones TIEMPO y LUG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Decisione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anal de Distribu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ngitud del C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ugare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Tiempos de disponibilidad del P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Personal a c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¿Distribución Electrón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Canal de Distribu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Agente: vende en nombre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Distribuidor: vende a 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Minor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Venta Compleme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3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lbm_capitulo1_grafico2"/>
          <p:cNvPicPr/>
          <p:nvPr/>
        </p:nvPicPr>
        <p:blipFill>
          <a:blip r:embed="rId2"/>
          <a:stretch/>
        </p:blipFill>
        <p:spPr>
          <a:xfrm>
            <a:off x="596880" y="1708200"/>
            <a:ext cx="725328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Evolución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369000" y="1629000"/>
            <a:ext cx="2570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de masa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product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nónim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Poc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Gran alcanc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Sin investigación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Corta duración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132000" y="1629000"/>
            <a:ext cx="5639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rebuchet MS"/>
              </a:rPr>
              <a:t>Marketing relacional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Enfocado al cliente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Dirigido a personas (individual)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Muchas campañas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Alcance reduci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rebuchet MS"/>
              </a:rPr>
              <a:t>Basado en perfiles y comportamientos de clientes detallados</a:t>
            </a: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250920" y="4443840"/>
            <a:ext cx="860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rebuchet MS"/>
              </a:rPr>
              <a:t>Uno a uno no significa sólamente comunicarse con los clientes como individuos, sino desarrollar productos y mensajes personalizados basados en sus neces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268000" y="206028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f497d"/>
                </a:solidFill>
                <a:latin typeface="Trebuchet MS"/>
              </a:rPr>
              <a:t>Modelo STP</a:t>
            </a:r>
            <a:endParaRPr b="0" lang="en-US" sz="36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268000" y="4076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1f497d"/>
                </a:solidFill>
                <a:latin typeface="Trebuchet MS"/>
              </a:rPr>
              <a:t>Segmentación , Targeting y Posicio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3 Imagen" descr="LOGO_CMS_jpg.JPG"/>
          <p:cNvPicPr/>
          <p:nvPr/>
        </p:nvPicPr>
        <p:blipFill>
          <a:blip r:embed="rId1"/>
          <a:stretch/>
        </p:blipFill>
        <p:spPr>
          <a:xfrm>
            <a:off x="5867280" y="4437000"/>
            <a:ext cx="3097440" cy="2233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ualquier empresa que quiera vender un producto o servicio en un mercado no puede servir a todos los clientes de ese mer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Necesidad de identificar los segmentos más atractivos a los cuales está en posibilidad de servir con efica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onceptos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ación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oceso de clasificar grupos de acuerdo con características que son relevantes para el comportamiento de compra o de consu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f81bd"/>
                </a:solidFill>
                <a:latin typeface="Trebuchet MS"/>
              </a:rPr>
              <a:t>Segmento: 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Grupo de individuos o entidades con pautas de consumo similares y que reaccionan de forma homogénea ante estímul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surge de la idea que en la sociedad existen distintos grupos de perso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xisten clientes distintos y por lo tanto necesidades distint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es un proceso donde se identifican y agrupan personas que tienen una actitud común y que poseen ciertas características que las identifican y distinguen de ot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5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60" name="2 Marcador de contenido"/>
          <p:cNvSpPr/>
          <p:nvPr/>
        </p:nvSpPr>
        <p:spPr>
          <a:xfrm>
            <a:off x="571680" y="1700280"/>
            <a:ext cx="74674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s características determinan comportamientos de compra simi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o anterior nos permite diferenciar la OFERTA (haciéndoles a los grupos elegidos ofertas que les brinden mayor satisfacción) y,  conocer y entender mejor al cl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¿Por qué MIX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4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zcla de Herrami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tivos de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395280" y="33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“</a:t>
            </a:r>
            <a:r>
              <a:rPr b="0" lang="es-CL" sz="2600" spc="-1" strike="noStrike">
                <a:solidFill>
                  <a:srgbClr val="1f497d"/>
                </a:solidFill>
                <a:latin typeface="Trebuchet MS"/>
              </a:rPr>
              <a:t>El uso selectivo de la combinación de diferentes variables de marketing para alcanzar los objetivos empresariales”</a:t>
            </a:r>
            <a:r>
              <a:rPr b="0" lang="en-US" sz="2600" spc="-1" strike="noStrike">
                <a:solidFill>
                  <a:srgbClr val="1f497d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una mejor identificación de oportunidades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mejorar la asignación de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esarrollo de campaña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posicionamiento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rovee guías para el diseño de nuev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Permite diferenci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Benefici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mite satisfacer mejor las necesidades y preferencias de los diferentes grupos de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segmentación permite adaptar el marketing mix a las necesidades especificas, mejorando así eficacia y efectividad del uso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Medir evolución de diferentes tendencias para cada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ptimizar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Ser precisos en lograr los 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Objetivos de la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a estrategia de la segmentación tiene como objetivo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Identificar nuevas oport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cidir en que mercado de productos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arrollar beneficios al consumidor y ventajas competiti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5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ipos de Segmentación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72" name="Diagrama 3" descr=""/>
          <p:cNvPicPr/>
          <p:nvPr/>
        </p:nvPicPr>
        <p:blipFill>
          <a:blip r:embed="rId2"/>
          <a:srcRect l="0" t="-653" r="0" b="-2117"/>
          <a:stretch/>
        </p:blipFill>
        <p:spPr>
          <a:xfrm>
            <a:off x="357120" y="1428840"/>
            <a:ext cx="6215040" cy="4286160"/>
          </a:xfrm>
          <a:prstGeom prst="rect">
            <a:avLst/>
          </a:prstGeom>
          <a:ln w="0">
            <a:noFill/>
          </a:ln>
        </p:spPr>
      </p:pic>
      <p:pic>
        <p:nvPicPr>
          <p:cNvPr id="473" name="Objeto 4" descr=""/>
          <p:cNvPicPr/>
          <p:nvPr/>
        </p:nvPicPr>
        <p:blipFill>
          <a:blip r:embed="rId3"/>
          <a:srcRect l="0" t="-150" r="-498" b="-386"/>
          <a:stretch/>
        </p:blipFill>
        <p:spPr>
          <a:xfrm>
            <a:off x="6643800" y="1928880"/>
            <a:ext cx="361800" cy="2905200"/>
          </a:xfrm>
          <a:prstGeom prst="rect">
            <a:avLst/>
          </a:prstGeom>
          <a:ln w="0">
            <a:noFill/>
          </a:ln>
        </p:spPr>
      </p:pic>
      <p:sp>
        <p:nvSpPr>
          <p:cNvPr id="474" name="5 CuadroTexto"/>
          <p:cNvSpPr/>
          <p:nvPr/>
        </p:nvSpPr>
        <p:spPr>
          <a:xfrm>
            <a:off x="7286760" y="1714680"/>
            <a:ext cx="857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¿Cómo Segmentar?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variables de segmentación, aquellas características que distinguen a un grupo de clientes de ot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egir una técnica de análisis para medir o revisar las variables de segmentación en los cli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Aplicar dicha técnica para identificar los segm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cribir un perfil para cada seg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f497d"/>
                </a:solidFill>
                <a:latin typeface="Trebuchet MS"/>
              </a:rPr>
              <a:t>Criterios para una segmentación efectiva</a:t>
            </a:r>
            <a:endParaRPr b="0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480" name="Diagrama 5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3580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deas para analizar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La segmentación no es más que descomponer el mercado en oportunidades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conveniente usar varias variables de segmentación a la vez, para perfeccionar la predicción del comportamiento de compra y caracterizar adecuadamente a un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uidado con la complejidad excesiv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n general, comportamiento de compra = f (variables de segmentación). (fun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714240" y="2356920"/>
            <a:ext cx="7467840" cy="17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04a7b"/>
                </a:solidFill>
                <a:latin typeface="Trebuchet MS"/>
              </a:rPr>
              <a:t>“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Si usted no esta pensando en segmentación, usted no esta pensand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                                </a:t>
            </a:r>
            <a:r>
              <a:rPr b="1" lang="es-ES" sz="2800" spc="-1" strike="noStrike">
                <a:solidFill>
                  <a:srgbClr val="604a7b"/>
                </a:solidFill>
                <a:latin typeface="Trebuchet MS"/>
              </a:rPr>
              <a:t>Theodore Levi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2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Introducción a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spués de haber dividido al Mercado en partes, es posible volver a verlo de otro mo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atra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odemos elegir cual de ellos es más conv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ero siempre tenemos que elegir: Yo puedo conocer todos los segmentos, pero sólo en algunos de ellos tendré oportunidad de 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es la definición del Consumidor que se desea alcan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bviamente no serán los únicos, pero sí los princip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á prohibido que sea genérica (Cualquier producto podría atacar al segmento ABC1 entre 18 y 35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son?, Qué esperan de la marca? ,Qué les gusta hacer?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1f497d"/>
                </a:solidFill>
                <a:latin typeface="Trebuchet MS"/>
              </a:rPr>
              <a:t>4 P´s del Marketing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791640" y="2019240"/>
            <a:ext cx="4977000" cy="39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MO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LA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debe ser una descripción muy precisa de nuestro consumidor pretend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ser tan clara la descripción que hasta deberíamos poder dibuj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no es excluyente, pero sí pre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Nos permite saber hacia dónde vamos a orientar la mayor cantidad de recursos de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target puede evolucionar en el tiempo, pero no puede estar cambiando constantemente sin sent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Características y Consecuencias del Target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Prec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la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f81bd"/>
                </a:solidFill>
                <a:latin typeface="Trebuchet MS"/>
              </a:rPr>
              <a:t>Consecuenc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inversión en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fine la orientación de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termina lo impor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Cómo ubicamos la marca en la mente de los consumid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s la forma en que queremos que los consumidores piensen sobre nuestra mar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Tiene que tener un punto diferencial v/s los competi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Deberá ser per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85520" y="2571840"/>
            <a:ext cx="7467480" cy="19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64a2"/>
                </a:solidFill>
                <a:latin typeface="Trebuchet MS"/>
              </a:rPr>
              <a:t>El posicionamiento, condiciona a todas las actividades de Marketing que se realizan. Es tan importante que si cambia seguido, la marca va perdiendo identidad. Podría evolucionar más que camb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El posicionamiento es la forma en que la empresa es percibida subjetivamente por el consumidor, es decir, la forma en que las personas sienten y valoran el producto o servicio. Implica el acto de diseñar la imagen, productos y servicios de la empresa de modo tal que los consumidores perciban su diferencia en relación a la competencia (diferencia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deseado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quiere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que su producto sea percib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f81bd"/>
                </a:solidFill>
                <a:latin typeface="Trebuchet MS"/>
              </a:rPr>
              <a:t>Posicionamiento efectivo</a:t>
            </a:r>
            <a:r>
              <a:rPr b="0" lang="es-ES" sz="2000" spc="-1" strike="noStrike">
                <a:solidFill>
                  <a:srgbClr val="4f81bd"/>
                </a:solidFill>
                <a:latin typeface="Trebuchet MS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la forma en que la empresa </a:t>
            </a:r>
            <a:r>
              <a:rPr b="1" lang="es-ES" sz="2000" spc="-1" strike="noStrike">
                <a:solidFill>
                  <a:srgbClr val="000000"/>
                </a:solidFill>
                <a:latin typeface="Trebuchet MS"/>
              </a:rPr>
              <a:t>es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percibida por sus consumi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Una estrategia de posicionamiento consta de los siguientes p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Identificar posibles venta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Seleccionar las ventajas adecuadas y alcanz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rear la diferenciación 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4040" indent="-45720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8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</a:rPr>
              <a:t>Comunicarlo eficazmente a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f497d"/>
                </a:solidFill>
                <a:latin typeface="Trebuchet MS"/>
              </a:rPr>
              <a:t>Posicionamien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68000" y="165096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 vital que la imagen diseñada llegue a los consumidores mediante una comunicación ef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l posicionamiento es una IMAGEN MENTAL de mi marca y mi producto en la cabeza del cliente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, se debe recordar por tanto que n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o necesito cualquier imagen mental, necesito aquella que MOTIVA LA COMPRA</a:t>
            </a: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79311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Conjunto de características y atributos tangibles e intangibles que el comprador acepta, en principio, como algo que va a satisfacer sus necesi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179280" y="3500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rebuchet MS"/>
              </a:rPr>
              <a:t>Los Consumidores No Compran Productos; Adquieren La Esperanza De Conseguir Benefici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Atributos del Product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49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v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iseño, forma y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l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magen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14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8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1f497d"/>
                </a:solidFill>
                <a:latin typeface="Trebuchet MS"/>
              </a:rPr>
              <a:t>PRODUCTO AUMENTADO</a:t>
            </a:r>
            <a:endParaRPr b="0" lang="en-US" sz="19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609480" y="1219320"/>
            <a:ext cx="7891560" cy="4338360"/>
          </a:xfrm>
          <a:prstGeom prst="rect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09760" y="1371600"/>
            <a:ext cx="250704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ASPECTOS AÑAD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Producto “aumentado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1905120" y="2133720"/>
            <a:ext cx="5572080" cy="2619360"/>
          </a:xfrm>
          <a:prstGeom prst="rect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276720" y="3200400"/>
            <a:ext cx="2590560" cy="738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ENEF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BÁS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3435480" y="2286000"/>
            <a:ext cx="2376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SPECTOS FORM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roducto “intangibl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 rot="5400000">
            <a:off x="2226960" y="3455640"/>
            <a:ext cx="810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Ma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9"/>
          <p:cNvSpPr/>
          <p:nvPr/>
        </p:nvSpPr>
        <p:spPr>
          <a:xfrm rot="16200000">
            <a:off x="5863680" y="3526920"/>
            <a:ext cx="885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nv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3756960" y="4267080"/>
            <a:ext cx="14979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Estilo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"/>
          <p:cNvSpPr/>
          <p:nvPr/>
        </p:nvSpPr>
        <p:spPr>
          <a:xfrm>
            <a:off x="2512440" y="4929120"/>
            <a:ext cx="46191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Servicio posventa                          Financ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2"/>
          <p:cNvSpPr/>
          <p:nvPr/>
        </p:nvSpPr>
        <p:spPr>
          <a:xfrm rot="5400000">
            <a:off x="-22680" y="3446280"/>
            <a:ext cx="2938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Entrega           Garantí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3"/>
          <p:cNvSpPr/>
          <p:nvPr/>
        </p:nvSpPr>
        <p:spPr>
          <a:xfrm rot="16200000">
            <a:off x="6324480" y="3415680"/>
            <a:ext cx="3316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eece1"/>
                </a:solidFill>
                <a:latin typeface="Verdana"/>
              </a:rPr>
              <a:t>Instalación        Manten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5165640" y="5772240"/>
            <a:ext cx="2680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adaptado Philip Kot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Trebuchet MS"/>
              </a:rPr>
              <a:t>Estimación cuantitativa sobre un producto y que expresa la aceptación o no del consumidor hacia los atributos de dicho producto, atendiendo a la capacidad para satisfacer necesidad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3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Trebuchet MS"/>
              </a:rPr>
              <a:t>Concepto de Precio</a:t>
            </a:r>
            <a:endParaRPr b="0" lang="en-US" sz="30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539640" y="213372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cesidades de 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6012000" y="213372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ceso de Prod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 rot="19288200">
            <a:off x="3203280" y="321300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6"/>
          <p:cNvSpPr/>
          <p:nvPr/>
        </p:nvSpPr>
        <p:spPr>
          <a:xfrm rot="2131200">
            <a:off x="5435640" y="3212640"/>
            <a:ext cx="504720" cy="1511280"/>
          </a:xfrm>
          <a:prstGeom prst="downArrow">
            <a:avLst>
              <a:gd name="adj1" fmla="val 50000"/>
              <a:gd name="adj2" fmla="val 7485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203640" y="4724280"/>
            <a:ext cx="259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jación Pre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7 Imagen" descr="LOGO_CMS_jpg.JPG"/>
          <p:cNvPicPr/>
          <p:nvPr/>
        </p:nvPicPr>
        <p:blipFill>
          <a:blip r:embed="rId1"/>
          <a:stretch/>
        </p:blipFill>
        <p:spPr>
          <a:xfrm>
            <a:off x="250920" y="5589720"/>
            <a:ext cx="1758960" cy="126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7T20:44:41Z</dcterms:created>
  <dc:creator> </dc:creator>
  <dc:description/>
  <dc:language>en-US</dc:language>
  <cp:lastModifiedBy>Incubadora3</cp:lastModifiedBy>
  <dcterms:modified xsi:type="dcterms:W3CDTF">2011-12-21T16:47:38Z</dcterms:modified>
  <cp:revision>56</cp:revision>
  <dc:subject/>
  <dc:title>Diapositiva 1</dc:title>
</cp:coreProperties>
</file>