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799D-882C-411B-A864-115770F8624D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A7A2-9055-40B6-B2EC-CC9A551756C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28C3-E70C-47EE-A029-6C5D74973F69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A1CC-ED8D-4593-96BF-94E8AEA6B83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EA72-D874-4B76-919C-80B15EE8D0B4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1D05-165C-449C-AFEF-330942EF8D13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DB0D-D689-48BF-A813-0862DC9820C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A125-D990-4413-BD84-73307F6031D6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58C8-F82C-462F-808F-B2E28480FAC6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1590-CA68-4CAD-B0F0-059C6F6EA175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70A1-37CA-4240-BD28-A8A303AA43A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A17A-E2DC-4C86-8B53-398FCB18778B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96B6-C5F0-42B8-A836-26D7B9D3346C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5164-5595-444C-9856-1138EDB8B17D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6004-9561-4330-9AEC-32E29E271A8A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15DB-5F21-4752-91BA-E39A12728B5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00DC-791D-421C-AB7E-F695411F38A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2FA3-C070-4071-B76C-1D222B8C05C4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E0A4-A456-4060-9ABE-1EB219FD6483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085E-F7D9-424A-987F-3DD7C0B68BD7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06B9-9184-4D38-B7F6-C167A7E343E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CCD3-013F-43DE-9C2B-805024D6B91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FD59-86C8-4AC5-B0B3-500A66C6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C4D08-34AE-4753-AC34-CF1E85747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4D6B-E890-4F28-B65C-9685577A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1EA7-E0D4-4A02-9483-9E1F248BB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6D2D-75E3-4C7B-91FA-F75BD340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5460-0D3D-4BD3-8D09-AD950F61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CB26-0829-4C5E-81CF-EBCCF49F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5445-B5D6-42AA-97E5-C3614E64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33CC-3C4F-43D5-9F60-2553CE31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7768-4890-48BF-AA96-EF58EF9D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E42F-A7BB-4686-980B-B97EDED3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AC8D2-20CF-4ADD-8B2D-0E34696F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239F-24CC-4636-ABCC-1A392199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2F69-FF19-47CE-8689-A5083DF8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8807-18E7-4989-BF8A-2E7683E6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327E-FD4D-430C-B74A-D498CAD7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926F-EBE0-49E9-92B2-8EE396C0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C37739-883F-425E-B116-C9A548BD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8B7D2-EF71-4271-9017-A249119B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4A958-1B0E-40E0-B5D1-6A47C3B2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38DB61-BB62-41EB-ACC6-9CEC548D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728397-5C2F-4150-AFD1-4DE07420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DDA56-ECF5-4066-A81F-78763353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8E405F-8929-4E89-9CAA-7F54393AF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8785EE-1DC3-4593-97CD-0CD283B7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B25CE-FA49-4FAC-BDB1-387BAC8A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55186-1C1D-441A-8970-3D7F1FEB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59AA53-1A57-488A-848E-7CD3BB16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D96A35-C781-4E9A-888E-A88A92FB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50EA79-5328-4492-96D0-94DF01929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BDEEA-7AE5-4DAC-91EF-523A6D76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508D-2A9A-4AF2-B807-391585A1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EA7E2-CC34-44D1-8871-D92E6DC6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ED86D-6852-4600-B465-6B656B28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BB52D-725C-42FB-B1DD-D299D4FC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76EF3-87FA-4980-A02A-CF356C28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2EDD0-3574-4CFA-B890-E6F783E8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F1A51-B3F0-4AA8-81F2-47F79B56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3DC5-104E-4D32-8223-0C629058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A4AE2-61A7-4014-A9D4-452139DD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463C6-CECA-4E89-BBF8-00AF0E13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946F2-88AA-4BB4-9A30-EDD0440D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0F227-E8B6-4D3E-AC51-74ACF7AE5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E41F6-7250-4F06-89D5-A97F5653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88153-1F45-4739-AF2A-8A1DE3CF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CC433-5A89-4ECF-B61F-36286AAF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8F0DE-8C07-4E0F-B046-77328E73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0F6BB-DE53-4386-BF7D-156B2B7F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B0C3B0-5C4E-4140-91E3-B67F72DA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B53D9-F624-4C70-ABD0-725A6982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8F67B-5504-4634-83B6-64BFEE96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52518E-6457-47A9-B34B-F85ACB67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527A41-2CD9-4F7C-B2FD-769328BB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65436-E4E5-4F62-94D7-3AC73FC0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A23FC-FD51-409F-B68C-08E273A5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E2F9-7612-4F24-9F7D-6B472A0C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AFF86-A81F-40C0-A652-57CE5581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0F8B87-7103-4D43-8A63-65F95D56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EAE4F9-A6A9-48BB-A62F-E592D918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9A426D-9F9D-44DB-9A64-8D204F38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03DFE-93D7-4642-81E0-FC272C88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6E11E4-C8C7-49EA-BC98-4B221D2B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699196-85BA-494E-8E9F-E729142C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5AE886-1FE9-4E94-9996-2CC48533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C1EAE1-C623-4B95-9FCE-C7F90E2A9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B16AA-AF4C-4CD6-8B64-7F84BE60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62E7B-69E1-433F-9675-80DE304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E184D6-F4A6-4195-95AA-71285176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8E1AF5-FFF6-43FF-A769-03C20D0F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71CF09-B66F-4CD8-BB7F-C1C5A0B5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7AFDB-594F-4F35-83C9-8C73FA77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42A748-8286-4470-992F-32ECF3C6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CA00FB-109C-435A-AEA6-5469323E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8A3F2A-ED14-4229-88E9-E61BAC71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FCB959-A7A5-4F6A-9876-2C25EA23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9B222E-48B0-432F-88EC-0BECFA7F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97CB9D-D970-4608-B327-1B00C0B9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2D33-56E1-488B-A781-47863B20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11CE99-F985-4FD8-A1C0-788A3BA5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758654-D9C1-4E53-B97A-E012A474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9DF4A-94CE-44C0-8053-13C0C31D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133151-970D-40EF-8104-51116A80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AE84A9-43A0-4541-876F-63EA6434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5C57-19F5-481F-8896-C1C0D76F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B44D-51BC-4481-9D15-A492575B75A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3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338D-E9CC-4361-8110-7B241C47057B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3D36-B436-4476-882C-2B0D50A1BEFF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860A-4D93-43B4-A54B-9F13C18D298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59D2-1D8D-4793-BAA6-8054A7136D3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23FC-BBBE-4863-B1AC-01AEBF7F41F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8403-0EED-4496-8C71-0511C91B3BBD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1143000" y="1785960"/>
            <a:ext cx="7586640" cy="20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700" spc="-1" strike="noStrike">
                <a:solidFill>
                  <a:srgbClr val="1f497d"/>
                </a:solidFill>
                <a:latin typeface="Trebuchet MS"/>
              </a:rPr>
              <a:t>Clase 8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700" spc="-1" strike="noStrike">
                <a:solidFill>
                  <a:srgbClr val="1f497d"/>
                </a:solidFill>
                <a:latin typeface="Trebuchet MS"/>
              </a:rPr>
              <a:t>Marketing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2 Imagen" descr="LOGO_CMS_jpg.JPG"/>
          <p:cNvPicPr/>
          <p:nvPr/>
        </p:nvPicPr>
        <p:blipFill>
          <a:blip r:embed="rId1"/>
          <a:stretch/>
        </p:blipFill>
        <p:spPr>
          <a:xfrm>
            <a:off x="5508720" y="4422600"/>
            <a:ext cx="337320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Áreas de Benefici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84360" y="1600200"/>
          <a:ext cx="7848360" cy="355752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Áreas Inter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Áreas Exter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t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e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neficios Fij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dios de Prod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rc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s de Cl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onas Geográf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ales de Distrib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o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Factores Influyente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jetivos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tos (límite inf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asticidad de Demanda/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lor del Producto en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trategi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strategias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enetración: baj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lineamiento: precio pro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Selección: Alt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Algunas preguntas…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Qué reacción tendrá la competencia frente a nuestros nuevos preci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Cómo será aceptado por el canal de distribución la nueva tarif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Algunas preguntas…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El precio fijado es coherente con el resto de la gama y el posicionamiento que queremos dar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Los precios fijados nos permiten alcanzar los objetivos marcados para este añ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oncepto de Promo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51068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COMUNICAR, informar y persuadir al cliente y otros interesados sobre la empresa, sus productos, ofertas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el logro de los objetivos organizacional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Promo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moción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uerza de Venta o Venta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lacione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municación Inter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Promoción de Venta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Incrementar las ventas de un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Objetiv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umentar Participa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omper lealtad de clientes en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ducir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Fid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ayor espacio en detal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grar aprobación de productos nue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Herramienta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ues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galos Public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remios a la fide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escu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n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Trebuchet MS"/>
              </a:rPr>
              <a:t>Marketing Mix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3 Imagen" descr="LOGO_CMS_jpg.JPG"/>
          <p:cNvPicPr/>
          <p:nvPr/>
        </p:nvPicPr>
        <p:blipFill>
          <a:blip r:embed="rId1"/>
          <a:stretch/>
        </p:blipFill>
        <p:spPr>
          <a:xfrm>
            <a:off x="5508720" y="4422600"/>
            <a:ext cx="337320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oncepto de Plaza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23400" y="2406600"/>
            <a:ext cx="627228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hacer llegar físicamente el producto o servicio al cliente, es decir agrega valor a las dimensiones TIEMPO y LUG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Decisione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anal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ngitud del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ugares de disponibilidad del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Tiempos de disponibilidad del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ersonal a c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Distribución Electrón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anal de Distribu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Vent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gente: vende en nombre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istribuidor: vende a minor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inor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Venta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volución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3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lbm_capitulo1_grafico2"/>
          <p:cNvPicPr/>
          <p:nvPr/>
        </p:nvPicPr>
        <p:blipFill>
          <a:blip r:embed="rId2"/>
          <a:stretch/>
        </p:blipFill>
        <p:spPr>
          <a:xfrm>
            <a:off x="596880" y="1708200"/>
            <a:ext cx="725328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volución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69000" y="1629000"/>
            <a:ext cx="257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Marketing de masas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Enfocado al product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nónim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Pocas campañas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Gran alcance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Sin investigación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Corta duració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132000" y="162900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Marketing relacional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Enfocado al cliente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Dirigido a personas (individual)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Muchas campañas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lcance reducid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Basado en perfiles y comportamientos de clientes detallados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250920" y="4443840"/>
            <a:ext cx="860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Uno a uno no significa sólamente comunicarse con los clientes como individuos, sino desarrollar productos y mensajes personalizados basados en sus neces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5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Trebuchet MS"/>
              </a:rPr>
              <a:t>Modelo STP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rebuchet MS"/>
              </a:rPr>
              <a:t>Segmentación , Targeting y 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3 Imagen" descr="LOGO_CMS_jpg.JPG"/>
          <p:cNvPicPr/>
          <p:nvPr/>
        </p:nvPicPr>
        <p:blipFill>
          <a:blip r:embed="rId1"/>
          <a:stretch/>
        </p:blipFill>
        <p:spPr>
          <a:xfrm>
            <a:off x="5867280" y="4437000"/>
            <a:ext cx="309744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ntroduc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ualquier empresa que quiera vender un producto o servicio en un mercado no puede servir a todos los clientes de ese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Necesidad de identificar los segmentos más atractivos a los cuales está en posibilidad de servir con efic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ncept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Trebuchet MS"/>
              </a:rPr>
              <a:t>Segmentación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ceso de clasificar grupos de acuerdo con características que son relevantes para el comportamiento de compra o de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Trebuchet MS"/>
              </a:rPr>
              <a:t>Segmento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rupo de individuos o entidades con pautas de consumo similares y que reaccionan de forma homogénea ante estímulo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surge de la idea que en la sociedad existen distintos grupos de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xisten clientes distintos y por lo tanto necesidades distin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es un proceso donde se identifican y agrupan personas que tienen una actitud común y que poseen ciertas características que las identifican y distinguen de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5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60" name="2 Marcador de contenido"/>
          <p:cNvSpPr/>
          <p:nvPr/>
        </p:nvSpPr>
        <p:spPr>
          <a:xfrm>
            <a:off x="571680" y="1700280"/>
            <a:ext cx="74674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s características determinan comportamientos de compra simi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 anterior nos permite diferenciar la OFERTA (haciéndoles a los grupos elegidos ofertas que les brinden mayor satisfacción) y,  conocer y entender mejor a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¿Por qué MIX?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zcla de Herrami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tivos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95280" y="33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1f497d"/>
                </a:solidFill>
                <a:latin typeface="Trebuchet MS"/>
              </a:rPr>
              <a:t>“</a:t>
            </a:r>
            <a:r>
              <a:rPr b="0" lang="es-CL" sz="2600" spc="-1" strike="noStrike">
                <a:solidFill>
                  <a:srgbClr val="1f497d"/>
                </a:solidFill>
                <a:latin typeface="Trebuchet MS"/>
              </a:rPr>
              <a:t>El uso selectivo de la combinación de diferentes variables de marketing para alcanzar los objetivos empresariales”</a:t>
            </a:r>
            <a:r>
              <a:rPr b="0" lang="en-US" sz="26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una mejor identificación de oportunidades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mejorar la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desarrollo de campaña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posicionamiento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diseño de nuev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diferen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mite satisfacer mejor las necesidades y preferencias de los diferentes grupos 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permite adaptar el marketing mix a las necesidades especificas, mejorando así eficacia y efectividad del uso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edir evolución de diferentes tendencias para cada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ptimiz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r precisos en lograr l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Objetiv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estrategia de la segmentación tiene como objetiv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dentificar nuevas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cidir en que mercado de productos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arrollar beneficios al consumidor y ventajas competi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5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pos de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72" name="Diagrama 3" descr=""/>
          <p:cNvPicPr/>
          <p:nvPr/>
        </p:nvPicPr>
        <p:blipFill>
          <a:blip r:embed="rId2"/>
          <a:srcRect l="0" t="-653" r="0" b="-2117"/>
          <a:stretch/>
        </p:blipFill>
        <p:spPr>
          <a:xfrm>
            <a:off x="357120" y="1428840"/>
            <a:ext cx="6215040" cy="4286160"/>
          </a:xfrm>
          <a:prstGeom prst="rect">
            <a:avLst/>
          </a:prstGeom>
          <a:ln w="0">
            <a:noFill/>
          </a:ln>
        </p:spPr>
      </p:pic>
      <p:pic>
        <p:nvPicPr>
          <p:cNvPr id="473" name="Objeto 4" descr=""/>
          <p:cNvPicPr/>
          <p:nvPr/>
        </p:nvPicPr>
        <p:blipFill>
          <a:blip r:embed="rId3"/>
          <a:srcRect l="0" t="-150" r="-498" b="-386"/>
          <a:stretch/>
        </p:blipFill>
        <p:spPr>
          <a:xfrm>
            <a:off x="6643800" y="1928880"/>
            <a:ext cx="361800" cy="2905200"/>
          </a:xfrm>
          <a:prstGeom prst="rect">
            <a:avLst/>
          </a:prstGeom>
          <a:ln w="0">
            <a:noFill/>
          </a:ln>
        </p:spPr>
      </p:pic>
      <p:sp>
        <p:nvSpPr>
          <p:cNvPr id="474" name="5 CuadroTexto"/>
          <p:cNvSpPr/>
          <p:nvPr/>
        </p:nvSpPr>
        <p:spPr>
          <a:xfrm>
            <a:off x="7286760" y="1714680"/>
            <a:ext cx="85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¿Cómo Segmentar?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egir variables de segmentación, aquellas características que distinguen a un grupo de clientes de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egir una técnica de análisis para medir o revisar las variables de segmentación en lo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plicar dicha técnica para identificar los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cribir un perfil para cada seg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Trebuchet MS"/>
              </a:rPr>
              <a:t>Criterios para una segmentación efectiva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80" name="Diagrama 5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3580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deas para analizar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a segmentación no es más que descomponer el mercado en oportunidades de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 conveniente usar varias variables de segmentación a la vez, para perfeccionar la predicción del comportamiento de compra y caracterizar adecuadamente a un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uidado con la complejidad excesiva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n general, comportamiento de compra = f (variables de segmentación). (fun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714240" y="2356920"/>
            <a:ext cx="746784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04a7b"/>
                </a:solidFill>
                <a:latin typeface="Trebuchet MS"/>
              </a:rPr>
              <a:t>“ </a:t>
            </a: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Si usted no esta pensando en segmentación, usted no esta pensa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                                </a:t>
            </a: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Theodore Levi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2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ntroducción al 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pués de haber dividido al Mercado en partes, es posible volver a verlo de otro m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elegir cual de ellos es más atr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elegir cual de ellos es más conven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o siempre tenemos que elegir: Yo puedo conocer todos los segmentos, pero sólo en algunos de ellos tendré oportunidad de 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es la definición del Consumidor que se desea alcan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bviamente no serán los únicos, pero sí los princip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á prohibido que sea genérica (Cualquier producto podría atacar al segmento ABC1 entre 18 y 35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son?, Qué esperan de la marca? ,Qué les gusta hacer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4 P´s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91640" y="2019240"/>
            <a:ext cx="497700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MO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debe ser una descripción muy precisa de nuestro consumidor prete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iene que ser tan clara la descripción que hasta deberíamos poder dibuj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no es excluyente, pero sí pre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s permite saber hacia dónde vamos a orientar la mayor cantidad de recurso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puede evolucionar en el tiempo, pero no puede estar cambiando constantemente sin sen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aracterísticas y Consecuencias del 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Cons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fine la inversión en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fine la orientación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termina lo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ubicamos la marca en la mente de los consumi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la forma en que queremos que los consumidores piensen sobre nuestr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iene que tener un punto diferencial v/s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berá ser per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85520" y="2571840"/>
            <a:ext cx="74674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64a2"/>
                </a:solidFill>
                <a:latin typeface="Trebuchet MS"/>
              </a:rPr>
              <a:t>El posicionamiento, condiciona a todas las actividades de Marketing que se realizan. Es tan importante que si cambia seguido, la marca va perdiendo identidad. Podría evolucionar más que camb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posicionamiento es la forma en que la empresa es percibida subjetivamente por el consumidor, es decir, la forma en que las personas sienten y valoran el producto o servicio. Implica el acto de diseñar la imagen, productos y servicios de la empresa de modo tal que los consumidores perciban su diferencia en relación a la competencia (diferencia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f81bd"/>
                </a:solidFill>
                <a:latin typeface="Trebuchet MS"/>
              </a:rPr>
              <a:t>Posicionamiento deseado: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la forma en que la empresa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quiere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que su producto sea percib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f81bd"/>
                </a:solidFill>
                <a:latin typeface="Trebuchet MS"/>
              </a:rPr>
              <a:t>Posicionamiento efectivo</a:t>
            </a:r>
            <a:r>
              <a:rPr b="0" lang="es-ES" sz="2000" spc="-1" strike="noStrike">
                <a:solidFill>
                  <a:srgbClr val="4f81bd"/>
                </a:solidFill>
                <a:latin typeface="Trebuchet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la forma en que la empresa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s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percibida por sus consum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Una estrategia de posicionamiento consta de los siguientes p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Identificar posibles 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Seleccionar las ventajas adecuadas y alcanz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rear la diferenciación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municarlo eficazmente a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 vital que la imagen diseñada llegue a los consumidores mediante una comunicación efe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l posicionamiento es una IMAGEN MENTAL de mi marca y mi producto en la cabeza del cliente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, se debe recordar por tanto que n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o necesito cualquier imagen mental, necesito aquella que MOTIVA LA COMPRA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oduc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793116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njunto de características y atributos tangibles e intangibles que el comprador acepta, en principio, como algo que va a satisfacer sus necesidad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79280" y="3500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Los Consumidores No Compran Productos; Adquieren La Esperanza De Conseguir Benef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Atributos del Produc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49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v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eño, forma y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agen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agen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1f497d"/>
                </a:solidFill>
                <a:latin typeface="Trebuchet MS"/>
              </a:rPr>
              <a:t>PRODUCTO AUMENTADO</a:t>
            </a:r>
            <a:endParaRPr b="0" lang="en-US" sz="19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09760" y="1371600"/>
            <a:ext cx="2507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ASPECTOS AÑA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Producto “aumentad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BENEF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BÁS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435480" y="2286000"/>
            <a:ext cx="237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SPECTOS FORM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roducto “intangib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 rot="5400000">
            <a:off x="2226960" y="3455640"/>
            <a:ext cx="81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Ma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 rot="16200000">
            <a:off x="5863680" y="3526920"/>
            <a:ext cx="885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nv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756960" y="4267080"/>
            <a:ext cx="149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stilo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2512440" y="4929120"/>
            <a:ext cx="461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Servicio posventa                          Fina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 rot="5400000">
            <a:off x="-22680" y="3446280"/>
            <a:ext cx="293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Entrega           Garant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 rot="16200000">
            <a:off x="6324480" y="3415680"/>
            <a:ext cx="3316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Instalación        Manten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timación cuantitativa sobre un producto y que expresa la aceptación o no del consumidor hacia los atributos de dicho producto, atendiendo a la capacidad para satisfacer necesidad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539640" y="213372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cesidades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6012000" y="213372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ceso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 rot="19288200">
            <a:off x="3203280" y="3213000"/>
            <a:ext cx="504720" cy="1511280"/>
          </a:xfrm>
          <a:prstGeom prst="downArrow">
            <a:avLst>
              <a:gd name="adj1" fmla="val 50000"/>
              <a:gd name="adj2" fmla="val 748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"/>
          <p:cNvSpPr/>
          <p:nvPr/>
        </p:nvSpPr>
        <p:spPr>
          <a:xfrm rot="2131200">
            <a:off x="5435640" y="3212640"/>
            <a:ext cx="504720" cy="1511280"/>
          </a:xfrm>
          <a:prstGeom prst="downArrow">
            <a:avLst>
              <a:gd name="adj1" fmla="val 50000"/>
              <a:gd name="adj2" fmla="val 748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203640" y="472428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jación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7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Incubadora3</cp:lastModifiedBy>
  <dcterms:modified xsi:type="dcterms:W3CDTF">2011-12-21T16:47:38Z</dcterms:modified>
  <cp:revision>56</cp:revision>
  <dc:subject/>
  <dc:title>Diapositiva 1</dc:title>
</cp:coreProperties>
</file>