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B3A-81BA-4A38-A8D2-6A3E8560AFB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C9C9-8611-4A11-81A0-F63F005222A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CEFC-F7D1-4D56-AD67-64B9A0086AC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3D1B-8959-47A7-92EC-75990D09EE5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4EF-56DE-44DF-A8D8-B10C593B9B1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6877-F485-47B2-A771-7C6F9CBA9A0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02B2-7731-4158-8966-788141564AB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FC1-ADE5-477F-AF30-1C080B6300D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3FD-2EAD-4A17-A1BF-62E400F56F12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3DD-C669-4522-BB99-B6092A3E4AC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E855-A69C-4B4C-B93C-929D9A6BD9D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00B6-AC63-4425-AADD-348B6E050E8B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2BED-165D-4595-92E1-62BE5DD9A09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B6A-D0FE-476B-AB7F-025A8433D20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AC79-814C-4992-8D21-F7C9875A187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AA9-8CD7-4093-92E7-192D2CA8DA8B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682-FABE-4336-B899-6B2649FF2DF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3F9-2C35-4A5E-AAA5-B6D08CC3D1E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B90-9D5D-49C6-B660-E9E87523175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7658-D3EB-45B9-A9E8-5A41D62B116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A193-2588-4E69-B79F-332A8FD06CBB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21F9-E1A3-4C15-9673-F421899E9E8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3030-46AB-4364-B6E5-579A8612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4924-E0C2-40E6-88C1-54A4227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0092-A72B-4104-A406-D1E064D8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F22F-4636-4836-863C-54463BE7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EEA-B1B7-49F6-ADA4-AF583C09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F31C-8AB7-4CFB-AE6C-860EACF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7FAE-D7D5-4D9D-A435-653AA2A8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13A9-5C6D-4E64-AEA1-0AADF00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E70A-C8A3-4249-8C4D-FAF007F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9141-42EA-445C-94CC-F281D69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885-9A2A-4B27-A2BD-E1BEC0D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BE1D-6BB6-4409-8AB4-BF1F0C4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949-3FBE-4A1F-A0AC-88B4B36B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FC6-224E-4CC9-94E6-589F79A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C88-9698-4520-985B-072C6C83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DF3-1E5C-4B8D-AA96-2DE6962F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DD10-D8F9-439D-9C2F-81BA1A6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7CD67-67B9-4758-8EE5-37ABA472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046AA-E3FA-4F6D-BFF6-B4DB2BE2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3E81D-5C03-4FF6-A182-9BEF5BDC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B2242-7F32-4952-B5D6-FEECB3F8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FEC24-E162-46B2-9670-14F49D4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4E2F-C169-46D6-8324-97416CE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DABAE-1074-434A-AC45-C1BAA1D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8996C-213E-486F-95DB-3AECFC2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3792C-F66E-4F14-8E07-BD262F5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E3AAB-9AE6-40AE-BED9-BFD3ACA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DC336-FF5A-4692-92C1-E23292D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34330-18CD-4F2A-B34A-1DD5832A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84487-7A57-48D3-ABAE-C98B55C3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EC56-9B9F-4EA6-883A-48449DD9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B57F-6302-49DE-85B1-C1F1C301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4E28-F2E9-4BC4-84AF-F8307144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8F20C-A094-42CB-AE5D-2EB26814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94A3-D2E0-4504-8F0D-A959092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15EC-79E0-454E-B649-4A0B1A2A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7EFA-4B77-4525-BFE4-E1CA846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DAB8-98F8-4994-8D3F-D0FAE55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BB28-CCA5-4DCB-AA5F-37D01A62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BBCB-61DB-4350-BAA1-51F35F4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0128-0105-49DA-B054-730AB21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E8A28-0126-4FAA-9C5E-9452DAD5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E02E-0AB0-4D51-9509-3CB5609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E60C9-DF12-4C75-B27B-13C6938F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92A9-F34B-4C6F-B4D3-E08508B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E864F-A393-4E96-9218-80C4D04C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CC6B5-6B66-40FB-83E1-E88CAA00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0B096-03FF-41D5-B282-29DAE9B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2F833-B9DD-47AE-AC29-4B9F46D8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57C6B-EE2A-4FD5-87BA-8440710B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79908-64DE-40E1-858B-70F3500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E8838-B1C3-4653-A756-90CC174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FFE3F-2C5E-436D-B0E2-F1E194D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39E81-F18F-4242-A0AB-883C3715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E37B1-ECFC-48F9-96C4-86A81C90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940F-8D4C-4CF1-B02D-DBA32C69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4A083-0FF9-4535-8AB0-80AABE01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2CC6F-02A3-4B09-BC48-9C5037DB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3C533-A4C1-4FEF-A731-2733892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8D51D-4D06-4BB5-B7DA-7F557F45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B87BB-AE24-4FB5-AFD2-26E7B8FC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38891-631B-426B-944A-37DA351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E4E77-4820-4435-826A-8CF14A9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B876B-DF3F-4B46-9F74-13DAEA2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A4089-4C9A-403E-AEC9-F657BB0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D0BDC-F56C-4725-ACE4-48E3CFC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AE5F-6F7C-4185-AFC2-2C00893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A4247-A02D-4FDB-AE40-7E3E17E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033B6-680D-4F4B-8BD8-710A2882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18A10-C101-4469-BC5F-EE1D28A1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216D0-4F5D-44A5-ADCA-9210DFD1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3A1CD-23C5-4C24-8370-3F9081B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FF668-6DF0-4AB9-A57B-2FBA667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90D5C-60DF-4C1D-988E-50395CA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8695E-BFEE-4D3B-8D9B-55E2981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7C0D3-CCD8-4F35-AD05-2C37FD4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829DB-92DD-4E66-A0B2-4A5FF32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C913-A7A3-478B-86B2-9CDFAB6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9D0A6-30C6-4B73-B6C1-15E0BFA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BDEDC-3521-4A76-88B9-F909135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0A2E5-4577-4C41-A81E-943C3962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17CC2-C400-4D80-B9EE-416A4E01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D41FA-2D0A-4897-9667-62EA9697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931F-BE7A-4B98-8273-5218726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966D-39FC-44D9-AB4C-457FFF06D58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3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B4E-7E0B-4319-B0A2-C5422920A92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7FB-51C0-453E-902E-CAB6000A284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D90-97C6-488A-ABB1-B0AA07811BA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A091-4750-459C-8F2A-284DA77CE71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60E6-33C7-4ED8-9591-57DD25C9B4B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160D-E9CA-47F1-B705-A2F19453D79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143000" y="1785960"/>
            <a:ext cx="758664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Clase 8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Market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2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Áreas de Benefici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4360" y="1600200"/>
          <a:ext cx="7848360" cy="35575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In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Ex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neficios Fi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r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s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nas Geográf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les de Dis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Factores Influyent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os (límite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asticidad de Demanda/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 del Produ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rateg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strategias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netración: baj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ineamiento: precio pro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lección: Al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Qué reacción tendrá la competencia frente a nuestros nuevos preci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Cómo será aceptado por el canal de distribución la nueva tarif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El precio fijado es coherente con el resto de la gama y el posicionamiento que queremos dar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Los precios fijados nos permiten alcanzar los objetivos marcados para este a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1068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COMUNICAR, informar y persuadir al cliente y otros interesados sobre la empresa, sus productos, oferta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el logro de los objetivos organizacion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mo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uerza de Venta o Venta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unicación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 de V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rementar las ventas de un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Objetiv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umentar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omper lealtad de clientes en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ducir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Fid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espacio en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grar aprobación de productos n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Herrami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galos Public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emios a la fide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Trebuchet MS"/>
              </a:rPr>
              <a:t>Marketing Mix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3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laza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23400" y="2406600"/>
            <a:ext cx="62722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hacer llegar físicamente el producto o servicio al cliente, es decir agrega valor a las dimensiones TIEMPO y LU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Decision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anal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ngitu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ugare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iempo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rsonal a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Distribución Electrón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anal de Distribu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gente: vende en nombre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istribuidor: vende a 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lbm_capitulo1_grafico2"/>
          <p:cNvPicPr/>
          <p:nvPr/>
        </p:nvPicPr>
        <p:blipFill>
          <a:blip r:embed="rId2"/>
          <a:stretch/>
        </p:blipFill>
        <p:spPr>
          <a:xfrm>
            <a:off x="596880" y="1708200"/>
            <a:ext cx="72532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69000" y="1629000"/>
            <a:ext cx="257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de masa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product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ónim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Poc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Gran alcanc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Sin investigación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Corta dur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132000" y="16290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relacional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client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Dirigido a personas (individual)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Much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lcance reduci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Basado en perfiles y comportamientos de clientes detallado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0920" y="4443840"/>
            <a:ext cx="86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Uno a uno no significa sólamente comunicarse con los clientes como individuos, sino desarrollar productos y mensajes personalizados basados en sus neces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Modelo STP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egmentación , Targeting y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3 Imagen" descr="LOGO_CMS_jpg.JPG"/>
          <p:cNvPicPr/>
          <p:nvPr/>
        </p:nvPicPr>
        <p:blipFill>
          <a:blip r:embed="rId1"/>
          <a:stretch/>
        </p:blipFill>
        <p:spPr>
          <a:xfrm>
            <a:off x="5867280" y="4437000"/>
            <a:ext cx="30974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ualquier empresa que quiera vender un producto o servicio en un mercado no puede servir a todos los clientes de ese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Necesidad de identificar los segmentos más atractivos a los cuales está en posibilidad de servir con e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ncept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ación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ceso de clasificar grupos de acuerdo con características que son relevantes para el comportamiento de compra o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o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upo de individuos o entidades con pautas de consumo similares y que reaccionan de forma homogénea ante estímul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surge de la idea que en la sociedad existen distintos grupos de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lientes distintos y por lo tanto necesidades disti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es un proceso donde se identifican y agrupan personas que tienen una actitud común y que poseen ciertas características que las identifican y distinguen de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60" name="2 Marcador de contenido"/>
          <p:cNvSpPr/>
          <p:nvPr/>
        </p:nvSpPr>
        <p:spPr>
          <a:xfrm>
            <a:off x="57168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s características determinan comportamientos de compra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 anterior nos permite diferenciar la OFERTA (haciéndoles a los grupos elegidos ofertas que les brinden mayor satisfacción) y,  conocer y entender mejor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¿Por qué MIX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cla de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5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“</a:t>
            </a: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El uso selectivo de la combinación de diferentes variables de marketing para alcanzar los objetivos empresariales”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una mejor identificación de oportunidade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mejorar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esarrollo de campaña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posicionamient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iseño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mite satisfacer mejor las necesidades y preferencias de los diferentes grupo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permite adaptar el marketing mix a las necesidades especificas, mejorando así eficacia y efectividad del us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dir evolución de diferentes tendencias para cada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ptim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 precisos en logra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Objetiv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estrategia de la segmentación tiene como objetiv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dentificar nueva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cidir en que mercado de productos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arrollar beneficios al consumidor y ventajas competi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pos de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2" name="Diagrama 3" descr=""/>
          <p:cNvPicPr/>
          <p:nvPr/>
        </p:nvPicPr>
        <p:blipFill>
          <a:blip r:embed="rId2"/>
          <a:srcRect l="0" t="-653" r="0" b="-2117"/>
          <a:stretch/>
        </p:blipFill>
        <p:spPr>
          <a:xfrm>
            <a:off x="357120" y="1428840"/>
            <a:ext cx="6215040" cy="4286160"/>
          </a:xfrm>
          <a:prstGeom prst="rect">
            <a:avLst/>
          </a:prstGeom>
          <a:ln w="0">
            <a:noFill/>
          </a:ln>
        </p:spPr>
      </p:pic>
      <p:pic>
        <p:nvPicPr>
          <p:cNvPr id="473" name="Objeto 4" descr=""/>
          <p:cNvPicPr/>
          <p:nvPr/>
        </p:nvPicPr>
        <p:blipFill>
          <a:blip r:embed="rId3"/>
          <a:srcRect l="0" t="-150" r="-498" b="-386"/>
          <a:stretch/>
        </p:blipFill>
        <p:spPr>
          <a:xfrm>
            <a:off x="6643800" y="1928880"/>
            <a:ext cx="36180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5 CuadroTexto"/>
          <p:cNvSpPr/>
          <p:nvPr/>
        </p:nvSpPr>
        <p:spPr>
          <a:xfrm>
            <a:off x="7286760" y="1714680"/>
            <a:ext cx="85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¿Cómo Segmentar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variables de segmentación, aquellas características que distinguen a un grupo de clientes de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una técnica de análisis para medir o revisar las variables de segmentación en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r dicha técnica para identificar l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cribir un perfil para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Trebuchet MS"/>
              </a:rPr>
              <a:t>Criterios para una segmentación efectiv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0" name="Diagrama 5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3580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deas para analizar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a segmentación no es más que descomponer el mercado en oportunidades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conveniente usar varias variables de segmentación a la vez, para perfeccionar la predicción del comportamiento de compra y caracterizar adecuadamente a un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idado con la complejidad excesiv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n general, comportamiento de compra = f (variables de segmentación). (fu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14240" y="2356920"/>
            <a:ext cx="746784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Trebuchet MS"/>
              </a:rPr>
              <a:t>“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Si usted no esta pensando en segmentación, usted no esta pensa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                               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Theodore Lev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2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 a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pués de haber dividido al Mercado en partes, es posible volver a verlo de otr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atr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o siempre tenemos que elegir: Yo puedo conocer todos los segmentos, pero sólo en algunos de ellos tendré oportunidad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es la definición del Consumidor que se desea alcan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bviamente no serán los únicos, pero sí lo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á prohibido que sea genérica (Cualquier producto podría atacar al segmento ABC1 entre 18 y 35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son?, Qué esperan de la marca? ,Qué les gusta hace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4 P´s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91640" y="2019240"/>
            <a:ext cx="49770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debe ser una descripción muy precisa de nuestro consumidor pre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ser tan clara la descripción que hasta deberíamos poder dibu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no es excluyente, pero sí pre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s permite saber hacia dónde vamos a orientar la mayor cantidad de recurs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puede evolucionar en el tiempo, pero no puede estar cambiando constantemente sin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racterísticas y Consecuencias de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inversión en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orientación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termina lo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ubicamos la marca en la mente de los consumi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la forma en que queremos que los consumidores piensen sobre nuestr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tener un punto diferencial v/s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berá ser per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85520" y="2571840"/>
            <a:ext cx="74674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64a2"/>
                </a:solidFill>
                <a:latin typeface="Trebuchet MS"/>
              </a:rPr>
              <a:t>El posicionamiento, condiciona a todas las actividades de Marketing que se realizan. Es tan importante que si cambia seguido, la marca va perdiendo identidad. Podría evolucionar más que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osicionamiento es la forma en que la empresa es percibida subjetivamente por el consumidor, es decir, la forma en que las personas sienten y valoran el producto o servicio. Implica el acto de diseñar la imagen, productos y servicios de la empresa de modo tal que los consumidores perciban su diferencia en relación a la competencia (diferencia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deseado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quiere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que su producto sea perc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efectivo</a:t>
            </a:r>
            <a:r>
              <a:rPr b="0" lang="es-ES" sz="2000" spc="-1" strike="noStrike">
                <a:solidFill>
                  <a:srgbClr val="4f81bd"/>
                </a:solidFill>
                <a:latin typeface="Trebuchet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percibida por su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a estrategia de posicionamiento consta de los siguientes p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dentificar posible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Seleccionar las ventajas adecuadas y a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rear la diferenciación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unicarlo eficazmente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vital que la imagen diseñada llegue a los consumidores mediante una comunicación ef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posicionamiento es una IMAGEN MENTAL de mi marca y mi producto en la cabeza del cliente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, se debe recordar por tanto que 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o necesito cualquier imagen mental, necesito aquella que MOTIVA LA COMPR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311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junto de características y atributos tangibles e intangibles que el comprador acepta, en principio, como algo que va a satisfacer sus necesi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9280" y="3500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Consumidores No Compran Productos; Adquieren La Esperanza De Conseguir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Atributos del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v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, forma y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1f497d"/>
                </a:solidFill>
                <a:latin typeface="Trebuchet MS"/>
              </a:rPr>
              <a:t>PRODUCTO AUMENTADO</a:t>
            </a:r>
            <a:endParaRPr b="0" lang="en-US" sz="19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09760" y="1371600"/>
            <a:ext cx="2507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ASPECTO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Producto “aumentad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435480" y="228600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SPECTOS 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ducto “intang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 rot="5400000">
            <a:off x="2226960" y="345564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 rot="16200000">
            <a:off x="5863680" y="352692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v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56960" y="4267080"/>
            <a:ext cx="149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til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512440" y="4929120"/>
            <a:ext cx="461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Servicio posventa                         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 rot="5400000">
            <a:off x="-22680" y="3446280"/>
            <a:ext cx="29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Entrega           Garant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6324480" y="3415680"/>
            <a:ext cx="331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Instalación       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imación cuantitativa sobre un producto y que expresa la aceptación o no del consumidor hacia los atributos de dicho producto, atendiendo a la capacidad para satisfacer necesida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539640" y="2133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cesidades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12000" y="2133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 rot="19288200">
            <a:off x="3203280" y="321300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2131200">
            <a:off x="5435640" y="321264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03640" y="472428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jación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7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Incubadora3</cp:lastModifiedBy>
  <dcterms:modified xsi:type="dcterms:W3CDTF">2011-12-21T16:47:38Z</dcterms:modified>
  <cp:revision>56</cp:revision>
  <dc:subject/>
  <dc:title>Diapositiva 1</dc:title>
</cp:coreProperties>
</file>