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0C2D-4343-4C94-810E-B4E0DCD6081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8B44-AC4F-44FA-849C-A4779185015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BC91-3886-49A4-B0DE-5E4546722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E951-AAFD-4D38-8CB3-6D6B12FFE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EA8D-5090-4EC1-8FBB-DC01D80CC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D0D9-7102-413C-BCE1-00E7F64791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02EC-77CC-4947-8881-01FC140539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F5CC-581D-4ACC-BD29-3570E481D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8CAB4-106E-4443-85C9-8CD583B91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AE23F-7B58-4F69-9D84-D2C0A5911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BD0E-B833-46EB-9290-F62BB0944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F9FE-B1F5-4AE7-9FC9-09B184990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E065-C606-4A54-8E70-54841F24F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5DE1-F88E-468D-B868-BD25A6427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96969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A9C0-F6EE-477A-80FC-1031D063B22E}" type="slidenum">
              <a:rPr b="0" lang="es-ES_tradnl" sz="2400" spc="-1" strike="noStrike">
                <a:solidFill>
                  <a:srgbClr val="96969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8"/>
          <p:cNvSpPr/>
          <p:nvPr/>
        </p:nvSpPr>
        <p:spPr>
          <a:xfrm>
            <a:off x="8458200" y="6324480"/>
            <a:ext cx="0" cy="5335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990720"/>
            <a:ext cx="10666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GERENCIA 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REVEN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0" y="5943600"/>
            <a:ext cx="10666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SUBGERENCIA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APACITACION 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UBLICACION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7"/>
          <p:cNvSpPr/>
          <p:nvPr/>
        </p:nvSpPr>
        <p:spPr>
          <a:xfrm>
            <a:off x="1428840" y="147600"/>
            <a:ext cx="7391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00"/>
                </a:solidFill>
                <a:latin typeface="Arial"/>
              </a:rPr>
              <a:t>A  s  o  c  i  a  c  i  ó  n    C  h  i  l  e  n  a    d e    S  e  g  u  r  i  d  a 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8" descr=""/>
          <p:cNvPicPr/>
          <p:nvPr/>
        </p:nvPicPr>
        <p:blipFill>
          <a:blip r:embed="rId2"/>
          <a:stretch/>
        </p:blipFill>
        <p:spPr>
          <a:xfrm>
            <a:off x="10800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" name="WordArt 19"/>
          <p:cNvSpPr txBox="1"/>
          <p:nvPr/>
        </p:nvSpPr>
        <p:spPr>
          <a:xfrm rot="16200000">
            <a:off x="-1488960" y="3244680"/>
            <a:ext cx="403560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Taller C.C.C.</a:t>
            </a:r>
            <a:endParaRPr b="0" lang="en-US" sz="32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3"/>
          <p:cNvSpPr/>
          <p:nvPr/>
        </p:nvSpPr>
        <p:spPr>
          <a:xfrm>
            <a:off x="384120" y="1233360"/>
            <a:ext cx="4732560" cy="2583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5"/>
          <p:cNvSpPr/>
          <p:nvPr/>
        </p:nvSpPr>
        <p:spPr>
          <a:xfrm>
            <a:off x="922320" y="2448000"/>
            <a:ext cx="77644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000099"/>
                </a:solidFill>
                <a:latin typeface="Arial"/>
                <a:ea typeface="Times New Roman"/>
              </a:rPr>
              <a:t>TÉCNICAS DE DETECCI</a:t>
            </a:r>
            <a:r>
              <a:rPr b="1" lang="en-US" sz="3900" spc="-1" strike="noStrike">
                <a:solidFill>
                  <a:srgbClr val="000099"/>
                </a:solidFill>
                <a:latin typeface="Arial"/>
                <a:ea typeface="Times New Roman"/>
              </a:rPr>
              <a:t>Ó</a:t>
            </a:r>
            <a:r>
              <a:rPr b="1" lang="es-ES_tradnl" sz="3900" spc="-1" strike="noStrike">
                <a:solidFill>
                  <a:srgbClr val="000099"/>
                </a:solidFill>
                <a:latin typeface="Arial"/>
                <a:ea typeface="Times New Roman"/>
              </a:rPr>
              <a:t>N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000099"/>
                </a:solidFill>
                <a:latin typeface="Arial"/>
                <a:ea typeface="Times New Roman"/>
              </a:rPr>
              <a:t>DE PELIGRO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8"/>
          <p:cNvGrpSpPr/>
          <p:nvPr/>
        </p:nvGrpSpPr>
        <p:grpSpPr>
          <a:xfrm>
            <a:off x="1473120" y="314280"/>
            <a:ext cx="6448680" cy="5578200"/>
            <a:chOff x="1473120" y="314280"/>
            <a:chExt cx="6448680" cy="5578200"/>
          </a:xfrm>
        </p:grpSpPr>
        <p:sp>
          <p:nvSpPr>
            <p:cNvPr id="85" name="AutoShape 3"/>
            <p:cNvSpPr/>
            <p:nvPr/>
          </p:nvSpPr>
          <p:spPr>
            <a:xfrm>
              <a:off x="1473120" y="314280"/>
              <a:ext cx="6448680" cy="5578200"/>
            </a:xfrm>
            <a:custGeom>
              <a:avLst/>
              <a:gdLst>
                <a:gd name="textAreaLeft" fmla="*/ 361440 w 6448680"/>
                <a:gd name="textAreaRight" fmla="*/ 6087240 w 6448680"/>
                <a:gd name="textAreaTop" fmla="*/ 361440 h 5578200"/>
                <a:gd name="textAreaBottom" fmla="*/ 5216760 h 5578200"/>
              </a:gdLst>
              <a:ahLst/>
              <a:rect l="textAreaLeft" t="textAreaTop" r="textAreaRight" b="textAreaBottom"/>
              <a:pathLst>
                <a:path w="24970" h="21600">
                  <a:moveTo>
                    <a:pt x="0" y="0"/>
                  </a:moveTo>
                  <a:lnTo>
                    <a:pt x="24970" y="0"/>
                  </a:lnTo>
                  <a:lnTo>
                    <a:pt x="24970" y="21600"/>
                  </a:lnTo>
                  <a:lnTo>
                    <a:pt x="0" y="21600"/>
                  </a:lnTo>
                  <a:close/>
                </a:path>
                <a:path fill="lightenLess" w="24970" h="21600">
                  <a:moveTo>
                    <a:pt x="0" y="0"/>
                  </a:moveTo>
                  <a:lnTo>
                    <a:pt x="24970" y="0"/>
                  </a:lnTo>
                  <a:lnTo>
                    <a:pt x="23571" y="1400"/>
                  </a:lnTo>
                  <a:lnTo>
                    <a:pt x="1400" y="1400"/>
                  </a:lnTo>
                  <a:close/>
                </a:path>
                <a:path fill="darken" w="24970" h="21600">
                  <a:moveTo>
                    <a:pt x="24970" y="0"/>
                  </a:moveTo>
                  <a:lnTo>
                    <a:pt x="24970" y="21600"/>
                  </a:lnTo>
                  <a:lnTo>
                    <a:pt x="23571" y="20200"/>
                  </a:lnTo>
                  <a:lnTo>
                    <a:pt x="23571" y="1400"/>
                  </a:lnTo>
                  <a:close/>
                </a:path>
                <a:path fill="darkenLess" w="24970" h="21600">
                  <a:moveTo>
                    <a:pt x="2497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571" y="20200"/>
                  </a:lnTo>
                  <a:close/>
                </a:path>
                <a:path fill="lighten" w="2497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8f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4"/>
            <p:cNvSpPr/>
            <p:nvPr/>
          </p:nvSpPr>
          <p:spPr>
            <a:xfrm>
              <a:off x="2465280" y="594720"/>
              <a:ext cx="4464360" cy="369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>
              <a:off x="2680920" y="535320"/>
              <a:ext cx="4114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NCIDENTES POTENCIALE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5"/>
            <p:cNvSpPr/>
            <p:nvPr/>
          </p:nvSpPr>
          <p:spPr>
            <a:xfrm>
              <a:off x="1755720" y="1087560"/>
              <a:ext cx="5931000" cy="46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ídas del mismo ni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ídas de distinto ni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olpeado por/con/contra objetos o estructur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rapamiento en máquinas, materiales o instal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acto con objetos corta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acto con objetos punza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acto con fuego/objetos/líquidos calientes/productos quími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breesfuerzo por peso excesivo/movimiento brusco/movimiento repetitivo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ropellamiento o cho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acto con electric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254160" y="358920"/>
            <a:ext cx="8680320" cy="5083200"/>
          </a:xfrm>
          <a:custGeom>
            <a:avLst/>
            <a:gdLst>
              <a:gd name="textAreaLeft" fmla="*/ 329400 w 8680320"/>
              <a:gd name="textAreaRight" fmla="*/ 8350920 w 8680320"/>
              <a:gd name="textAreaTop" fmla="*/ 329400 h 5083200"/>
              <a:gd name="textAreaBottom" fmla="*/ 4753800 h 5083200"/>
            </a:gdLst>
            <a:ahLst/>
            <a:rect l="textAreaLeft" t="textAreaTop" r="textAreaRight" b="textAreaBottom"/>
            <a:pathLst>
              <a:path w="36884" h="21600">
                <a:moveTo>
                  <a:pt x="0" y="0"/>
                </a:moveTo>
                <a:lnTo>
                  <a:pt x="36884" y="0"/>
                </a:lnTo>
                <a:lnTo>
                  <a:pt x="36884" y="21600"/>
                </a:lnTo>
                <a:lnTo>
                  <a:pt x="0" y="21600"/>
                </a:lnTo>
                <a:close/>
              </a:path>
              <a:path fill="lightenLess" w="36884" h="21600">
                <a:moveTo>
                  <a:pt x="0" y="0"/>
                </a:moveTo>
                <a:lnTo>
                  <a:pt x="36884" y="0"/>
                </a:lnTo>
                <a:lnTo>
                  <a:pt x="35484" y="1400"/>
                </a:lnTo>
                <a:lnTo>
                  <a:pt x="1400" y="1400"/>
                </a:lnTo>
                <a:close/>
              </a:path>
              <a:path fill="darken" w="36884" h="21600">
                <a:moveTo>
                  <a:pt x="36884" y="0"/>
                </a:moveTo>
                <a:lnTo>
                  <a:pt x="36884" y="21600"/>
                </a:lnTo>
                <a:lnTo>
                  <a:pt x="35484" y="20200"/>
                </a:lnTo>
                <a:lnTo>
                  <a:pt x="35484" y="1400"/>
                </a:lnTo>
                <a:close/>
              </a:path>
              <a:path fill="darkenLess" w="36884" h="21600">
                <a:moveTo>
                  <a:pt x="36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84" y="20200"/>
                </a:lnTo>
                <a:close/>
              </a:path>
              <a:path fill="lighten" w="36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f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880920" y="804960"/>
            <a:ext cx="352116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109520" y="750960"/>
            <a:ext cx="32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CIDENTES POTEN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663480" y="1139760"/>
            <a:ext cx="4651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ídas del mismo ni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ídas de distinto ni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olpeado por/con/contra objetos o estruc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rapamiento en máquinas, materiales o 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o con objetos c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o con objetos punz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o con fuego/objetos/líquidos ca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breesfuerzo por peso excesivo/movimiento brusco/movimiento repeti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ropellamiento o cho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o con electr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995720" y="824040"/>
            <a:ext cx="352116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5915880" y="77004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nsec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5102280" y="1235160"/>
            <a:ext cx="383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r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ac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p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fermedades infectocontagi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emaduras de distinto g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iones a la espal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gui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ndini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ock eléct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222200" y="166680"/>
            <a:ext cx="712188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DENTIFICA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R LOS RIES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272880" y="1095480"/>
            <a:ext cx="8623440" cy="5083200"/>
          </a:xfrm>
          <a:custGeom>
            <a:avLst/>
            <a:gdLst>
              <a:gd name="textAreaLeft" fmla="*/ 329400 w 8623440"/>
              <a:gd name="textAreaRight" fmla="*/ 8294040 w 8623440"/>
              <a:gd name="textAreaTop" fmla="*/ 329400 h 5083200"/>
              <a:gd name="textAreaBottom" fmla="*/ 4753800 h 5083200"/>
            </a:gdLst>
            <a:ahLst/>
            <a:rect l="textAreaLeft" t="textAreaTop" r="textAreaRight" b="textAreaBottom"/>
            <a:pathLst>
              <a:path w="36642" h="21600">
                <a:moveTo>
                  <a:pt x="0" y="0"/>
                </a:moveTo>
                <a:lnTo>
                  <a:pt x="36642" y="0"/>
                </a:lnTo>
                <a:lnTo>
                  <a:pt x="36642" y="21600"/>
                </a:lnTo>
                <a:lnTo>
                  <a:pt x="0" y="21600"/>
                </a:lnTo>
                <a:close/>
              </a:path>
              <a:path fill="lightenLess" w="36642" h="21600">
                <a:moveTo>
                  <a:pt x="0" y="0"/>
                </a:moveTo>
                <a:lnTo>
                  <a:pt x="36642" y="0"/>
                </a:lnTo>
                <a:lnTo>
                  <a:pt x="35243" y="1400"/>
                </a:lnTo>
                <a:lnTo>
                  <a:pt x="1400" y="1400"/>
                </a:lnTo>
                <a:close/>
              </a:path>
              <a:path fill="darken" w="36642" h="21600">
                <a:moveTo>
                  <a:pt x="36642" y="0"/>
                </a:moveTo>
                <a:lnTo>
                  <a:pt x="36642" y="21600"/>
                </a:lnTo>
                <a:lnTo>
                  <a:pt x="35243" y="20200"/>
                </a:lnTo>
                <a:lnTo>
                  <a:pt x="35243" y="1400"/>
                </a:lnTo>
                <a:close/>
              </a:path>
              <a:path fill="darkenLess" w="36642" h="21600">
                <a:moveTo>
                  <a:pt x="36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43" y="20200"/>
                </a:lnTo>
                <a:close/>
              </a:path>
              <a:path fill="lighten" w="36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f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880920" y="1351080"/>
            <a:ext cx="352116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015560" y="1278000"/>
            <a:ext cx="3317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Incidentes potencial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663480" y="1914480"/>
            <a:ext cx="4461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ción a altos niveles de ru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ción a altos niveles de solv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mora en la evacuación en caso de una emerg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end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apso estructural en caso de sismo o terremo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ción a humo de cigar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ción a altos niveles de 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o de alimentos en mal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4995720" y="1370160"/>
            <a:ext cx="352116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5679720" y="1316160"/>
            <a:ext cx="2328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Consecuenci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102280" y="1895400"/>
            <a:ext cx="335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rd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ño Orgánico Cere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usiones, heridas, fracturas, Mue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emaduras de distinto grado, mue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á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oxicación, m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833480" y="1784520"/>
            <a:ext cx="5475240" cy="2205000"/>
          </a:xfrm>
          <a:prstGeom prst="rect">
            <a:avLst/>
          </a:prstGeom>
          <a:solidFill>
            <a:srgbClr val="fbf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146240" y="41436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VALUACION DE RIES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401920" y="2130480"/>
            <a:ext cx="5005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onsecuenc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babilidad de ocurren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724280" y="3705120"/>
            <a:ext cx="4114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5"/>
          <p:cNvGrpSpPr/>
          <p:nvPr/>
        </p:nvGrpSpPr>
        <p:grpSpPr>
          <a:xfrm>
            <a:off x="0" y="5867280"/>
            <a:ext cx="9143640" cy="533520"/>
            <a:chOff x="0" y="5867280"/>
            <a:chExt cx="9143640" cy="533520"/>
          </a:xfrm>
        </p:grpSpPr>
        <p:sp>
          <p:nvSpPr>
            <p:cNvPr id="109" name="Line 6"/>
            <p:cNvSpPr/>
            <p:nvPr/>
          </p:nvSpPr>
          <p:spPr>
            <a:xfrm>
              <a:off x="0" y="640080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1023840" y="586728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 flipV="1">
              <a:off x="1023840" y="58672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Picture 10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4867560" cy="1000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96216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3"/>
          <a:stretch/>
        </p:blipFill>
        <p:spPr>
          <a:xfrm>
            <a:off x="1104840" y="2743200"/>
            <a:ext cx="3124440" cy="325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"/>
          <p:cNvPicPr/>
          <p:nvPr/>
        </p:nvPicPr>
        <p:blipFill>
          <a:blip r:embed="rId4"/>
          <a:stretch/>
        </p:blipFill>
        <p:spPr>
          <a:xfrm>
            <a:off x="1104840" y="3352680"/>
            <a:ext cx="3159360" cy="16509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5"/>
          <p:cNvSpPr/>
          <p:nvPr/>
        </p:nvSpPr>
        <p:spPr>
          <a:xfrm>
            <a:off x="1523880" y="457200"/>
            <a:ext cx="7121520" cy="53352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ÁLCULO DE LA MAGNITUD DE RI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6520" y="3306600"/>
            <a:ext cx="4124520" cy="34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6240" y="3406680"/>
            <a:ext cx="30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i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18920" y="3406680"/>
            <a:ext cx="998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onsecuenci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66480" y="382428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59160" y="3827520"/>
            <a:ext cx="6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atastróf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66480" y="431964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59520" y="43210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ay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66480" y="481320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59520" y="4816440"/>
            <a:ext cx="29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Se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66480" y="530856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59520" y="53103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17640" y="4761000"/>
            <a:ext cx="227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capacidad temporal con días perdid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64440" y="5280120"/>
            <a:ext cx="147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Lesión sin tiempo perdi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76600" y="340056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ignifi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98920" y="3865680"/>
            <a:ext cx="233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uerte y/o Incapacidad permanente tot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31680" y="4354560"/>
            <a:ext cx="183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capacidad permanente parci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1840" y="3301920"/>
            <a:ext cx="0" cy="2333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1840" y="3301920"/>
            <a:ext cx="12600" cy="233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29280" y="3314880"/>
            <a:ext cx="0" cy="23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29280" y="3314880"/>
            <a:ext cx="12600" cy="23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56440" y="3314880"/>
            <a:ext cx="0" cy="23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56440" y="3314880"/>
            <a:ext cx="12600" cy="23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63120" y="3314880"/>
            <a:ext cx="0" cy="23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763120" y="3314880"/>
            <a:ext cx="12600" cy="23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54440" y="3301920"/>
            <a:ext cx="41212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4440" y="3301920"/>
            <a:ext cx="412128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54440" y="3645000"/>
            <a:ext cx="41212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54440" y="3645000"/>
            <a:ext cx="4121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54440" y="4138560"/>
            <a:ext cx="41212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54440" y="4138560"/>
            <a:ext cx="4121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54440" y="4633920"/>
            <a:ext cx="41212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54440" y="4633920"/>
            <a:ext cx="4121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54440" y="5127480"/>
            <a:ext cx="41212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54440" y="5127480"/>
            <a:ext cx="412128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54440" y="5622840"/>
            <a:ext cx="41212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54440" y="5622840"/>
            <a:ext cx="412128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5"/>
          <p:cNvGrpSpPr/>
          <p:nvPr/>
        </p:nvGrpSpPr>
        <p:grpSpPr>
          <a:xfrm>
            <a:off x="2322360" y="1038240"/>
            <a:ext cx="5719680" cy="460440"/>
            <a:chOff x="2322360" y="1038240"/>
            <a:chExt cx="5719680" cy="460440"/>
          </a:xfrm>
        </p:grpSpPr>
        <p:sp>
          <p:nvSpPr>
            <p:cNvPr id="154" name="Text Box 6"/>
            <p:cNvSpPr/>
            <p:nvPr/>
          </p:nvSpPr>
          <p:spPr>
            <a:xfrm>
              <a:off x="2322360" y="1038240"/>
              <a:ext cx="137448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7"/>
            <p:cNvSpPr/>
            <p:nvPr/>
          </p:nvSpPr>
          <p:spPr>
            <a:xfrm>
              <a:off x="3769920" y="1038240"/>
              <a:ext cx="137484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8"/>
            <p:cNvSpPr/>
            <p:nvPr/>
          </p:nvSpPr>
          <p:spPr>
            <a:xfrm>
              <a:off x="5217840" y="1038240"/>
              <a:ext cx="137484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9"/>
            <p:cNvSpPr/>
            <p:nvPr/>
          </p:nvSpPr>
          <p:spPr>
            <a:xfrm>
              <a:off x="6667560" y="1038240"/>
              <a:ext cx="137448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Text Box 10"/>
          <p:cNvSpPr/>
          <p:nvPr/>
        </p:nvSpPr>
        <p:spPr>
          <a:xfrm>
            <a:off x="2322360" y="428400"/>
            <a:ext cx="5718240" cy="537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 rot="16200000">
            <a:off x="-1050840" y="3741120"/>
            <a:ext cx="4845240" cy="540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12"/>
          <p:cNvGrpSpPr/>
          <p:nvPr/>
        </p:nvGrpSpPr>
        <p:grpSpPr>
          <a:xfrm>
            <a:off x="1743120" y="1571760"/>
            <a:ext cx="477360" cy="4848840"/>
            <a:chOff x="1743120" y="1571760"/>
            <a:chExt cx="477360" cy="4848840"/>
          </a:xfrm>
        </p:grpSpPr>
        <p:sp>
          <p:nvSpPr>
            <p:cNvPr id="161" name="Text Box 13"/>
            <p:cNvSpPr/>
            <p:nvPr/>
          </p:nvSpPr>
          <p:spPr>
            <a:xfrm rot="16200000">
              <a:off x="1407600" y="1920960"/>
              <a:ext cx="1162080" cy="46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 rot="16200000">
              <a:off x="1407240" y="3148920"/>
              <a:ext cx="1162440" cy="46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5"/>
            <p:cNvSpPr/>
            <p:nvPr/>
          </p:nvSpPr>
          <p:spPr>
            <a:xfrm rot="16200000">
              <a:off x="1407240" y="4380480"/>
              <a:ext cx="1162440" cy="46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16"/>
            <p:cNvSpPr/>
            <p:nvPr/>
          </p:nvSpPr>
          <p:spPr>
            <a:xfrm rot="16200000">
              <a:off x="1393560" y="5607360"/>
              <a:ext cx="1162440" cy="46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17"/>
          <p:cNvGrpSpPr/>
          <p:nvPr/>
        </p:nvGrpSpPr>
        <p:grpSpPr>
          <a:xfrm>
            <a:off x="2322360" y="1038240"/>
            <a:ext cx="5719680" cy="460440"/>
            <a:chOff x="2322360" y="1038240"/>
            <a:chExt cx="5719680" cy="460440"/>
          </a:xfrm>
        </p:grpSpPr>
        <p:sp>
          <p:nvSpPr>
            <p:cNvPr id="166" name="Text Box 18"/>
            <p:cNvSpPr/>
            <p:nvPr/>
          </p:nvSpPr>
          <p:spPr>
            <a:xfrm>
              <a:off x="2322360" y="1038240"/>
              <a:ext cx="137448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9"/>
            <p:cNvSpPr/>
            <p:nvPr/>
          </p:nvSpPr>
          <p:spPr>
            <a:xfrm>
              <a:off x="3769920" y="1038240"/>
              <a:ext cx="137484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20"/>
            <p:cNvSpPr/>
            <p:nvPr/>
          </p:nvSpPr>
          <p:spPr>
            <a:xfrm>
              <a:off x="5217840" y="1038240"/>
              <a:ext cx="137484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21"/>
            <p:cNvSpPr/>
            <p:nvPr/>
          </p:nvSpPr>
          <p:spPr>
            <a:xfrm>
              <a:off x="6667560" y="1038240"/>
              <a:ext cx="137448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Text Box 22"/>
          <p:cNvSpPr/>
          <p:nvPr/>
        </p:nvSpPr>
        <p:spPr>
          <a:xfrm>
            <a:off x="2322360" y="428400"/>
            <a:ext cx="5718240" cy="537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 rot="16200000">
            <a:off x="-1050840" y="3741120"/>
            <a:ext cx="4845240" cy="54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B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62"/>
          <p:cNvGrpSpPr/>
          <p:nvPr/>
        </p:nvGrpSpPr>
        <p:grpSpPr>
          <a:xfrm>
            <a:off x="1743120" y="1571760"/>
            <a:ext cx="477360" cy="4848840"/>
            <a:chOff x="1743120" y="1571760"/>
            <a:chExt cx="477360" cy="4848840"/>
          </a:xfrm>
        </p:grpSpPr>
        <p:sp>
          <p:nvSpPr>
            <p:cNvPr id="173" name="Text Box 63"/>
            <p:cNvSpPr/>
            <p:nvPr/>
          </p:nvSpPr>
          <p:spPr>
            <a:xfrm rot="16200000">
              <a:off x="1405800" y="1919160"/>
              <a:ext cx="1162080" cy="46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64"/>
            <p:cNvSpPr/>
            <p:nvPr/>
          </p:nvSpPr>
          <p:spPr>
            <a:xfrm rot="16200000">
              <a:off x="1405800" y="3147480"/>
              <a:ext cx="1162440" cy="46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65"/>
            <p:cNvSpPr/>
            <p:nvPr/>
          </p:nvSpPr>
          <p:spPr>
            <a:xfrm rot="16200000">
              <a:off x="1405800" y="4379040"/>
              <a:ext cx="1162440" cy="46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6"/>
            <p:cNvSpPr/>
            <p:nvPr/>
          </p:nvSpPr>
          <p:spPr>
            <a:xfrm rot="16200000">
              <a:off x="1395360" y="5605920"/>
              <a:ext cx="1162440" cy="46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77"/>
          <p:cNvGrpSpPr/>
          <p:nvPr/>
        </p:nvGrpSpPr>
        <p:grpSpPr>
          <a:xfrm>
            <a:off x="2322360" y="1573200"/>
            <a:ext cx="5720040" cy="4848120"/>
            <a:chOff x="2322360" y="1573200"/>
            <a:chExt cx="5720040" cy="4848120"/>
          </a:xfrm>
        </p:grpSpPr>
        <p:grpSp>
          <p:nvGrpSpPr>
            <p:cNvPr id="178" name="Group 26"/>
            <p:cNvGrpSpPr/>
            <p:nvPr/>
          </p:nvGrpSpPr>
          <p:grpSpPr>
            <a:xfrm>
              <a:off x="2322360" y="1573200"/>
              <a:ext cx="5719680" cy="1162080"/>
              <a:chOff x="2322360" y="1573200"/>
              <a:chExt cx="5719680" cy="1162080"/>
            </a:xfrm>
          </p:grpSpPr>
          <p:sp>
            <p:nvSpPr>
              <p:cNvPr id="179" name="Text Box 27"/>
              <p:cNvSpPr/>
              <p:nvPr/>
            </p:nvSpPr>
            <p:spPr>
              <a:xfrm>
                <a:off x="2322360" y="1573200"/>
                <a:ext cx="1374480" cy="1162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6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Text Box 28"/>
              <p:cNvSpPr/>
              <p:nvPr/>
            </p:nvSpPr>
            <p:spPr>
              <a:xfrm>
                <a:off x="3769920" y="1573200"/>
                <a:ext cx="1374840" cy="1162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3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Text Box 29"/>
              <p:cNvSpPr/>
              <p:nvPr/>
            </p:nvSpPr>
            <p:spPr>
              <a:xfrm>
                <a:off x="5217840" y="1573200"/>
                <a:ext cx="137484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Text Box 30"/>
              <p:cNvSpPr/>
              <p:nvPr/>
            </p:nvSpPr>
            <p:spPr>
              <a:xfrm>
                <a:off x="6667560" y="1573200"/>
                <a:ext cx="137448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Group 31"/>
            <p:cNvGrpSpPr/>
            <p:nvPr/>
          </p:nvGrpSpPr>
          <p:grpSpPr>
            <a:xfrm>
              <a:off x="2322360" y="2800440"/>
              <a:ext cx="5719680" cy="1162080"/>
              <a:chOff x="2322360" y="2800440"/>
              <a:chExt cx="5719680" cy="1162080"/>
            </a:xfrm>
          </p:grpSpPr>
          <p:sp>
            <p:nvSpPr>
              <p:cNvPr id="184" name="Text Box 32"/>
              <p:cNvSpPr/>
              <p:nvPr/>
            </p:nvSpPr>
            <p:spPr>
              <a:xfrm>
                <a:off x="2322360" y="2800440"/>
                <a:ext cx="1374480" cy="11620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3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33"/>
              <p:cNvSpPr/>
              <p:nvPr/>
            </p:nvSpPr>
            <p:spPr>
              <a:xfrm>
                <a:off x="3769920" y="2800440"/>
                <a:ext cx="137484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34"/>
              <p:cNvSpPr/>
              <p:nvPr/>
            </p:nvSpPr>
            <p:spPr>
              <a:xfrm>
                <a:off x="5217840" y="2800440"/>
                <a:ext cx="137484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Text Box 35"/>
              <p:cNvSpPr/>
              <p:nvPr/>
            </p:nvSpPr>
            <p:spPr>
              <a:xfrm>
                <a:off x="6667560" y="2800440"/>
                <a:ext cx="137448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Group 36"/>
            <p:cNvGrpSpPr/>
            <p:nvPr/>
          </p:nvGrpSpPr>
          <p:grpSpPr>
            <a:xfrm>
              <a:off x="2322360" y="4032360"/>
              <a:ext cx="5719680" cy="1162080"/>
              <a:chOff x="2322360" y="4032360"/>
              <a:chExt cx="5719680" cy="1162080"/>
            </a:xfrm>
          </p:grpSpPr>
          <p:sp>
            <p:nvSpPr>
              <p:cNvPr id="189" name="Text Box 37"/>
              <p:cNvSpPr/>
              <p:nvPr/>
            </p:nvSpPr>
            <p:spPr>
              <a:xfrm>
                <a:off x="2322360" y="4032360"/>
                <a:ext cx="137448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38"/>
              <p:cNvSpPr/>
              <p:nvPr/>
            </p:nvSpPr>
            <p:spPr>
              <a:xfrm>
                <a:off x="3769920" y="4032360"/>
                <a:ext cx="137484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Text Box 39"/>
              <p:cNvSpPr/>
              <p:nvPr/>
            </p:nvSpPr>
            <p:spPr>
              <a:xfrm>
                <a:off x="5217840" y="4032360"/>
                <a:ext cx="137484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40"/>
              <p:cNvSpPr/>
              <p:nvPr/>
            </p:nvSpPr>
            <p:spPr>
              <a:xfrm>
                <a:off x="6667560" y="4032360"/>
                <a:ext cx="137448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41"/>
            <p:cNvGrpSpPr/>
            <p:nvPr/>
          </p:nvGrpSpPr>
          <p:grpSpPr>
            <a:xfrm>
              <a:off x="2322360" y="5259240"/>
              <a:ext cx="5719680" cy="1162080"/>
              <a:chOff x="2322360" y="5259240"/>
              <a:chExt cx="5719680" cy="1162080"/>
            </a:xfrm>
          </p:grpSpPr>
          <p:sp>
            <p:nvSpPr>
              <p:cNvPr id="194" name="Text Box 42"/>
              <p:cNvSpPr/>
              <p:nvPr/>
            </p:nvSpPr>
            <p:spPr>
              <a:xfrm>
                <a:off x="2322360" y="5259240"/>
                <a:ext cx="137448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ext Box 43"/>
              <p:cNvSpPr/>
              <p:nvPr/>
            </p:nvSpPr>
            <p:spPr>
              <a:xfrm>
                <a:off x="3769920" y="5259240"/>
                <a:ext cx="137484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44"/>
              <p:cNvSpPr/>
              <p:nvPr/>
            </p:nvSpPr>
            <p:spPr>
              <a:xfrm>
                <a:off x="5217840" y="5259240"/>
                <a:ext cx="137484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Text Box 45"/>
              <p:cNvSpPr/>
              <p:nvPr/>
            </p:nvSpPr>
            <p:spPr>
              <a:xfrm>
                <a:off x="6667200" y="5259240"/>
                <a:ext cx="137484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Text Box 46"/>
            <p:cNvSpPr/>
            <p:nvPr/>
          </p:nvSpPr>
          <p:spPr>
            <a:xfrm>
              <a:off x="2322360" y="1573200"/>
              <a:ext cx="1374840" cy="116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6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INTOLER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7"/>
            <p:cNvSpPr/>
            <p:nvPr/>
          </p:nvSpPr>
          <p:spPr>
            <a:xfrm>
              <a:off x="3770280" y="1573200"/>
              <a:ext cx="1374840" cy="11620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3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8"/>
            <p:cNvSpPr/>
            <p:nvPr/>
          </p:nvSpPr>
          <p:spPr>
            <a:xfrm>
              <a:off x="5218200" y="157320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9"/>
            <p:cNvSpPr/>
            <p:nvPr/>
          </p:nvSpPr>
          <p:spPr>
            <a:xfrm>
              <a:off x="6667560" y="157320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3770280" y="280044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52"/>
            <p:cNvSpPr/>
            <p:nvPr/>
          </p:nvSpPr>
          <p:spPr>
            <a:xfrm>
              <a:off x="5218200" y="28004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53"/>
            <p:cNvSpPr/>
            <p:nvPr/>
          </p:nvSpPr>
          <p:spPr>
            <a:xfrm>
              <a:off x="6667560" y="28004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54"/>
            <p:cNvSpPr/>
            <p:nvPr/>
          </p:nvSpPr>
          <p:spPr>
            <a:xfrm>
              <a:off x="2322360" y="403236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55"/>
            <p:cNvSpPr/>
            <p:nvPr/>
          </p:nvSpPr>
          <p:spPr>
            <a:xfrm>
              <a:off x="3770280" y="403236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56"/>
            <p:cNvSpPr/>
            <p:nvPr/>
          </p:nvSpPr>
          <p:spPr>
            <a:xfrm>
              <a:off x="5218200" y="403236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57"/>
            <p:cNvSpPr/>
            <p:nvPr/>
          </p:nvSpPr>
          <p:spPr>
            <a:xfrm>
              <a:off x="6667560" y="403236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58"/>
            <p:cNvSpPr/>
            <p:nvPr/>
          </p:nvSpPr>
          <p:spPr>
            <a:xfrm>
              <a:off x="2322360" y="52592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59"/>
            <p:cNvSpPr/>
            <p:nvPr/>
          </p:nvSpPr>
          <p:spPr>
            <a:xfrm>
              <a:off x="3770280" y="52592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60"/>
            <p:cNvSpPr/>
            <p:nvPr/>
          </p:nvSpPr>
          <p:spPr>
            <a:xfrm>
              <a:off x="5218200" y="5259240"/>
              <a:ext cx="1374840" cy="1162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61"/>
            <p:cNvSpPr/>
            <p:nvPr/>
          </p:nvSpPr>
          <p:spPr>
            <a:xfrm>
              <a:off x="6667560" y="5259240"/>
              <a:ext cx="1374840" cy="1162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67"/>
            <p:cNvSpPr/>
            <p:nvPr/>
          </p:nvSpPr>
          <p:spPr>
            <a:xfrm>
              <a:off x="2322360" y="2792520"/>
              <a:ext cx="1374840" cy="11620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3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68"/>
            <p:cNvSpPr/>
            <p:nvPr/>
          </p:nvSpPr>
          <p:spPr>
            <a:xfrm>
              <a:off x="2322360" y="403848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69"/>
            <p:cNvSpPr/>
            <p:nvPr/>
          </p:nvSpPr>
          <p:spPr>
            <a:xfrm>
              <a:off x="5218200" y="158112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70"/>
            <p:cNvSpPr/>
            <p:nvPr/>
          </p:nvSpPr>
          <p:spPr>
            <a:xfrm>
              <a:off x="2322360" y="525780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71"/>
            <p:cNvSpPr/>
            <p:nvPr/>
          </p:nvSpPr>
          <p:spPr>
            <a:xfrm>
              <a:off x="3770280" y="403848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72"/>
            <p:cNvSpPr/>
            <p:nvPr/>
          </p:nvSpPr>
          <p:spPr>
            <a:xfrm>
              <a:off x="6665760" y="158112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73"/>
            <p:cNvSpPr/>
            <p:nvPr/>
          </p:nvSpPr>
          <p:spPr>
            <a:xfrm>
              <a:off x="3772080" y="5257800"/>
              <a:ext cx="137448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74"/>
            <p:cNvSpPr/>
            <p:nvPr/>
          </p:nvSpPr>
          <p:spPr>
            <a:xfrm>
              <a:off x="5219640" y="403848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75"/>
            <p:cNvSpPr/>
            <p:nvPr/>
          </p:nvSpPr>
          <p:spPr>
            <a:xfrm>
              <a:off x="6667560" y="525132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76"/>
            <p:cNvSpPr/>
            <p:nvPr/>
          </p:nvSpPr>
          <p:spPr>
            <a:xfrm>
              <a:off x="5219640" y="525132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338"/>
          <p:cNvSpPr/>
          <p:nvPr/>
        </p:nvSpPr>
        <p:spPr>
          <a:xfrm>
            <a:off x="0" y="1352520"/>
            <a:ext cx="1504800" cy="550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7440" y="725400"/>
            <a:ext cx="872352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490760" y="1511280"/>
            <a:ext cx="7196040" cy="43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1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tender los aspectos básicos de la detección de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igr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ocer y aplicar criterios de evaluación de ries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fectuar inspecciones de seguridad en terre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ocer y aplicar Listas de Ve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7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r las instalaciones, equipos y tareas crí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ff"/>
                </a:solidFill>
                <a:latin typeface="Arial Black"/>
              </a:rPr>
              <a:t>OBJETIVO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23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REAS DE ATEN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4"/>
          <p:cNvSpPr/>
          <p:nvPr/>
        </p:nvSpPr>
        <p:spPr>
          <a:xfrm>
            <a:off x="1565280" y="2006640"/>
            <a:ext cx="29671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Orden y Limpiez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rotección de Máquina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aciones Eléctrica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Herramientas Manual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uperficies de Trabajo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ustancias Inflamabl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ustancias Peligrosa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Gases a Presió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asillos de Tránsito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5"/>
          <p:cNvSpPr/>
          <p:nvPr/>
        </p:nvSpPr>
        <p:spPr>
          <a:xfrm>
            <a:off x="5045040" y="2006640"/>
            <a:ext cx="364176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Áreas de Apilamiento de Material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eñalizaciones y Vías de Escap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Áreas de Almacenamiento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quipos Motorizado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ios Higiénicos y Baño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 y Prevención de Incendio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luminació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s de Ventila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quipos de Protección Personal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33520" y="838080"/>
            <a:ext cx="80010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CONCEPTOS DE PREVENCIÓN DE RIES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3520" y="1676520"/>
            <a:ext cx="8001000" cy="397224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PELIGRO:  Cualquier situación acto o condición, en que una pérdida 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RIESGO: Probabilidad en que un peligro se transforme en pérdida. El riesgo no se elimina, se contr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PÉRDIDA: Consecuencia de un riesgo fuera d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3"/>
          <p:cNvSpPr/>
          <p:nvPr/>
        </p:nvSpPr>
        <p:spPr>
          <a:xfrm>
            <a:off x="1565280" y="4073400"/>
            <a:ext cx="7134120" cy="855720"/>
          </a:xfrm>
          <a:custGeom>
            <a:avLst/>
            <a:gdLst>
              <a:gd name="textAreaLeft" fmla="*/ 55440 w 7134120"/>
              <a:gd name="textAreaRight" fmla="*/ 7078680 w 7134120"/>
              <a:gd name="textAreaTop" fmla="*/ 55440 h 855720"/>
              <a:gd name="textAreaBottom" fmla="*/ 800280 h 855720"/>
            </a:gdLst>
            <a:ahLst/>
            <a:rect l="textAreaLeft" t="textAreaTop" r="textAreaRight" b="textAreaBottom"/>
            <a:pathLst>
              <a:path w="180012" h="21600">
                <a:moveTo>
                  <a:pt x="0" y="0"/>
                </a:moveTo>
                <a:lnTo>
                  <a:pt x="180012" y="0"/>
                </a:lnTo>
                <a:lnTo>
                  <a:pt x="180012" y="21600"/>
                </a:lnTo>
                <a:lnTo>
                  <a:pt x="0" y="21600"/>
                </a:lnTo>
                <a:close/>
              </a:path>
              <a:path fill="lightenLess" w="180012" h="21600">
                <a:moveTo>
                  <a:pt x="0" y="0"/>
                </a:moveTo>
                <a:lnTo>
                  <a:pt x="180012" y="0"/>
                </a:lnTo>
                <a:lnTo>
                  <a:pt x="178612" y="1400"/>
                </a:lnTo>
                <a:lnTo>
                  <a:pt x="1400" y="1400"/>
                </a:lnTo>
                <a:close/>
              </a:path>
              <a:path fill="darken" w="180012" h="21600">
                <a:moveTo>
                  <a:pt x="180012" y="0"/>
                </a:moveTo>
                <a:lnTo>
                  <a:pt x="180012" y="21600"/>
                </a:lnTo>
                <a:lnTo>
                  <a:pt x="178612" y="20200"/>
                </a:lnTo>
                <a:lnTo>
                  <a:pt x="178612" y="1400"/>
                </a:lnTo>
                <a:close/>
              </a:path>
              <a:path fill="darkenLess" w="180012" h="21600">
                <a:moveTo>
                  <a:pt x="180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12" y="20200"/>
                </a:lnTo>
                <a:close/>
              </a:path>
              <a:path fill="lighten" w="180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565280" y="5176800"/>
            <a:ext cx="7134120" cy="855720"/>
          </a:xfrm>
          <a:custGeom>
            <a:avLst/>
            <a:gdLst>
              <a:gd name="textAreaLeft" fmla="*/ 55440 w 7134120"/>
              <a:gd name="textAreaRight" fmla="*/ 7078680 w 7134120"/>
              <a:gd name="textAreaTop" fmla="*/ 55440 h 855720"/>
              <a:gd name="textAreaBottom" fmla="*/ 800280 h 855720"/>
            </a:gdLst>
            <a:ahLst/>
            <a:rect l="textAreaLeft" t="textAreaTop" r="textAreaRight" b="textAreaBottom"/>
            <a:pathLst>
              <a:path w="180012" h="21600">
                <a:moveTo>
                  <a:pt x="0" y="0"/>
                </a:moveTo>
                <a:lnTo>
                  <a:pt x="180012" y="0"/>
                </a:lnTo>
                <a:lnTo>
                  <a:pt x="180012" y="21600"/>
                </a:lnTo>
                <a:lnTo>
                  <a:pt x="0" y="21600"/>
                </a:lnTo>
                <a:close/>
              </a:path>
              <a:path fill="lightenLess" w="180012" h="21600">
                <a:moveTo>
                  <a:pt x="0" y="0"/>
                </a:moveTo>
                <a:lnTo>
                  <a:pt x="180012" y="0"/>
                </a:lnTo>
                <a:lnTo>
                  <a:pt x="178612" y="1400"/>
                </a:lnTo>
                <a:lnTo>
                  <a:pt x="1400" y="1400"/>
                </a:lnTo>
                <a:close/>
              </a:path>
              <a:path fill="darken" w="180012" h="21600">
                <a:moveTo>
                  <a:pt x="180012" y="0"/>
                </a:moveTo>
                <a:lnTo>
                  <a:pt x="180012" y="21600"/>
                </a:lnTo>
                <a:lnTo>
                  <a:pt x="178612" y="20200"/>
                </a:lnTo>
                <a:lnTo>
                  <a:pt x="178612" y="1400"/>
                </a:lnTo>
                <a:close/>
              </a:path>
              <a:path fill="darkenLess" w="180012" h="21600">
                <a:moveTo>
                  <a:pt x="180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12" y="20200"/>
                </a:lnTo>
                <a:close/>
              </a:path>
              <a:path fill="lighten" w="180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565280" y="585720"/>
            <a:ext cx="7121520" cy="4921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NTENDIENDO LA CRIT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1565280" y="1604880"/>
            <a:ext cx="7134120" cy="855720"/>
          </a:xfrm>
          <a:custGeom>
            <a:avLst/>
            <a:gdLst>
              <a:gd name="textAreaLeft" fmla="*/ 55440 w 7134120"/>
              <a:gd name="textAreaRight" fmla="*/ 7078680 w 7134120"/>
              <a:gd name="textAreaTop" fmla="*/ 55440 h 855720"/>
              <a:gd name="textAreaBottom" fmla="*/ 800280 h 855720"/>
            </a:gdLst>
            <a:ahLst/>
            <a:rect l="textAreaLeft" t="textAreaTop" r="textAreaRight" b="textAreaBottom"/>
            <a:pathLst>
              <a:path w="180012" h="21600">
                <a:moveTo>
                  <a:pt x="0" y="0"/>
                </a:moveTo>
                <a:lnTo>
                  <a:pt x="180012" y="0"/>
                </a:lnTo>
                <a:lnTo>
                  <a:pt x="180012" y="21600"/>
                </a:lnTo>
                <a:lnTo>
                  <a:pt x="0" y="21600"/>
                </a:lnTo>
                <a:close/>
              </a:path>
              <a:path fill="lightenLess" w="180012" h="21600">
                <a:moveTo>
                  <a:pt x="0" y="0"/>
                </a:moveTo>
                <a:lnTo>
                  <a:pt x="180012" y="0"/>
                </a:lnTo>
                <a:lnTo>
                  <a:pt x="178612" y="1400"/>
                </a:lnTo>
                <a:lnTo>
                  <a:pt x="1400" y="1400"/>
                </a:lnTo>
                <a:close/>
              </a:path>
              <a:path fill="darken" w="180012" h="21600">
                <a:moveTo>
                  <a:pt x="180012" y="0"/>
                </a:moveTo>
                <a:lnTo>
                  <a:pt x="180012" y="21600"/>
                </a:lnTo>
                <a:lnTo>
                  <a:pt x="178612" y="20200"/>
                </a:lnTo>
                <a:lnTo>
                  <a:pt x="178612" y="1400"/>
                </a:lnTo>
                <a:close/>
              </a:path>
              <a:path fill="darkenLess" w="180012" h="21600">
                <a:moveTo>
                  <a:pt x="180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12" y="20200"/>
                </a:lnTo>
                <a:close/>
              </a:path>
              <a:path fill="lighten" w="180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657440" y="1760400"/>
            <a:ext cx="6916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ODOS LOS ACTOS INCORRECTOS Y LAS CONDICIONES INSEGURAS TIENEN EL MISMO POTENCIAL DE D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1565280" y="2703600"/>
            <a:ext cx="7134120" cy="1168200"/>
          </a:xfrm>
          <a:custGeom>
            <a:avLst/>
            <a:gdLst>
              <a:gd name="textAreaLeft" fmla="*/ 75600 w 7134120"/>
              <a:gd name="textAreaRight" fmla="*/ 7058520 w 7134120"/>
              <a:gd name="textAreaTop" fmla="*/ 75600 h 1168200"/>
              <a:gd name="textAreaBottom" fmla="*/ 1092600 h 1168200"/>
            </a:gdLst>
            <a:ahLst/>
            <a:rect l="textAreaLeft" t="textAreaTop" r="textAreaRight" b="textAreaBottom"/>
            <a:pathLst>
              <a:path w="131876" h="21600">
                <a:moveTo>
                  <a:pt x="0" y="0"/>
                </a:moveTo>
                <a:lnTo>
                  <a:pt x="131876" y="0"/>
                </a:lnTo>
                <a:lnTo>
                  <a:pt x="131876" y="21600"/>
                </a:lnTo>
                <a:lnTo>
                  <a:pt x="0" y="21600"/>
                </a:lnTo>
                <a:close/>
              </a:path>
              <a:path fill="lightenLess" w="131876" h="21600">
                <a:moveTo>
                  <a:pt x="0" y="0"/>
                </a:moveTo>
                <a:lnTo>
                  <a:pt x="131876" y="0"/>
                </a:lnTo>
                <a:lnTo>
                  <a:pt x="130476" y="1400"/>
                </a:lnTo>
                <a:lnTo>
                  <a:pt x="1400" y="1400"/>
                </a:lnTo>
                <a:close/>
              </a:path>
              <a:path fill="darken" w="131876" h="21600">
                <a:moveTo>
                  <a:pt x="131876" y="0"/>
                </a:moveTo>
                <a:lnTo>
                  <a:pt x="131876" y="21600"/>
                </a:lnTo>
                <a:lnTo>
                  <a:pt x="130476" y="20200"/>
                </a:lnTo>
                <a:lnTo>
                  <a:pt x="130476" y="1400"/>
                </a:lnTo>
                <a:close/>
              </a:path>
              <a:path fill="darkenLess" w="131876" h="21600">
                <a:moveTo>
                  <a:pt x="131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476" y="20200"/>
                </a:lnTo>
                <a:close/>
              </a:path>
              <a:path fill="lighten" w="131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1657440" y="2860560"/>
            <a:ext cx="6916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VIAMENTE DEBEMOS CENTRAR PRIORITARIAMENTE NUESTROS ESFUERZOS EN AQUELLOS ACTOS Y CONDICIONES QUE TIENEN MAYOR POTENCIAL DE DA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1657440" y="4211640"/>
            <a:ext cx="6916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ACTOS Y CONDICIONES QUE TIENEN MAYOR POTENCIAL DE DAÑO SE DEFINEN COMO CRITIC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1657440" y="5316480"/>
            <a:ext cx="6916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ACTOS Y CONDICIONES CRITICOS PRODUCEN ACCIDENTES GRAVES Y FAT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454040" y="16668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Arial Black"/>
              </a:rPr>
              <a:t>INSTALACIONES Y EQUIPOS CRITIC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330200" y="987480"/>
            <a:ext cx="7191360" cy="51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aciones eléctric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Laboratori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alderas y generadores de vapo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Almacenamientos de productos inflamabl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Montacargas y ascensor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Grú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Hornos de fundició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aciones de gas licuad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amiones para transporte de líquidos y gases inflamabl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Equipos  de radiaciones ionizant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Plantas químic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Puntos de operación y partes móviles de maquinarias y equip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565280" y="204840"/>
            <a:ext cx="7121520" cy="4921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TAREAS Y ACCIONES CRITIC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1603440" y="1312920"/>
            <a:ext cx="4297320" cy="501480"/>
            <a:chOff x="1603440" y="1312920"/>
            <a:chExt cx="4297320" cy="501480"/>
          </a:xfrm>
        </p:grpSpPr>
        <p:sp>
          <p:nvSpPr>
            <p:cNvPr id="73" name="Rectangle 5"/>
            <p:cNvSpPr/>
            <p:nvPr/>
          </p:nvSpPr>
          <p:spPr>
            <a:xfrm>
              <a:off x="1603440" y="1312920"/>
              <a:ext cx="4297320" cy="501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6"/>
            <p:cNvSpPr/>
            <p:nvPr/>
          </p:nvSpPr>
          <p:spPr>
            <a:xfrm>
              <a:off x="1611360" y="1371600"/>
              <a:ext cx="40273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tre las tareas críticas tenemos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7"/>
          <p:cNvSpPr/>
          <p:nvPr/>
        </p:nvSpPr>
        <p:spPr>
          <a:xfrm>
            <a:off x="1521000" y="2090880"/>
            <a:ext cx="7412040" cy="34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s en al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en circuitos eléctr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eraciones de corte y soldad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eración de calde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rga y descarga de gases inflam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rga y descarga de líquidos inflam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ipulación de recipientes menores con líquidos inflam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ipulación de sustancias químicas reactiv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ón de vehícu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1565280" y="585720"/>
            <a:ext cx="7121520" cy="4921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TAREAS Y ACCIONES CRITIC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Group 8"/>
          <p:cNvGrpSpPr/>
          <p:nvPr/>
        </p:nvGrpSpPr>
        <p:grpSpPr>
          <a:xfrm>
            <a:off x="1565280" y="1504800"/>
            <a:ext cx="4357800" cy="501480"/>
            <a:chOff x="1565280" y="1504800"/>
            <a:chExt cx="4357800" cy="501480"/>
          </a:xfrm>
        </p:grpSpPr>
        <p:sp>
          <p:nvSpPr>
            <p:cNvPr id="78" name="Rectangle 9"/>
            <p:cNvSpPr/>
            <p:nvPr/>
          </p:nvSpPr>
          <p:spPr>
            <a:xfrm>
              <a:off x="1565280" y="1504800"/>
              <a:ext cx="4297320" cy="501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0"/>
            <p:cNvSpPr/>
            <p:nvPr/>
          </p:nvSpPr>
          <p:spPr>
            <a:xfrm>
              <a:off x="1572840" y="1563480"/>
              <a:ext cx="43502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tre las acciones críticas tenemos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Rectangle 11"/>
          <p:cNvSpPr/>
          <p:nvPr/>
        </p:nvSpPr>
        <p:spPr>
          <a:xfrm>
            <a:off x="1495440" y="2265480"/>
            <a:ext cx="71913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ar en altura sin usar cuerda de vida y cinturón 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segurida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ir grúa-horquilla a exceso de velocida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Manipular inadecuadamente líquidos inflamabl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Manipular inadecuadamente líquidos corrosivos o calient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Fumar en lugares prohibid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r equipo eléctrico sin autorizació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r o lubricar equipos en movimient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ir las manos en puntos de operación de máquinas e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movimient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Usar personal es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eo en el trabaj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/>
          <p:cNvSpPr/>
          <p:nvPr/>
        </p:nvSpPr>
        <p:spPr>
          <a:xfrm>
            <a:off x="965160" y="2327400"/>
            <a:ext cx="7337520" cy="3673440"/>
          </a:xfrm>
          <a:custGeom>
            <a:avLst/>
            <a:gdLst>
              <a:gd name="textAreaLeft" fmla="*/ 237960 w 7337520"/>
              <a:gd name="textAreaRight" fmla="*/ 7099560 w 7337520"/>
              <a:gd name="textAreaTop" fmla="*/ 237960 h 3673440"/>
              <a:gd name="textAreaBottom" fmla="*/ 3435480 h 3673440"/>
            </a:gdLst>
            <a:ahLst/>
            <a:rect l="textAreaLeft" t="textAreaTop" r="textAreaRight" b="textAreaBottom"/>
            <a:pathLst>
              <a:path w="43143" h="21600">
                <a:moveTo>
                  <a:pt x="0" y="0"/>
                </a:moveTo>
                <a:lnTo>
                  <a:pt x="43143" y="0"/>
                </a:lnTo>
                <a:lnTo>
                  <a:pt x="43143" y="21600"/>
                </a:lnTo>
                <a:lnTo>
                  <a:pt x="0" y="21600"/>
                </a:lnTo>
                <a:close/>
              </a:path>
              <a:path fill="lightenLess" w="43143" h="21600">
                <a:moveTo>
                  <a:pt x="0" y="0"/>
                </a:moveTo>
                <a:lnTo>
                  <a:pt x="43143" y="0"/>
                </a:lnTo>
                <a:lnTo>
                  <a:pt x="41743" y="1400"/>
                </a:lnTo>
                <a:lnTo>
                  <a:pt x="1400" y="1400"/>
                </a:lnTo>
                <a:close/>
              </a:path>
              <a:path fill="darken" w="43143" h="21600">
                <a:moveTo>
                  <a:pt x="43143" y="0"/>
                </a:moveTo>
                <a:lnTo>
                  <a:pt x="43143" y="21600"/>
                </a:lnTo>
                <a:lnTo>
                  <a:pt x="41743" y="20200"/>
                </a:lnTo>
                <a:lnTo>
                  <a:pt x="41743" y="1400"/>
                </a:lnTo>
                <a:close/>
              </a:path>
              <a:path fill="darkenLess" w="43143" h="21600">
                <a:moveTo>
                  <a:pt x="43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3" y="20200"/>
                </a:lnTo>
                <a:close/>
              </a:path>
              <a:path fill="lighten" w="43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f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165320" y="738360"/>
            <a:ext cx="7369200" cy="78084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PASOS PARA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A ELABORACIÓN DE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INFORME DE DETECCIÓN DE 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565280" y="2685960"/>
            <a:ext cx="628956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3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r los pelig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3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r el riesgo. Calcular la magnitud de riesgo para fijar prior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3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ción de medidas d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3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ignación de responsabilidades y plazos de cumpl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17:34:20Z</dcterms:created>
  <dc:creator>Víctor M. Córdova P.</dc:creator>
  <dc:description/>
  <dc:language>en-US</dc:language>
  <cp:lastModifiedBy>WinuE</cp:lastModifiedBy>
  <cp:lastPrinted>2001-12-18T18:30:03Z</cp:lastPrinted>
  <dcterms:modified xsi:type="dcterms:W3CDTF">2012-01-01T23:03:16Z</dcterms:modified>
  <cp:revision>735</cp:revision>
  <dc:subject/>
  <dc:title>Ergonomía y Autocuidado en el puesto de trabajo   (Aplicación al trabajo de periodistas frente a PC)</dc:title>
</cp:coreProperties>
</file>