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AEC-D3AB-4E7A-ACF2-EDC9D0D254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63D-3F77-48F1-952D-8B7DA6B93A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B133-7379-4E4F-AA32-31E09464E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B358-B8B5-4350-86D9-182B0CEC2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62B1-C27F-4ABE-B598-88DDFE94A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E523-B7E1-45AE-94DC-3CFE2A8EC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790F-21A2-4A6D-874A-EA66BA43B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E8E1-6182-4786-9128-2BCA07258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E784-ADE7-4570-84F6-17A7AD1AC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8A6E-19F5-4064-A3A1-D0E1DE0C8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5F6B-107D-48BF-B785-353AE5C6C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3C4C-BC9E-48FD-99F4-C9933CA1F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4853-2ACA-4C49-90F5-30BFC3289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AEFC-BFA3-480B-81EF-A3B62EDCA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96969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DCF-2338-47E1-8AE8-A51B3AE8DDD8}" type="slidenum">
              <a:rPr b="0" lang="es-ES_tradnl" sz="2400" spc="-1" strike="noStrike">
                <a:solidFill>
                  <a:srgbClr val="96969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8458200" y="6324480"/>
            <a:ext cx="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990720"/>
            <a:ext cx="1066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GERENCI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EV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0" y="5943600"/>
            <a:ext cx="1066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BGERENCIA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PACITACION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A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7"/>
          <p:cNvSpPr/>
          <p:nvPr/>
        </p:nvSpPr>
        <p:spPr>
          <a:xfrm>
            <a:off x="1428840" y="147600"/>
            <a:ext cx="7391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A  s  o  c  i  a  c  i  ó  n    C  h  i  l  e  n  a    d e    S  e  g  u  r  i  d  a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8" descr=""/>
          <p:cNvPicPr/>
          <p:nvPr/>
        </p:nvPicPr>
        <p:blipFill>
          <a:blip r:embed="rId2"/>
          <a:stretch/>
        </p:blipFill>
        <p:spPr>
          <a:xfrm>
            <a:off x="10800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WordArt 19"/>
          <p:cNvSpPr txBox="1"/>
          <p:nvPr/>
        </p:nvSpPr>
        <p:spPr>
          <a:xfrm rot="16200000">
            <a:off x="-1488960" y="3244680"/>
            <a:ext cx="403560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Taller C.C.C.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3"/>
          <p:cNvSpPr/>
          <p:nvPr/>
        </p:nvSpPr>
        <p:spPr>
          <a:xfrm>
            <a:off x="384120" y="1233360"/>
            <a:ext cx="4732560" cy="2583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5"/>
          <p:cNvSpPr/>
          <p:nvPr/>
        </p:nvSpPr>
        <p:spPr>
          <a:xfrm>
            <a:off x="922320" y="2448000"/>
            <a:ext cx="7764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TÉCNICAS DE DETECCI</a:t>
            </a:r>
            <a:r>
              <a:rPr b="1" lang="en-US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Ó</a:t>
            </a: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N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DE PELIGR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8"/>
          <p:cNvGrpSpPr/>
          <p:nvPr/>
        </p:nvGrpSpPr>
        <p:grpSpPr>
          <a:xfrm>
            <a:off x="1473120" y="314280"/>
            <a:ext cx="6448680" cy="5578200"/>
            <a:chOff x="1473120" y="314280"/>
            <a:chExt cx="6448680" cy="5578200"/>
          </a:xfrm>
        </p:grpSpPr>
        <p:sp>
          <p:nvSpPr>
            <p:cNvPr id="85" name="AutoShape 3"/>
            <p:cNvSpPr/>
            <p:nvPr/>
          </p:nvSpPr>
          <p:spPr>
            <a:xfrm>
              <a:off x="1473120" y="314280"/>
              <a:ext cx="6448680" cy="5578200"/>
            </a:xfrm>
            <a:custGeom>
              <a:avLst/>
              <a:gdLst>
                <a:gd name="textAreaLeft" fmla="*/ 361440 w 6448680"/>
                <a:gd name="textAreaRight" fmla="*/ 6087240 w 6448680"/>
                <a:gd name="textAreaTop" fmla="*/ 361440 h 5578200"/>
                <a:gd name="textAreaBottom" fmla="*/ 521676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571" y="1400"/>
                  </a:lnTo>
                  <a:lnTo>
                    <a:pt x="1400" y="1400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571" y="20200"/>
                  </a:lnTo>
                  <a:lnTo>
                    <a:pt x="23571" y="1400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571" y="20200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2465280" y="594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2680920" y="535320"/>
              <a:ext cx="4114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NCIDENTES POTENCIAL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1755720" y="1087560"/>
              <a:ext cx="5931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254160" y="358920"/>
            <a:ext cx="8680320" cy="5083200"/>
          </a:xfrm>
          <a:custGeom>
            <a:avLst/>
            <a:gdLst>
              <a:gd name="textAreaLeft" fmla="*/ 329400 w 8680320"/>
              <a:gd name="textAreaRight" fmla="*/ 8350920 w 8680320"/>
              <a:gd name="textAreaTop" fmla="*/ 329400 h 5083200"/>
              <a:gd name="textAreaBottom" fmla="*/ 475380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484" y="1400"/>
                </a:lnTo>
                <a:lnTo>
                  <a:pt x="1400" y="1400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484" y="20200"/>
                </a:lnTo>
                <a:lnTo>
                  <a:pt x="35484" y="1400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84" y="20200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880920" y="80496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109520" y="7509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TES POT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63480" y="113976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995720" y="82404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915880" y="7700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102280" y="12351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22200" y="166680"/>
            <a:ext cx="712188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272880" y="1095480"/>
            <a:ext cx="8623440" cy="5083200"/>
          </a:xfrm>
          <a:custGeom>
            <a:avLst/>
            <a:gdLst>
              <a:gd name="textAreaLeft" fmla="*/ 329400 w 8623440"/>
              <a:gd name="textAreaRight" fmla="*/ 8294040 w 8623440"/>
              <a:gd name="textAreaTop" fmla="*/ 329400 h 5083200"/>
              <a:gd name="textAreaBottom" fmla="*/ 4753800 h 5083200"/>
            </a:gdLst>
            <a:ahLst/>
            <a:rect l="textAreaLeft" t="textAreaTop" r="textAreaRight" b="textAreaBottom"/>
            <a:pathLst>
              <a:path w="36642" h="21600">
                <a:moveTo>
                  <a:pt x="0" y="0"/>
                </a:moveTo>
                <a:lnTo>
                  <a:pt x="36642" y="0"/>
                </a:lnTo>
                <a:lnTo>
                  <a:pt x="36642" y="21600"/>
                </a:lnTo>
                <a:lnTo>
                  <a:pt x="0" y="21600"/>
                </a:lnTo>
                <a:close/>
              </a:path>
              <a:path fill="lightenLess" w="36642" h="21600">
                <a:moveTo>
                  <a:pt x="0" y="0"/>
                </a:moveTo>
                <a:lnTo>
                  <a:pt x="36642" y="0"/>
                </a:lnTo>
                <a:lnTo>
                  <a:pt x="35243" y="1400"/>
                </a:lnTo>
                <a:lnTo>
                  <a:pt x="1400" y="1400"/>
                </a:lnTo>
                <a:close/>
              </a:path>
              <a:path fill="darken" w="36642" h="21600">
                <a:moveTo>
                  <a:pt x="36642" y="0"/>
                </a:moveTo>
                <a:lnTo>
                  <a:pt x="36642" y="21600"/>
                </a:lnTo>
                <a:lnTo>
                  <a:pt x="35243" y="20200"/>
                </a:lnTo>
                <a:lnTo>
                  <a:pt x="35243" y="1400"/>
                </a:lnTo>
                <a:close/>
              </a:path>
              <a:path fill="darkenLess" w="36642" h="21600">
                <a:moveTo>
                  <a:pt x="3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43" y="20200"/>
                </a:lnTo>
                <a:close/>
              </a:path>
              <a:path fill="lighten" w="3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80920" y="135108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15560" y="1278000"/>
            <a:ext cx="331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tes potencia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63480" y="1914480"/>
            <a:ext cx="4461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995720" y="137016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679720" y="1316160"/>
            <a:ext cx="2328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secuenci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2280" y="1895400"/>
            <a:ext cx="335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833480" y="17845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146240" y="41436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401920" y="213048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9" name="Line 6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5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3306600"/>
            <a:ext cx="4124520" cy="34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6240" y="340668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8920" y="3406680"/>
            <a:ext cx="99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secuenc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6480" y="38242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9160" y="382752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tastróf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66480" y="431964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59520" y="43210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6480" y="481320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59520" y="481644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66480" y="53085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59520" y="5310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7640" y="4761000"/>
            <a:ext cx="227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apacidad temporal con días perdi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4440" y="5280120"/>
            <a:ext cx="147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esión sin tiempo perdi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76600" y="34005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ignifi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98920" y="3865680"/>
            <a:ext cx="23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erte y/o Incapacidad permanente to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1680" y="4354560"/>
            <a:ext cx="18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apacidad permanente parci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1840" y="3301920"/>
            <a:ext cx="0" cy="233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1840" y="3301920"/>
            <a:ext cx="12600" cy="233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2928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928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644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644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6312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6312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330192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4440" y="330192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54440" y="364500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440" y="364500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4440" y="413856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413856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54440" y="463392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463392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4440" y="512748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54440" y="512748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4440" y="562284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54440" y="562284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54" name="Text Box 6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10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61" name="Text Box 13"/>
            <p:cNvSpPr/>
            <p:nvPr/>
          </p:nvSpPr>
          <p:spPr>
            <a:xfrm rot="16200000">
              <a:off x="1407600" y="1920960"/>
              <a:ext cx="116208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 rot="16200000">
              <a:off x="1407240" y="314892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 rot="16200000">
              <a:off x="1407240" y="438048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 rot="16200000">
              <a:off x="1393560" y="560736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66" name="Text Box 18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1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22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62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73" name="Text Box 63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64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65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6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7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78" name="Group 26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79" name="Text Box 27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8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29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31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84" name="Text Box 32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33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34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35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36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89" name="Text Box 37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38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39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40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1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94" name="Text Box 42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43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44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45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Text Box 46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7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8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9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2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3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4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5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6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57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58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59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60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61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7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68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69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0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71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72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73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74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5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76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38"/>
          <p:cNvSpPr/>
          <p:nvPr/>
        </p:nvSpPr>
        <p:spPr>
          <a:xfrm>
            <a:off x="0" y="1352520"/>
            <a:ext cx="15048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7440" y="725400"/>
            <a:ext cx="87235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90760" y="1511280"/>
            <a:ext cx="719604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los aspectos básicos de la detección de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g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aplicar criterios de evaluación de ries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ctuar inspecciones de seguridad en terr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ocer y aplicar Listas de 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7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as instalaciones, equipos y tareas crí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23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4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5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CEPTOS DE PREVENCIÓN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676520"/>
            <a:ext cx="8001000" cy="397224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ELIGRO:  Cualquier situación acto o condición, en que una pérdida 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RIESGO: Probabilidad en que un peligro se transforme en pérdida. El riesgo no se elimina, se contr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ÉRDIDA: Consecuencia de un riesgo fuera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>
            <a:off x="1565280" y="407340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65280" y="517680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565280" y="58572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TENDIENDO LA CRIT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565280" y="160488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657440" y="176040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ACTOS INCORRECTOS Y LAS CONDICIONES INSEGURAS TIENEN EL MISMO POTENCIAL DE D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65280" y="2703600"/>
            <a:ext cx="7134120" cy="1168200"/>
          </a:xfrm>
          <a:custGeom>
            <a:avLst/>
            <a:gdLst>
              <a:gd name="textAreaLeft" fmla="*/ 75600 w 7134120"/>
              <a:gd name="textAreaRight" fmla="*/ 7058520 w 71341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131876" h="21600">
                <a:moveTo>
                  <a:pt x="0" y="0"/>
                </a:moveTo>
                <a:lnTo>
                  <a:pt x="131876" y="0"/>
                </a:lnTo>
                <a:lnTo>
                  <a:pt x="131876" y="21600"/>
                </a:lnTo>
                <a:lnTo>
                  <a:pt x="0" y="21600"/>
                </a:lnTo>
                <a:close/>
              </a:path>
              <a:path fill="lightenLess" w="131876" h="21600">
                <a:moveTo>
                  <a:pt x="0" y="0"/>
                </a:moveTo>
                <a:lnTo>
                  <a:pt x="131876" y="0"/>
                </a:lnTo>
                <a:lnTo>
                  <a:pt x="130476" y="1400"/>
                </a:lnTo>
                <a:lnTo>
                  <a:pt x="1400" y="1400"/>
                </a:lnTo>
                <a:close/>
              </a:path>
              <a:path fill="darken" w="131876" h="21600">
                <a:moveTo>
                  <a:pt x="131876" y="0"/>
                </a:moveTo>
                <a:lnTo>
                  <a:pt x="131876" y="21600"/>
                </a:lnTo>
                <a:lnTo>
                  <a:pt x="130476" y="20200"/>
                </a:lnTo>
                <a:lnTo>
                  <a:pt x="130476" y="1400"/>
                </a:lnTo>
                <a:close/>
              </a:path>
              <a:path fill="darkenLess" w="131876" h="21600">
                <a:moveTo>
                  <a:pt x="13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476" y="20200"/>
                </a:lnTo>
                <a:close/>
              </a:path>
              <a:path fill="lighten" w="13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657440" y="2860560"/>
            <a:ext cx="691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AMENTE DEBEMOS CENTRAR PRIORITARIAMENTE NUESTROS ESFUERZOS EN AQUELLOS ACTOS Y CONDICIONES QUE TIENEN MAYOR POTENCIAL DE DA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657440" y="421164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CTOS Y CONDICIONES QUE TIENEN MAYOR POTENCIAL DE DAÑO SE DEFINEN COMO CRIT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657440" y="531648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ACTOS Y CONDICIONES CRITICOS PRODUCEN ACCIDENTES GRAVES Y FAT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54040" y="16668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Black"/>
              </a:rPr>
              <a:t>INSTALACIONES Y EQUIPOS CRI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30200" y="987480"/>
            <a:ext cx="719136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eléctr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i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lderas y generadores de vap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lmacenamientos de producto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ntacargas y ascensor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rú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Hornos de fundi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de gas licua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miones para transporte de líquidos y gase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 de radiaciones ioniza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lantas quím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untos de operación y partes móviles de maquinarias y equip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65280" y="20484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AREAS Y ACCIONES CRI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1603440" y="1312920"/>
            <a:ext cx="4297320" cy="501480"/>
            <a:chOff x="1603440" y="1312920"/>
            <a:chExt cx="4297320" cy="501480"/>
          </a:xfrm>
        </p:grpSpPr>
        <p:sp>
          <p:nvSpPr>
            <p:cNvPr id="73" name="Rectangle 5"/>
            <p:cNvSpPr/>
            <p:nvPr/>
          </p:nvSpPr>
          <p:spPr>
            <a:xfrm>
              <a:off x="1603440" y="1312920"/>
              <a:ext cx="4297320" cy="50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1611360" y="1371600"/>
              <a:ext cx="4027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 las tareas críticas tenemo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7"/>
          <p:cNvSpPr/>
          <p:nvPr/>
        </p:nvSpPr>
        <p:spPr>
          <a:xfrm>
            <a:off x="1521000" y="2090880"/>
            <a:ext cx="741204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s en a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n circuitos eléctr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 de corte y soldad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ón de calde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ga y descarga de gase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ga y descarga de líquido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recipientes menores con líquido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sustancias químicas reac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ón de vehíc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1565280" y="58572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AREAS Y ACCIONES CRI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565280" y="1504800"/>
            <a:ext cx="4357800" cy="501480"/>
            <a:chOff x="1565280" y="1504800"/>
            <a:chExt cx="4357800" cy="501480"/>
          </a:xfrm>
        </p:grpSpPr>
        <p:sp>
          <p:nvSpPr>
            <p:cNvPr id="78" name="Rectangle 9"/>
            <p:cNvSpPr/>
            <p:nvPr/>
          </p:nvSpPr>
          <p:spPr>
            <a:xfrm>
              <a:off x="1565280" y="1504800"/>
              <a:ext cx="4297320" cy="50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1572840" y="1563480"/>
              <a:ext cx="4350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 las acciones críticas tenemo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Rectangle 11"/>
          <p:cNvSpPr/>
          <p:nvPr/>
        </p:nvSpPr>
        <p:spPr>
          <a:xfrm>
            <a:off x="1495440" y="2265480"/>
            <a:ext cx="71913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r en altura sin usar cuerda de vida y cinturón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gur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ir grúa-horquilla a exceso de veloc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inadecuadamente líquido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inadecuadamente líquidos corrosivos o calie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umar en lugares prohibi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r equipo eléctrico sin autoriz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r o lubricar equipos en movimien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r las manos en puntos de operación de máquinas 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vimient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Usar personal es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o en el trabaj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965160" y="2327400"/>
            <a:ext cx="7337520" cy="3673440"/>
          </a:xfrm>
          <a:custGeom>
            <a:avLst/>
            <a:gdLst>
              <a:gd name="textAreaLeft" fmla="*/ 237960 w 7337520"/>
              <a:gd name="textAreaRight" fmla="*/ 7099560 w 7337520"/>
              <a:gd name="textAreaTop" fmla="*/ 237960 h 3673440"/>
              <a:gd name="textAreaBottom" fmla="*/ 3435480 h 3673440"/>
            </a:gdLst>
            <a:ahLst/>
            <a:rect l="textAreaLeft" t="textAreaTop" r="textAreaRight" b="textAreaBottom"/>
            <a:pathLst>
              <a:path w="43143" h="21600">
                <a:moveTo>
                  <a:pt x="0" y="0"/>
                </a:moveTo>
                <a:lnTo>
                  <a:pt x="43143" y="0"/>
                </a:lnTo>
                <a:lnTo>
                  <a:pt x="43143" y="21600"/>
                </a:lnTo>
                <a:lnTo>
                  <a:pt x="0" y="21600"/>
                </a:lnTo>
                <a:close/>
              </a:path>
              <a:path fill="lightenLess" w="43143" h="21600">
                <a:moveTo>
                  <a:pt x="0" y="0"/>
                </a:moveTo>
                <a:lnTo>
                  <a:pt x="43143" y="0"/>
                </a:lnTo>
                <a:lnTo>
                  <a:pt x="41743" y="1400"/>
                </a:lnTo>
                <a:lnTo>
                  <a:pt x="1400" y="1400"/>
                </a:lnTo>
                <a:close/>
              </a:path>
              <a:path fill="darken" w="43143" h="21600">
                <a:moveTo>
                  <a:pt x="43143" y="0"/>
                </a:moveTo>
                <a:lnTo>
                  <a:pt x="43143" y="21600"/>
                </a:lnTo>
                <a:lnTo>
                  <a:pt x="41743" y="20200"/>
                </a:lnTo>
                <a:lnTo>
                  <a:pt x="41743" y="1400"/>
                </a:lnTo>
                <a:close/>
              </a:path>
              <a:path fill="darkenLess" w="43143" h="21600">
                <a:moveTo>
                  <a:pt x="43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3" y="20200"/>
                </a:lnTo>
                <a:close/>
              </a:path>
              <a:path fill="lighten" w="43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165320" y="738360"/>
            <a:ext cx="7369200" cy="7808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ASOS PARA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 ELABORACIÓN DE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NFORME DE DETECCIÓN DE 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65280" y="2685960"/>
            <a:ext cx="62895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os pelig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 el riesgo. Calcular la magnitud de riesgo para fijar prio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ción de medida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ignación de responsabilidades y plazos de cumpl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7:34:20Z</dcterms:created>
  <dc:creator>Víctor M. Córdova P.</dc:creator>
  <dc:description/>
  <dc:language>en-US</dc:language>
  <cp:lastModifiedBy>WinuE</cp:lastModifiedBy>
  <cp:lastPrinted>2001-12-18T18:30:03Z</cp:lastPrinted>
  <dcterms:modified xsi:type="dcterms:W3CDTF">2012-01-01T23:03:16Z</dcterms:modified>
  <cp:revision>735</cp:revision>
  <dc:subject/>
  <dc:title>Ergonomía y Autocuidado en el puesto de trabajo   (Aplicación al trabajo de periodistas frente a PC)</dc:title>
</cp:coreProperties>
</file>