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732-7E09-45FD-BE2A-47314510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551-1BD1-4E29-A4FB-29D6AC57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DE8B-FD69-4333-86E4-52BFA96A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464B-B052-4D06-A357-4AC7FCD3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62E-D64E-4FDB-87CE-4716CF7D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4D97-8F52-4504-AD98-0826DDB3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8051-5B52-496E-9382-30AE44CE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A7C-C774-4437-96DE-B537F695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D581-B7BB-4F2F-886A-79022A11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F8E-FA3D-4DCB-8CA5-B10BDED1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B2C5-9ADA-4BA3-8ADC-EBBEBF8C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CA88-8472-44CE-846D-CD51F3E7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60D6-4A92-42A7-B64D-913F0365958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143000"/>
          <a:ext cx="8229600" cy="43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22960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57320" y="466560"/>
          <a:ext cx="8829360" cy="592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466560"/>
                    <a:ext cx="8829360" cy="592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95200" y="552600"/>
          <a:ext cx="8553600" cy="57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552600"/>
                    <a:ext cx="8553600" cy="57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8600" y="504720"/>
          <a:ext cx="8686800" cy="584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04720"/>
                    <a:ext cx="8686800" cy="58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547640"/>
            <a:ext cx="731520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04920" y="52560"/>
          <a:ext cx="8534160" cy="67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2560"/>
                    <a:ext cx="8534160" cy="67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9144000" cy="67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7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28600" y="485640"/>
          <a:ext cx="8686800" cy="588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85640"/>
                    <a:ext cx="8686800" cy="58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09440" y="528480"/>
          <a:ext cx="8925120" cy="580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440" y="528480"/>
                    <a:ext cx="8925120" cy="58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9144000" cy="639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9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5680" y="2500200"/>
          <a:ext cx="897264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2500200"/>
                    <a:ext cx="897264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44360" y="628560"/>
          <a:ext cx="8859960" cy="56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628560"/>
                    <a:ext cx="885996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90440" y="547560"/>
          <a:ext cx="8763120" cy="576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547560"/>
                    <a:ext cx="8763120" cy="57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28600" y="306360"/>
          <a:ext cx="8610480" cy="61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6360"/>
                    <a:ext cx="8610480" cy="61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6600" y="266760"/>
          <a:ext cx="90108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266760"/>
                    <a:ext cx="90108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0880" y="555480"/>
          <a:ext cx="8458200" cy="579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55480"/>
                    <a:ext cx="845820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28600" y="2281320"/>
          <a:ext cx="868680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1320"/>
                    <a:ext cx="868680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14280" y="609480"/>
          <a:ext cx="8829720" cy="47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609480"/>
                    <a:ext cx="8829720" cy="47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0T00:52:50Z</dcterms:created>
  <dc:creator>mas500_98</dc:creator>
  <dc:description/>
  <dc:language>en-US</dc:language>
  <cp:lastModifiedBy>WinuE</cp:lastModifiedBy>
  <dcterms:modified xsi:type="dcterms:W3CDTF">2011-11-28T01:59:35Z</dcterms:modified>
  <cp:revision>9</cp:revision>
  <dc:subject/>
  <dc:title>Presentación de PowerPoint</dc:title>
</cp:coreProperties>
</file>