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8FF-D4B8-4F92-8E47-72A3311B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DD2-ECBF-49EA-9AA7-963BD8EA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6EF-AEB8-4F63-AF83-CE62E1D6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5E4-9421-47CF-8DD9-65AE8A16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6E5-F831-4D32-ADE8-D022CC2F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C22-F89A-4138-89F9-4344D808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B57-A008-4F8C-ACC2-65B16DE8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BB0-B51E-4F6A-AB00-8757557C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DA7-B28F-4ECA-AE27-0CDAB33D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D93-BC0F-4FEB-9F2C-BC4C2227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B6F-F19E-4CB1-B65D-76F4919D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D89-D6A6-490D-A14E-5F69E127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4DB7-81A3-4D4F-AD72-FDEEC93C7D5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143000"/>
          <a:ext cx="822960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2296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7320" y="466560"/>
          <a:ext cx="8829360" cy="592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466560"/>
                    <a:ext cx="8829360" cy="592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95200" y="552600"/>
          <a:ext cx="8553600" cy="57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552600"/>
                    <a:ext cx="855360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8600" y="504720"/>
          <a:ext cx="8686800" cy="58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4720"/>
                    <a:ext cx="86868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547640"/>
            <a:ext cx="731520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2560"/>
          <a:ext cx="8534160" cy="67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2560"/>
                    <a:ext cx="85341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7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28600" y="485640"/>
          <a:ext cx="868680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85640"/>
                    <a:ext cx="868680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9440" y="528480"/>
          <a:ext cx="8925120" cy="58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528480"/>
                    <a:ext cx="8925120" cy="58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39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680" y="2500200"/>
          <a:ext cx="897264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2500200"/>
                    <a:ext cx="897264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4360" y="628560"/>
          <a:ext cx="8859960" cy="56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628560"/>
                    <a:ext cx="885996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90440" y="547560"/>
          <a:ext cx="8763120" cy="576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47560"/>
                    <a:ext cx="876312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306360"/>
          <a:ext cx="8610480" cy="61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6360"/>
                    <a:ext cx="8610480" cy="61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600" y="266760"/>
          <a:ext cx="9010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266760"/>
                    <a:ext cx="9010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555480"/>
          <a:ext cx="8458200" cy="579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55480"/>
                    <a:ext cx="845820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2281320"/>
          <a:ext cx="868680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1320"/>
                    <a:ext cx="86868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14280" y="609480"/>
          <a:ext cx="88297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609480"/>
                    <a:ext cx="88297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00:52:50Z</dcterms:created>
  <dc:creator>mas500_98</dc:creator>
  <dc:description/>
  <dc:language>en-US</dc:language>
  <cp:lastModifiedBy>WinuE</cp:lastModifiedBy>
  <dcterms:modified xsi:type="dcterms:W3CDTF">2011-11-28T01:59:35Z</dcterms:modified>
  <cp:revision>9</cp:revision>
  <dc:subject/>
  <dc:title>Presentación de PowerPoint</dc:title>
</cp:coreProperties>
</file>