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E9E7-AF8A-4D51-B7E7-54F58CDC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3E3B-E742-44A0-9B94-EFEAC932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3956-4D5B-4AA7-B823-370AC584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6D61-85FD-4F13-A55D-F2C0579F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200E-9CBE-4C53-AFD4-5A24E356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E2E5-7FAF-4E4B-B1D1-37F99146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382A-DE03-400D-BF42-406C704D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C2BF-78C1-47F8-B70D-4BEB19E4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C81B-A709-4CF7-A2CB-24D54ECF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763-00CA-4C66-BFF3-C90BA18D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EED8-3C8D-4D49-8553-8F1F6FBA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A40B-638C-410A-B02F-F9722D44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9EB6-3AB0-41BA-914A-F8B6E885E27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143000"/>
          <a:ext cx="8229600" cy="43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22960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57320" y="466560"/>
          <a:ext cx="8829360" cy="592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466560"/>
                    <a:ext cx="8829360" cy="592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95200" y="552600"/>
          <a:ext cx="8553600" cy="57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552600"/>
                    <a:ext cx="8553600" cy="57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8600" y="504720"/>
          <a:ext cx="8686800" cy="584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04720"/>
                    <a:ext cx="8686800" cy="58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1547640"/>
            <a:ext cx="731520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04920" y="52560"/>
          <a:ext cx="8534160" cy="67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2560"/>
                    <a:ext cx="8534160" cy="67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0"/>
          <a:ext cx="9144000" cy="67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7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28600" y="485640"/>
          <a:ext cx="8686800" cy="588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85640"/>
                    <a:ext cx="8686800" cy="58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09440" y="528480"/>
          <a:ext cx="8925120" cy="580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440" y="528480"/>
                    <a:ext cx="8925120" cy="58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9144000" cy="639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9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5680" y="2500200"/>
          <a:ext cx="897264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2500200"/>
                    <a:ext cx="897264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44360" y="628560"/>
          <a:ext cx="8859960" cy="56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628560"/>
                    <a:ext cx="885996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90440" y="547560"/>
          <a:ext cx="8763120" cy="576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547560"/>
                    <a:ext cx="8763120" cy="57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28600" y="306360"/>
          <a:ext cx="8610480" cy="61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6360"/>
                    <a:ext cx="8610480" cy="61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6600" y="266760"/>
          <a:ext cx="90108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266760"/>
                    <a:ext cx="90108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0880" y="555480"/>
          <a:ext cx="8458200" cy="579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55480"/>
                    <a:ext cx="845820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28600" y="2281320"/>
          <a:ext cx="868680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1320"/>
                    <a:ext cx="868680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14280" y="609480"/>
          <a:ext cx="8829720" cy="470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609480"/>
                    <a:ext cx="8829720" cy="47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0T00:52:50Z</dcterms:created>
  <dc:creator>mas500_98</dc:creator>
  <dc:description/>
  <dc:language>en-US</dc:language>
  <cp:lastModifiedBy>WinuE</cp:lastModifiedBy>
  <dcterms:modified xsi:type="dcterms:W3CDTF">2011-11-28T01:59:35Z</dcterms:modified>
  <cp:revision>9</cp:revision>
  <dc:subject/>
  <dc:title>Presentación de PowerPoint</dc:title>
</cp:coreProperties>
</file>