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3B1D-0ED2-46C2-8ED8-2C905A946B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A306-389A-4851-9A8F-0414A1FDA0F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6DC1-03E9-4423-94CA-678DC452706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F252-C91E-4552-94C5-DD21BAD870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21B9-E976-4F12-A528-261237D4412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BC58-6B57-400E-872E-0F94C56097E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A439-294D-43D8-9461-156DFE7617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C309-8F0A-40E9-9BED-3339C4C09D6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D240-D921-4574-A641-4A6BBD9C9B0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0904-BE8B-4405-A76B-E13EBB98847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91D1-4736-4155-A22E-46C1AF818E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7269-B73D-41D3-AAC2-2125677A85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6DF0-C88E-4E59-9E28-86CCBA6A63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3592-5928-4919-858D-0B140916D98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1287-EF69-47AD-839F-3025B9E948D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691C-0670-4812-9EFD-8BB61A6FF08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FC1B-5CFC-4F6D-8F2A-C16D0A076F6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C4E1-2E50-4DDC-AE64-3E68F0C2E4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1151-7FE9-4AA8-86CB-688C72E2F5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ACEF-F855-4C18-8F8A-F4B80F6BA5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D64E-6204-4F27-8BDE-23CDB86B4B1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61EA-BBEB-4D85-87D1-6F8E49BF01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E7F7-9088-48A3-9057-7C5AE22B4B6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7324-BA28-4F9A-8B79-ECEAAB564E1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90A4-1061-4270-A3A0-426C568E32E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9901-7355-4278-B614-8D61D25183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CB8-93B5-43E8-A3D2-86423369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3F6-1D6A-45AC-A017-2D4449E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338-4BED-4612-A31B-9C5C3D09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9DA-C426-4A41-A2F7-6DE9B34B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7B9E-8D77-4618-A9B7-B84DEA51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869-2E03-4CAE-BC5C-D95CC3C2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231-01F1-4674-B91C-39753F2A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624-C2A3-4C1D-93B2-BB16D066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44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EBA-A9C1-4618-BA71-D7F68456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D74-F9C5-441A-8DDA-0862E132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321-6E8E-44A7-A31F-EF831332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653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286-F4F9-46BD-86F3-89DE41E5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0103-DC26-4ED8-A03B-F32C18D6A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Object 8"/>
          <p:cNvGraphicFramePr/>
          <p:nvPr/>
        </p:nvGraphicFramePr>
        <p:xfrm>
          <a:off x="1066680" y="6019920"/>
          <a:ext cx="60984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019920"/>
                    <a:ext cx="609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Text Box 9"/>
          <p:cNvSpPr/>
          <p:nvPr/>
        </p:nvSpPr>
        <p:spPr>
          <a:xfrm>
            <a:off x="1774800" y="61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Patricio Pinoch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GERENCIA DE PREVEN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0"/>
          <p:cNvGrpSpPr/>
          <p:nvPr/>
        </p:nvGrpSpPr>
        <p:grpSpPr>
          <a:xfrm>
            <a:off x="0" y="1066680"/>
            <a:ext cx="9143640" cy="533520"/>
            <a:chOff x="0" y="1066680"/>
            <a:chExt cx="9143640" cy="533520"/>
          </a:xfrm>
        </p:grpSpPr>
        <p:sp>
          <p:nvSpPr>
            <p:cNvPr id="10" name="Line 11"/>
            <p:cNvSpPr/>
            <p:nvPr/>
          </p:nvSpPr>
          <p:spPr>
            <a:xfrm>
              <a:off x="0" y="16002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12"/>
            <p:cNvSpPr/>
            <p:nvPr/>
          </p:nvSpPr>
          <p:spPr>
            <a:xfrm>
              <a:off x="1023840" y="10666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13"/>
            <p:cNvSpPr/>
            <p:nvPr/>
          </p:nvSpPr>
          <p:spPr>
            <a:xfrm flipV="1">
              <a:off x="1023840" y="10666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 rot="16200000">
            <a:off x="-1098360" y="39351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028880" y="2895480"/>
            <a:ext cx="79246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Ley N° 20.123 - Subcontra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ero 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0" y="6324480"/>
            <a:ext cx="9143640" cy="533520"/>
            <a:chOff x="0" y="6324480"/>
            <a:chExt cx="9143640" cy="533520"/>
          </a:xfrm>
        </p:grpSpPr>
        <p:sp>
          <p:nvSpPr>
            <p:cNvPr id="59" name="Line 8"/>
            <p:cNvSpPr/>
            <p:nvPr/>
          </p:nvSpPr>
          <p:spPr>
            <a:xfrm>
              <a:off x="0" y="685800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9"/>
            <p:cNvSpPr/>
            <p:nvPr/>
          </p:nvSpPr>
          <p:spPr>
            <a:xfrm>
              <a:off x="1023840" y="632448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1023840" y="6324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7200" y="26668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formar de los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y de las medida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a sus trabajadores y a las Empresas Contratistas o Subcontratistas,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ant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l inicio de las faenas, o </a:t>
            </a:r>
            <a:r>
              <a:rPr b="0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cuando se produzcan cambi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en las condiciones del 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44197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Dar cumplimiento a el Decreto Supremo Nº 594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respecto a todos los trabajadores que se desempeñen en la Obra, Faena o Servicio (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spectos sanitarios, disposición de residuos, agua potable, riesgos de higiene industrial. )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17524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26370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Vigilar el 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por parte de los Contratistas y Subcontratistas, de la obligación de informar  los Riesgos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indicar los procedimientos seguros de trabajo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y las medidas de Prevención de Riesgo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y de la entrega de los EPP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609480" y="41148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Controlar la constitución y el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los Comités Paritarios y de los Departamentos  de Prevención, cuando correspondan, de acuerdo a D.S.  N°s 40 y 54, Ley Nº 16.74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0574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32767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Facilitar el acces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de los Organismos Administradores de la Ley Nº 16.744, a la Obra, Faena o Servicios, con el objetivo de que cumplan sus funciones (evaluaciones, inspecciones, charlas, HO, INE, Reconocimientos, Investigaciones. ). Coordinar las acciones de estos Organismos Administradores, en la Obra, Faena o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13716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33520" y="2286000"/>
            <a:ext cx="830556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Implementar y aplicar un Sistema de Gestión de la Seguridad y Salud, el que incluirá entre otros los sigui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1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feccionar y mantene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al día el Reglamento Especial, para Empresas Contratistas y Subcontratist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nstituir y mantener en funciona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el Comité Paritario y el Departamento de Prevención de Riesgos de Faena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3.-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Coordinar las acciones de Preven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entre las distintas Empresas, desde el día que se inician los traba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219320" y="112536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a Empresa Principal, con relación a las Empresas  Contratistas y Subcontratistas, deberá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" y="1773360"/>
            <a:ext cx="83059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mplementar y aplicar un Sistema de Gestión de la Seguridad y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ando en Obra ,Faena o Servicio, laboren mas de 50 trabajadores; el que incluirá entre otros lo sigu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4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ntrolar que cada Contratista o Subcontratist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cuente con un procedimiento, frente a los accidentes; a objeto de ofrecer una adecuada y oportuna atención médica, a sus trabaja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elar por el cumplimiento de los indicad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en el artículo Nº 76, informando inmediatamente de un accidente laboral </a:t>
            </a: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fatal o grav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a la Dirección del Trabajo, y al Seremi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6.-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Suspender inmediatamente la faen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desalojando el lugar. La reanudación del trabajo se hará previa autorización del fiscalizador, y cuando se hayan solucionado los riesgos que originaron el acc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tuaciones del Empleador ante Accidente grave o fa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574560" y="17524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rtículo Nº 76, inciso 4° de la Ley Nº 16.74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2286000"/>
            <a:ext cx="8642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n caso de accidentes del trabajo fatales o graves,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l Empleador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deberá informar inmediatamente a la Inspección del Trabajo y a la Secretaría Regional Ministerial de Salud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que corresponda,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cerca de la ocurrencia de estos  h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49200" y="3718080"/>
            <a:ext cx="864252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nómina de direcciones, teléfonos y Fax que deben ser utilizados para la notificación, se encuentr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uperintendencia de Seguridad Social: www.suses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Dirección del Trabajo                           : www.direcciondeltrabajo.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Ministerio de Salud                              : www.minsal.c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Definición de Accidente grave y fata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(Circular Nº 2.345, SUSESO)</a:t>
            </a: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915920"/>
            <a:ext cx="791856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fatal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a causa o con ocasión del trabajo, y que provoca la muerte del trabajador, en forma inmediata o durante su traslado a un centro asist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Accidente grav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 a causa o con ocasión del trabajo y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bligue a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realizar maniobras de resucitación, o a realizar maniobras de res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Ocurra p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caídas de altura de mas de dos me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rovoqu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en forma inmediata, la amputación o pérdida de cualquier parte del cuer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Que obligu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vacuar el l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l Empleador autosuspensión de Fae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Inciso 5° del artículo 76 de la Ley Nº 16.74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98360" y="2438280"/>
            <a:ext cx="86407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Empleador deberá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uspender de forma inmediata las Faenas afectadas, y de ser necesario, permitir a los trabajadores la evacuación del lugar de trabajo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La reanudación de Faena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sólo podrá efectuarse cuando, previa fiscalización del Organismo Fiscalizador, se verifique que se han subsanado las deficiencias constatadas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16000" y="487692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l incumplimient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estas obligaciones, son consideradas “faltas gravísimas”, y son sancionadas con multas entre 50 a 150 UT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Faena afectada por un </a:t>
            </a:r>
            <a:br>
              <a:rPr sz="3600"/>
            </a:b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ccidente fatal o gra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Aquella área o puesto de trabajo en que ocurrió el accidente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udiendo incluso abarcar la Faena en su conjunto, dependiendo de las características y origen del siniestro, y en la cual, de no adoptar la Empresa medidas correctivas inmediatas, se pone en riesgo la seguridad de otros trabajador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Obligaciones de las Empres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14400" y="1295280"/>
            <a:ext cx="78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antener en la Obra, Faena o Servicio, un Registro actualizado de antecedentes, sea en papel o digital,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2880" y="2057400"/>
            <a:ext cx="86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ronogram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actividades planif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Copia de los Contrat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, que mantiene con las Empresas que laboran en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Datos de Contratistas, Subcontratistas y Servicios Transitori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; RUT, Nombre Empresa Organismo Administrador, Nombre del Encargado de Faena, N° de trabajadores, Fecha de Inicio y Término de Fae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Historial de Accidentes y  Enfermedad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Profesionale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e la Fae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form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valuaciones de Ri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Visit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y medidas prescritas por los Organismos Administradores de la Ley N° 16.74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Inspeccione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 entidades fiscalizadoras y sus respal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</a:rPr>
              <a:t>Esquem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3722760" y="135576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ey N° 20.1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2252520" y="2195640"/>
            <a:ext cx="1622520" cy="622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y N°16.7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5479920" y="2130480"/>
            <a:ext cx="1406520" cy="6094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ódig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258840" y="3747960"/>
            <a:ext cx="2392200" cy="1113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76 (Modif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ig. 16.01.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Circ. 2.345 SUS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irc. 2.346 SUS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211560" y="3794040"/>
            <a:ext cx="2373120" cy="1079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. 66 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Nue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AutoShape 8"/>
          <p:cNvCxnSpPr>
            <a:stCxn id="63" idx="2"/>
            <a:endCxn id="64" idx="0"/>
          </p:cNvCxnSpPr>
          <p:nvPr/>
        </p:nvCxnSpPr>
        <p:spPr>
          <a:xfrm rot="5400000">
            <a:off x="3715560" y="1312920"/>
            <a:ext cx="231120" cy="1535760"/>
          </a:xfrm>
          <a:prstGeom prst="bentConnector3">
            <a:avLst>
              <a:gd name="adj1" fmla="val 4960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69" name="AutoShape 9"/>
          <p:cNvCxnSpPr>
            <a:stCxn id="63" idx="2"/>
            <a:endCxn id="65" idx="0"/>
          </p:cNvCxnSpPr>
          <p:nvPr/>
        </p:nvCxnSpPr>
        <p:spPr>
          <a:xfrm flipH="1" rot="16200000">
            <a:off x="5307480" y="1255320"/>
            <a:ext cx="165960" cy="15850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70" name="AutoShape 10"/>
          <p:cNvCxnSpPr>
            <a:stCxn id="64" idx="2"/>
            <a:endCxn id="66" idx="0"/>
          </p:cNvCxnSpPr>
          <p:nvPr/>
        </p:nvCxnSpPr>
        <p:spPr>
          <a:xfrm rot="5400000">
            <a:off x="1793880" y="2478600"/>
            <a:ext cx="930960" cy="1608840"/>
          </a:xfrm>
          <a:prstGeom prst="bentConnector3">
            <a:avLst>
              <a:gd name="adj1" fmla="val 49980"/>
            </a:avLst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" name="AutoShape 11"/>
          <p:cNvSpPr/>
          <p:nvPr/>
        </p:nvSpPr>
        <p:spPr>
          <a:xfrm>
            <a:off x="5867280" y="3641760"/>
            <a:ext cx="3124440" cy="1371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rega Título VI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Trabajo 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gimen de Subcontratació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AutoShape 12"/>
          <p:cNvCxnSpPr/>
          <p:nvPr/>
        </p:nvCxnSpPr>
        <p:spPr>
          <a:xfrm>
            <a:off x="3047760" y="3108240"/>
            <a:ext cx="1275480" cy="5976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cxnSp>
        <p:nvCxnSpPr>
          <p:cNvPr id="73" name="AutoShape 13"/>
          <p:cNvCxnSpPr/>
          <p:nvPr/>
        </p:nvCxnSpPr>
        <p:spPr>
          <a:xfrm>
            <a:off x="6324120" y="3031920"/>
            <a:ext cx="1335960" cy="35604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headEnd len="med" type="diamond" w="med"/>
            <a:tailEnd len="med" type="diamond" w="med"/>
          </a:ln>
        </p:spPr>
      </p:cxnSp>
      <p:sp>
        <p:nvSpPr>
          <p:cNvPr id="74" name="Line 14"/>
          <p:cNvSpPr/>
          <p:nvPr/>
        </p:nvSpPr>
        <p:spPr>
          <a:xfrm flipV="1">
            <a:off x="6324480" y="2727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5"/>
          <p:cNvSpPr/>
          <p:nvPr/>
        </p:nvSpPr>
        <p:spPr>
          <a:xfrm>
            <a:off x="7696080" y="348948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omponentes mínimos del Sistema de Gestión en Salud y Seguridad </a:t>
            </a:r>
            <a:br>
              <a:rPr sz="3200"/>
            </a:b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en el Traba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68360" y="2057400"/>
            <a:ext cx="8351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olítica de Seguridad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y salud en el trabajo (Gerencia General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Organiz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estructura de la Prevención, actores y responsabilidad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Planific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sobre un diagnóstico inicial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(periódica e inclusive a todos los niveles 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Acción P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mejoras o correctivas (como resultado de la evalu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 de Contratist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533520" y="2666880"/>
            <a:ext cx="8305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 ejemplar de este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ser entregad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 al Contratista o Subcontratista, 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previo al inici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de sus labores en la Obra, Faena, o Serv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a copia de este Reglamento Especial, se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incorporar</a:t>
            </a:r>
            <a:r>
              <a:rPr b="1" lang="es-CL" sz="2200" spc="-1" strike="noStrike">
                <a:solidFill>
                  <a:srgbClr val="ffff00"/>
                </a:solidFill>
                <a:latin typeface="Arial"/>
              </a:rPr>
              <a:t> al registr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 que debe llevar la Empresa Principal (artículo Nº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04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glamento Espe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24000" y="1344600"/>
            <a:ext cx="84247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efinición de los encargad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Programa de Gestión de la S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cciones de coordin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tre las actividades de prevención, entre los distintos Empleadores, como reuniones conjuntas de los Comités y de los Deptos. de Prevención, mecanismo de intercambio de información, y procedimientos de acceso de los respectivos Organismos Administ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Oblig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informar a la Empresa Principal, de cualquier condición, que implique riesgos para la vida y salud de los trabaj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Prohibi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evitar accidentes o enfermedades, en la Obra, Faena o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ecanismos de la Empresa Principal, para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controlar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</a:rPr>
              <a:t>Sa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para Contratistas y Subcontratistas por 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</a:rPr>
              <a:t>no cumpl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 este Reglamento Espe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533520" y="1447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mités Paritarios de Fa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266688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Cuando en una Obra, Faena, o Servicio, el total de los trabajadores ( cualquiera sea su dependencia),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sea superior a 25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, siempre que esta condición se mantenga por un período a treinta días,  corridos;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la Empresa Principal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es-CL" sz="2200" spc="-1" strike="noStrike" u="sng">
                <a:solidFill>
                  <a:srgbClr val="ffff00"/>
                </a:solidFill>
                <a:uFillTx/>
                <a:latin typeface="Arial"/>
              </a:rPr>
              <a:t>deberá constituir y mantener en funcionamiento un Comité Paritario de Fa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66680" y="1981080"/>
            <a:ext cx="76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aquellas Obras, Faenas, o Servicios, en que existan trabajadores bajo régimen de Subcontratación, y en donde concurran, además, </a:t>
            </a:r>
            <a:r>
              <a:rPr b="1" lang="es-CL" sz="2400" spc="-1" strike="noStrike" u="sng">
                <a:solidFill>
                  <a:srgbClr val="ffff00"/>
                </a:solidFill>
                <a:uFillTx/>
                <a:latin typeface="Arial"/>
              </a:rPr>
              <a:t>trabajadores de Empresas de Servicios Transito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, éstos deberán ser considerados para los efectos de calcular el número total de trabajadores pres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39640" y="2209680"/>
            <a:ext cx="822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constitución y funcionamiento del Comité Paritario de Faena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se regirá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or lo dispuesto por el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.S. Nº 54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 1969, del Ministerio del Trabajo y Previsión Social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en todo aquello que no esté regulado por este Reglamento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o que fuere incompatible con sus dis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1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468360" y="2133720"/>
            <a:ext cx="80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do la Empresa Principal, tenga constituido el Comité Paritario de Higiene y Seguridad, en la respectiva Obra, Faena, o Servicio, de acuerdo al D.S. Nº 54, </a:t>
            </a:r>
            <a:r>
              <a:rPr b="1" lang="es-CL" sz="2800" spc="-1" strike="noStrike" u="sng">
                <a:solidFill>
                  <a:srgbClr val="ffff00"/>
                </a:solidFill>
                <a:uFillTx/>
                <a:latin typeface="Arial"/>
              </a:rPr>
              <a:t>este podrá asumir las funcione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del Comité Paritario de Fae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partamentos de Prevención de Riesgos </a:t>
            </a: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de Fae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 Nº 2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14400" y="1905120"/>
            <a:ext cx="79246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mpresa Principal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constitu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y mantener en funcionamiento un Departamento de Riesgos de Faena, cuando el total de trabajadores, que prestan servicios en la Obra, Faena, o Servicio, sea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100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; siempre que está condición se mantenga por un período igual o superior a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30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 días corridos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143000" y="220968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l Departamento de Prevención de Riesgos de Faena, 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</a:rPr>
              <a:t>se regirá por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 el Título III del D.S. Nº 40 de 1969,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Ministerio del Trabajo y Previsión Social, en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</a:rPr>
              <a:t>todo aquello que no esté regulado por este Regla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9"/>
          <p:cNvSpPr/>
          <p:nvPr/>
        </p:nvSpPr>
        <p:spPr>
          <a:xfrm>
            <a:off x="838080" y="1066680"/>
            <a:ext cx="457200" cy="91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 rot="16200000">
            <a:off x="-1098360" y="391176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900000" y="213372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Reglamento para aplicación de Artículos Nº 66 bis y 76 de Ley </a:t>
            </a:r>
            <a:br>
              <a:rPr sz="4000"/>
            </a:b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Nº 16.74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5"/>
          <p:cNvSpPr/>
          <p:nvPr/>
        </p:nvSpPr>
        <p:spPr>
          <a:xfrm>
            <a:off x="990720" y="1066680"/>
            <a:ext cx="81532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533520" y="1600200"/>
            <a:ext cx="4572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2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828800"/>
            <a:ext cx="77724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Si la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contare con su propio Departamento de Prevención de Riesgos Profesionales, de acuerdo a lo establecido en el D.S. Nº 40;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éste deberá asumir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 las funciones indicadas en este Reglamento, para el Departamento de Prevención de Riesgos de Faena, además de sus propias func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3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066680" y="2286000"/>
            <a:ext cx="73915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El Departamento de Prevención de Riesgos de Faena,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deberá estar a cargo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</a:rPr>
              <a:t>, de un Experto en Prevención de Riesgos, de la categoría Profesional, y </a:t>
            </a:r>
            <a:r>
              <a:rPr b="1" lang="es-CL" sz="3000" spc="-1" strike="noStrike" u="sng">
                <a:solidFill>
                  <a:srgbClr val="ffff00"/>
                </a:solidFill>
                <a:uFillTx/>
                <a:latin typeface="Arial"/>
              </a:rPr>
              <a:t>contratado a tiempo comple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D.S. Nº 76</a:t>
            </a:r>
            <a:br>
              <a:rPr sz="3600"/>
            </a:b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structura del Reglament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74560" y="1989000"/>
            <a:ext cx="7994880" cy="36244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  : Disposiciones Gen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 : Sistema de Gestión de la Seguridad y Salud e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II: Reglamento especial para Empresas        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istas y Subcontrat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IV: Los Comités Paritarios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 : Los Departamentos de Prevención de Fa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44720" indent="-1044720">
              <a:lnSpc>
                <a:spcPct val="100000"/>
              </a:lnSpc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ítulo VI: Disposiciones Fi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Artículo Nº 66 b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95280" y="1484280"/>
            <a:ext cx="8370720" cy="2654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obre materias relativas a la Seguridad y Salud en el trabajo, para aquellas Empresas que contraten o subcontraten con otras la realización de una Obra, Faena, o Servicios propios de su giro, así como para sus contratistas y subcontratistas;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con la finalidad de proteger la vida y salud de todos los trabajadores, que laboran en dichos lu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8360" y="49417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Responsabilidad solid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914400" y="3049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. Régimen de Subcontra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24000" y="2060640"/>
            <a:ext cx="8569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Habitualidad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o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Permanencia: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quedan fuera los servicios discontinuos o esporá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Obra,  Faena, o Servici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: las obras, faenas o servicios deben pertenecer y estar bajo la dirección de la </a:t>
            </a:r>
            <a:r>
              <a:rPr b="1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Empresa Principal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independiente del lugar físico en que se realic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248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 Unicode MS"/>
              </a:rPr>
              <a:t>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MPRESA PRINCIP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4864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EMPRESA USUAR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H="1">
            <a:off x="2895480" y="2276640"/>
            <a:ext cx="20880" cy="695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523880" y="29718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2916360" y="3429000"/>
            <a:ext cx="0" cy="619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371600" y="4038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7164360" y="2276640"/>
            <a:ext cx="1440" cy="698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486400" y="30481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CONTRATA TRABAJADORES DE  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2916360" y="4581360"/>
            <a:ext cx="0" cy="694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798200" y="522936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alibri"/>
              </a:rPr>
              <a:t>SUBCONTRAT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01" name="Line 3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5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EMPRESA PRINCI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276720" y="137160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04920" y="3352680"/>
            <a:ext cx="190476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886200" y="58672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rc 10"/>
          <p:cNvSpPr/>
          <p:nvPr/>
        </p:nvSpPr>
        <p:spPr>
          <a:xfrm flipH="1">
            <a:off x="1295280" y="1676520"/>
            <a:ext cx="1447920" cy="167616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rc 11"/>
          <p:cNvSpPr/>
          <p:nvPr/>
        </p:nvSpPr>
        <p:spPr>
          <a:xfrm flipH="1" flipV="1">
            <a:off x="1294200" y="3886200"/>
            <a:ext cx="2514600" cy="22860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rc 12"/>
          <p:cNvSpPr/>
          <p:nvPr/>
        </p:nvSpPr>
        <p:spPr>
          <a:xfrm flipV="1">
            <a:off x="6172200" y="1599480"/>
            <a:ext cx="1905120" cy="4341960"/>
          </a:xfrm>
          <a:prstGeom prst="pie">
            <a:avLst/>
          </a:prstGeom>
          <a:noFill/>
          <a:ln w="38160">
            <a:solidFill>
              <a:srgbClr val="ff3300"/>
            </a:solidFill>
            <a:prstDash val="lgDashDotDot"/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257800" y="2514600"/>
            <a:ext cx="3124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Simulación o Subterfu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(se presume subordinación y depend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1752480" y="2286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</a:rPr>
              <a:t>Contrato   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1143000"/>
            <a:ext cx="9143640" cy="533520"/>
            <a:chOff x="0" y="1143000"/>
            <a:chExt cx="9143640" cy="533520"/>
          </a:xfrm>
        </p:grpSpPr>
        <p:sp>
          <p:nvSpPr>
            <p:cNvPr id="115" name="Line 3"/>
            <p:cNvSpPr/>
            <p:nvPr/>
          </p:nvSpPr>
          <p:spPr>
            <a:xfrm>
              <a:off x="0" y="1676520"/>
              <a:ext cx="1023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4"/>
            <p:cNvSpPr/>
            <p:nvPr/>
          </p:nvSpPr>
          <p:spPr>
            <a:xfrm>
              <a:off x="1023840" y="1143000"/>
              <a:ext cx="8119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 flipV="1">
              <a:off x="1023840" y="11430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CRITERIO  PARA EVITAR DOBLE SUBORDINA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657600" y="1447920"/>
            <a:ext cx="297180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Empresa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72000" y="5168880"/>
            <a:ext cx="1905120" cy="4597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Trabaj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rc 10"/>
          <p:cNvSpPr/>
          <p:nvPr/>
        </p:nvSpPr>
        <p:spPr>
          <a:xfrm flipH="1" flipV="1">
            <a:off x="2133720" y="4648320"/>
            <a:ext cx="2970000" cy="9144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90720" y="251460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990720" y="4191120"/>
            <a:ext cx="243828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Arial"/>
              </a:rPr>
              <a:t>Administrador Contrat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2209680" y="3429000"/>
            <a:ext cx="76320" cy="685800"/>
          </a:xfrm>
          <a:prstGeom prst="line">
            <a:avLst/>
          </a:prstGeom>
          <a:ln cap="sq" w="38160">
            <a:solidFill>
              <a:srgbClr val="ff33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960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Times New Roman"/>
                <a:ea typeface="MS Mincho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9"/>
          <p:cNvSpPr/>
          <p:nvPr/>
        </p:nvSpPr>
        <p:spPr>
          <a:xfrm flipH="1">
            <a:off x="2610000" y="1579680"/>
            <a:ext cx="1117440" cy="900000"/>
          </a:xfrm>
          <a:prstGeom prst="pie">
            <a:avLst/>
          </a:prstGeom>
          <a:noFill/>
          <a:ln cap="sq" w="38160">
            <a:solidFill>
              <a:srgbClr val="ff33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rc 24"/>
          <p:cNvSpPr/>
          <p:nvPr/>
        </p:nvSpPr>
        <p:spPr>
          <a:xfrm>
            <a:off x="6627960" y="1679400"/>
            <a:ext cx="2058840" cy="38196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8:47:34Z</dcterms:created>
  <dc:creator>Achs</dc:creator>
  <dc:description/>
  <dc:language>en-US</dc:language>
  <cp:lastModifiedBy>WinuE</cp:lastModifiedBy>
  <dcterms:modified xsi:type="dcterms:W3CDTF">2011-04-24T22:56:02Z</dcterms:modified>
  <cp:revision>211</cp:revision>
  <dc:subject/>
  <dc:title>Presentación de PowerPoint</dc:title>
</cp:coreProperties>
</file>