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0B3-0F9A-498B-9A0B-5304C3239C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4B0-7B9B-455E-99E2-8C1DEA1CC2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C3C4-78B2-442B-8F0E-BA6F0E1112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0AF4-B9D8-4D87-B311-31773051C0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C4A2-07C8-4697-A518-9A22FB8194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C98-D72C-48E3-8EB6-92F3E73969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7CA8-3F8B-4423-B368-7F3F7BDF89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009-31C5-474D-93BA-0B5ABD0E8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7BC-C4F9-45AE-9EB5-4E49CAD50F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CBA8-B8F7-496D-B019-E70731FE49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C9E1-13B0-4415-8E84-EC40195076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362D-F2EC-4263-B7F6-5931A1D805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15A-27EA-4638-A7DC-32DBD8EA72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48F-F920-496F-B60B-F51755920D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3D93-9233-4627-8E0B-DE5B67D623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A6A-F382-4E4A-8546-84189BFF7B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7D7-D997-4BB7-ACFE-58965225A3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79E-7261-4540-B8AA-4F6FAC7187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FB8-1E7D-46A9-810C-1D9962523A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E71-EE9B-48CA-8B39-B54C9755DF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04B-8E10-4098-8345-4C37C748E7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C933-1E00-424A-9C97-132A069CCB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909B-4681-4E92-8F32-C56A69D865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5BF-753C-496F-A2D9-58DFB026BC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30B1-CC33-4DB8-B9B4-8551BFDF4A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8BC-46BB-46E9-BC26-4D464E6C8D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8D7-87CC-47BA-822B-307A3C71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E73-D733-4E78-89F7-FCCB5A1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5D9-9A23-40DA-990A-7028B592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2BA-C7A8-4641-9CFE-149B5614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258-9A5D-4907-8865-8F8DD42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3F1-7306-4E55-903D-BE12A8E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CAF-4730-44A6-A9D7-666B8BF2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3D3-08A1-4BAC-99DD-0C701F5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089-6CB1-44CA-AF74-6204E50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AFC-65AC-4D1F-9EF3-490BCB6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7D2-A195-4EE1-B7E5-99FD2F9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9AA-23F4-4BE4-92E2-2DE4505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876-A888-4389-8510-FCCE7C541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9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Line 11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2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3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9" name="Line 8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11560" y="379404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8"/>
          <p:cNvCxnSpPr>
            <a:stCxn id="63" idx="2"/>
            <a:endCxn id="64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9" name="AutoShape 9"/>
          <p:cNvCxnSpPr>
            <a:stCxn id="63" idx="2"/>
            <a:endCxn id="65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0" name="AutoShape 10"/>
          <p:cNvCxnSpPr>
            <a:stCxn id="64" idx="2"/>
            <a:endCxn id="66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71" name="AutoShape 11"/>
          <p:cNvSpPr/>
          <p:nvPr/>
        </p:nvSpPr>
        <p:spPr>
          <a:xfrm>
            <a:off x="5867280" y="364176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2"/>
          <p:cNvCxnSpPr/>
          <p:nvPr/>
        </p:nvCxnSpPr>
        <p:spPr>
          <a:xfrm>
            <a:off x="3047760" y="31082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AutoShape 13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Line 14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7696080" y="34894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2057400"/>
            <a:ext cx="8351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artículo Nº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00000" y="21337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484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4941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Responsabilidad soli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206064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2895480" y="2276640"/>
            <a:ext cx="20880" cy="69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16360" y="3429000"/>
            <a:ext cx="0" cy="619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7164360" y="2276640"/>
            <a:ext cx="1440" cy="698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486400" y="3048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916360" y="4581360"/>
            <a:ext cx="0" cy="694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798200" y="52293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1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0"/>
          <p:cNvSpPr/>
          <p:nvPr/>
        </p:nvSpPr>
        <p:spPr>
          <a:xfrm flipH="1">
            <a:off x="1295280" y="1676520"/>
            <a:ext cx="1447920" cy="16761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rc 11"/>
          <p:cNvSpPr/>
          <p:nvPr/>
        </p:nvSpPr>
        <p:spPr>
          <a:xfrm flipH="1" flipV="1">
            <a:off x="1294200" y="3886200"/>
            <a:ext cx="2514600" cy="2286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rc 12"/>
          <p:cNvSpPr/>
          <p:nvPr/>
        </p:nvSpPr>
        <p:spPr>
          <a:xfrm flipV="1">
            <a:off x="6172200" y="1599480"/>
            <a:ext cx="1905120" cy="4341960"/>
          </a:xfrm>
          <a:prstGeom prst="pie">
            <a:avLst/>
          </a:prstGeom>
          <a:noFill/>
          <a:ln w="38160">
            <a:solidFill>
              <a:srgbClr val="ff3300"/>
            </a:solidFill>
            <a:prstDash val="lgDashDot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15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10"/>
          <p:cNvSpPr/>
          <p:nvPr/>
        </p:nvSpPr>
        <p:spPr>
          <a:xfrm flipH="1" flipV="1">
            <a:off x="2133720" y="4648320"/>
            <a:ext cx="2970000" cy="9144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flipH="1">
            <a:off x="2610000" y="1579680"/>
            <a:ext cx="1117440" cy="900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24"/>
          <p:cNvSpPr/>
          <p:nvPr/>
        </p:nvSpPr>
        <p:spPr>
          <a:xfrm>
            <a:off x="6627960" y="1679400"/>
            <a:ext cx="2058840" cy="3819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11-04-24T22:56:02Z</dcterms:modified>
  <cp:revision>211</cp:revision>
  <dc:subject/>
  <dc:title>Presentación de PowerPoint</dc:title>
</cp:coreProperties>
</file>