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320C-F96F-402B-BCBD-13908659375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40ED-1DD8-4BA5-B622-0B1332FE6F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1A98-C26A-4E6B-BAF4-B46F9B2CF96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935C-7E28-42B5-BABE-CA461B64CDC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62C1-58F5-4136-9F9D-3805CAF39A4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2956-B79B-44E9-B682-3F2EB02A60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E60D-5CC0-4939-9B0E-17481B5D45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5CCD-004B-4D69-9309-4B73398F89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E00E-69BF-47C2-93C5-479918F473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E790-D9DC-40A4-A823-3825929175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AF3C-34B9-41CC-8B55-49B7E16660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BF53-42C0-4DB3-9DC8-8E66288230F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B55B-B2A5-4195-AF4C-441EA7A1AB6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61CC-8C75-4075-AAF8-7015E5A1A5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F132-F8D8-43B4-81EE-E2A7465DCDD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2EA9-A61D-4521-8DD5-508A9E7F7D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CCA5-790D-4A42-810A-E7B107F4E1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489D-A6BA-40F0-977A-F04B54DDC0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F0AE-0DA2-4E10-9C6A-12274691423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B7E1-3B97-432E-8E58-12F68181093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5329-B87F-42C1-94A7-50865125CC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FF39-D37F-4F08-BFB7-C1EF026ED8D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0CAB-E535-43C7-9C27-2163D21B42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C300-5A14-428E-B8AD-55EF4E1612A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CC4A-B3F4-4A94-98A8-9A8B8AFE3B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8056-5C43-4499-B765-23ACC4DC060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1BD-81DD-4147-9F24-4B325792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B632-C804-4C6F-BC8F-E7907DF3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BBF3-5F53-40F7-835F-70DCA9D2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EE0-C712-48AB-9604-C693D645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28C5-CC2C-45AC-9329-EEA49380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D5D-71CD-4609-BCB3-03BF8905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945-3239-4EF7-82CF-0030A6E8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DC9-703C-4148-BB80-9BD1B5AC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44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057-9B3D-4883-BCB5-242699C7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B14D-0E90-452D-B1B2-A6085F91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0C8-44F6-43B0-9BC5-77F42995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303-4C76-4548-8673-20842FFC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226C-3055-48E8-A07E-FE7E210CE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Object 8"/>
          <p:cNvGraphicFramePr/>
          <p:nvPr/>
        </p:nvGraphicFramePr>
        <p:xfrm>
          <a:off x="1066680" y="6019920"/>
          <a:ext cx="60984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01992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Text Box 9"/>
          <p:cNvSpPr/>
          <p:nvPr/>
        </p:nvSpPr>
        <p:spPr>
          <a:xfrm>
            <a:off x="1774800" y="617220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atricio Pinoch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GERENCIA DE PREVENC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0"/>
          <p:cNvGrpSpPr/>
          <p:nvPr/>
        </p:nvGrpSpPr>
        <p:grpSpPr>
          <a:xfrm>
            <a:off x="0" y="1066680"/>
            <a:ext cx="9143640" cy="533520"/>
            <a:chOff x="0" y="1066680"/>
            <a:chExt cx="9143640" cy="533520"/>
          </a:xfrm>
        </p:grpSpPr>
        <p:sp>
          <p:nvSpPr>
            <p:cNvPr id="10" name="Line 11"/>
            <p:cNvSpPr/>
            <p:nvPr/>
          </p:nvSpPr>
          <p:spPr>
            <a:xfrm>
              <a:off x="0" y="16002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Line 12"/>
            <p:cNvSpPr/>
            <p:nvPr/>
          </p:nvSpPr>
          <p:spPr>
            <a:xfrm>
              <a:off x="1023840" y="10666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Line 13"/>
            <p:cNvSpPr/>
            <p:nvPr/>
          </p:nvSpPr>
          <p:spPr>
            <a:xfrm flipV="1">
              <a:off x="1023840" y="10666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 rot="16200000">
            <a:off x="-1098360" y="393516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028880" y="2895480"/>
            <a:ext cx="7924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Ley N° 20.123 - Subcontra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ero  d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0" y="6324480"/>
            <a:ext cx="9143640" cy="533520"/>
            <a:chOff x="0" y="6324480"/>
            <a:chExt cx="9143640" cy="533520"/>
          </a:xfrm>
        </p:grpSpPr>
        <p:sp>
          <p:nvSpPr>
            <p:cNvPr id="59" name="Line 8"/>
            <p:cNvSpPr/>
            <p:nvPr/>
          </p:nvSpPr>
          <p:spPr>
            <a:xfrm>
              <a:off x="0" y="68580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9"/>
            <p:cNvSpPr/>
            <p:nvPr/>
          </p:nvSpPr>
          <p:spPr>
            <a:xfrm>
              <a:off x="1023840" y="63244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1023840" y="63244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57200" y="17524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57200" y="26668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Informar de los Riesgo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y de las medidas de Preven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a sus trabajadores y a las Empresas Contratistas o Subcontratistas, </a:t>
            </a:r>
            <a:r>
              <a:rPr b="0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ant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l inicio de las faenas, o </a:t>
            </a:r>
            <a:r>
              <a:rPr b="0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cuando se produzcan cambi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n las condiciones del 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57200" y="44197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Dar cumplimiento a el Decreto Supremo Nº 594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respecto a todos los trabajadores que se desempeñen en la Obra, Faena o Servicio (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spectos sanitarios, disposición de residuos, agua potable, riesgos de higiene industrial. )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57200" y="17524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26370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Vigilar el cumpl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por parte de los Contratistas y Subcontratistas, de la obligación de informar  los Riesgos,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indicar los procedimientos seguros de trabajo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y las medidas de Prevención de Riesgo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y de la entrega de los EPP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09480" y="41148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Controlar la constitución y el funciona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los Comités Paritarios y de los Departamentos  de Prevención, cuando correspondan, de acuerdo a D.S.  N°s 40 y 54, Ley Nº 16.74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57200" y="2057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57200" y="32767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Facilitar el acces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de los Organismos Administradores de la Ley Nº 16.744, a la Obra, Faena o Servicios, con el objetivo de que cumplan sus funciones (evaluaciones, inspecciones, charlas, HO, INE, Reconocimientos, Investigaciones. ). Coordinar las acciones de estos Organismos Administradores, en la Obra, Faena o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295280" y="13716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33520" y="2286000"/>
            <a:ext cx="830556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Implementar y aplicar un Sistema de Gestión de la Seguridad y Salud, el que incluirá entre otros los sigui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1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nfeccionar y mantene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al día el Reglamento Especial, para Empresas Contratistas y Subcontratist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nstituir y mantener en funciona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l Comité Paritario y el Departamento de Prevención de Riesgos de Faena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ordinar las acciones de Preven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entre las distintas Empresas, desde el día que se inician los trabaj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219320" y="112536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57200" y="1773360"/>
            <a:ext cx="830592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mplementar y aplicar un Sistema de Gestión de la Seguridad y Salud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cuando en Obra ,Faena o Servicio, laboren mas de 50 trabajadores; el que incluirá entre otros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ntrolar que cada Contratista o Subcontratist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cuente con un procedimiento, frente a los accidentes; a objeto de ofrecer una adecuada y oportuna atención médica, a sus trabaja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5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Velar por el cumplimiento de los indicad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en el artículo Nº 76, informando inmediatamente de un accidente laboral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Arial"/>
              </a:rPr>
              <a:t>fatal o grav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a la Dirección del Trabajo, y al Seremi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6.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Suspender inmediatamente la faen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desalojando el lugar. La reanudación del trabajo se hará previa autorización del fiscalizador, y cuando se hayan solucionado los riesgos que originaron el accid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ctuaciones del Empleador ante Accidente grave o fa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74560" y="175248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rtículo Nº 76, inciso 4° de la Ley Nº 16.74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2286000"/>
            <a:ext cx="8642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n caso de accidentes del trabajo fatales o graves,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l Empleador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deberá informar inmediatamente a la Inspección del Trabajo y a la Secretaría Regional Ministerial de Salud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que corresponda,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erca de la ocurrencia de estos  h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49200" y="3718080"/>
            <a:ext cx="864252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nómina de direcciones, teléfonos y Fax que deben ser utilizados para la notificación, se encuentra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uperintendencia de Seguridad Social: www.suseso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Dirección del Trabajo                           : www.direcciondeltrabajo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Ministerio de Salud                              : www.minsal.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Definición de Accidente grave y fatal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(Circular Nº 2.345, SUSESO)</a:t>
            </a: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915920"/>
            <a:ext cx="791856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Accidente fatal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a causa o con ocasión del trabajo, y que provoca la muerte del trabajador, en forma inmediata o durante su traslado a un centro asisten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Accidente grav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 a causa o con ocasión del trabajo y 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bligue 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realizar maniobras de resucitación, o a realizar maniobras de resc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curra po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caídas de altura de mas de dos me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rovoqu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en forma inmediata, la amputación o pérdida de cualquier parte del cuer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Que obligu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vacuar el lu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l Empleador autosuspensión de Fa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Inciso 5° del artículo 76 de la Ley Nº 16.74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98360" y="2438280"/>
            <a:ext cx="86407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l Empleador deberá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uspender de forma inmediata las Faenas afectadas, y de ser necesario, permitir a los trabajadores la evacuación del lugar de trabajo”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La reanudación de Faena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ólo podrá efectuarse cuando, previa fiscalización del Organismo Fiscalizador, se verifique que se han subsanado las deficiencias constatadas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16000" y="487692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l incumpl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estas obligaciones, son consideradas “faltas gravísimas”, y son sancionadas con multas entre 50 a 150 UT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Faena afectada por un </a:t>
            </a: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ccidente fatal o gra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quella área o puesto de trabajo en que ocurrió el accidente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udiendo incluso abarcar la Faena en su conjunto, dependiendo de las características y origen del siniestro, y en la cual, de no adoptar la Empresa medidas correctivas inmediatas, se pone en riesgo la seguridad de otros trabajador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914400" y="1295280"/>
            <a:ext cx="78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antener en la Obra, Faena o Servicio, un Registro actualizado de antecedentes, sea en papel o digital,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72880" y="2057400"/>
            <a:ext cx="8642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ronogram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e la actividades planif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pia de los Contrat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que mantiene con las Empresas que laboran en Fae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Datos de Contratistas, Subcontratistas y Servicios Transitori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; RUT, Nombre Empresa Organismo Administrador, Nombre del Encargado de Faena, N° de trabajadores, Fecha de Inicio y Término de Fae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Historial de Accidentes y  Enfermedade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Profesionale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e la Faen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Informe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Evaluaciones de Ries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Visit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y medidas prescritas por los Organismos Administradores de la Ley N° 16.74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Inspeccione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entidades fiscalizadoras y sus respal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quema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722760" y="135576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ey N° 20.1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2252520" y="2195640"/>
            <a:ext cx="1622520" cy="622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y N°16.7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5479920" y="2130480"/>
            <a:ext cx="1406520" cy="6094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ódig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258840" y="3747960"/>
            <a:ext cx="2392200" cy="11131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. 76 (Modif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ig. 16.01.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irc. 2.345 SUSES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irc. 2.346 SUS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3211560" y="3794040"/>
            <a:ext cx="2373120" cy="10796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. 66 B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AutoShape 8"/>
          <p:cNvCxnSpPr>
            <a:stCxn id="63" idx="2"/>
            <a:endCxn id="64" idx="0"/>
          </p:cNvCxnSpPr>
          <p:nvPr/>
        </p:nvCxnSpPr>
        <p:spPr>
          <a:xfrm rot="5400000">
            <a:off x="3715560" y="1312920"/>
            <a:ext cx="231120" cy="1535760"/>
          </a:xfrm>
          <a:prstGeom prst="bentConnector3">
            <a:avLst>
              <a:gd name="adj1" fmla="val 49609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69" name="AutoShape 9"/>
          <p:cNvCxnSpPr>
            <a:stCxn id="63" idx="2"/>
            <a:endCxn id="65" idx="0"/>
          </p:cNvCxnSpPr>
          <p:nvPr/>
        </p:nvCxnSpPr>
        <p:spPr>
          <a:xfrm flipH="1" rot="16200000">
            <a:off x="5307480" y="1255320"/>
            <a:ext cx="165960" cy="15850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70" name="AutoShape 10"/>
          <p:cNvCxnSpPr>
            <a:stCxn id="64" idx="2"/>
            <a:endCxn id="66" idx="0"/>
          </p:cNvCxnSpPr>
          <p:nvPr/>
        </p:nvCxnSpPr>
        <p:spPr>
          <a:xfrm rot="5400000">
            <a:off x="1793880" y="2478600"/>
            <a:ext cx="930960" cy="1608840"/>
          </a:xfrm>
          <a:prstGeom prst="bentConnector3">
            <a:avLst>
              <a:gd name="adj1" fmla="val 49980"/>
            </a:avLst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1" name="AutoShape 11"/>
          <p:cNvSpPr/>
          <p:nvPr/>
        </p:nvSpPr>
        <p:spPr>
          <a:xfrm>
            <a:off x="5867280" y="3641760"/>
            <a:ext cx="3124440" cy="13716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ga Título VI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 Trabajo 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gimen de Subcontratació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AutoShape 12"/>
          <p:cNvCxnSpPr/>
          <p:nvPr/>
        </p:nvCxnSpPr>
        <p:spPr>
          <a:xfrm>
            <a:off x="3047760" y="3108240"/>
            <a:ext cx="1275480" cy="5976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73" name="AutoShape 13"/>
          <p:cNvCxnSpPr/>
          <p:nvPr/>
        </p:nvCxnSpPr>
        <p:spPr>
          <a:xfrm>
            <a:off x="6324120" y="3031920"/>
            <a:ext cx="1335960" cy="356040"/>
          </a:xfrm>
          <a:prstGeom prst="bentConnector3">
            <a:avLst>
              <a:gd name="adj1" fmla="val 49919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sp>
        <p:nvSpPr>
          <p:cNvPr id="74" name="Line 14"/>
          <p:cNvSpPr/>
          <p:nvPr/>
        </p:nvSpPr>
        <p:spPr>
          <a:xfrm flipV="1">
            <a:off x="6324480" y="2727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7696080" y="348948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Componentes mínimos del Sistema de Gestión en Salud y Seguridad </a:t>
            </a:r>
            <a:br>
              <a:rPr sz="3200"/>
            </a:b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en el Traba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68360" y="2057400"/>
            <a:ext cx="835164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Política de Seguridad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y salud en el trabajo (Gerencia General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Organiz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estructura de la Prevención, actores y responsabilidades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Planific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sobre un diagnóstico inicial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valu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periódica e inclusive a todos los niveles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Acción P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mejoras o correctivas (como resultado de la evalua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glamento Especial de Contratis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33520" y="2666880"/>
            <a:ext cx="830556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 ejemplar de este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Reglamento Especial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ser entregado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al Contratista o Subcontratista,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previo al inici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sus labores en la Obra, Faena, o Serv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a copia de este Reglamento Especial, se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incorporar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 al regist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que debe llevar la Empresa Principal (artículo Nº 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80880" y="304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glamento Espe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24000" y="1344600"/>
            <a:ext cx="84247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efinición de los encarg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Programa de Gestión de la S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cciones de coordin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tre las actividades de prevención, entre los distintos Empleadores, como reuniones conjuntas de los Comités y de los Deptos. de Prevención, mecanismo de intercambio de información, y procedimientos de acceso de los respectivos Organismos Administr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Oblig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informar a la Empresa Principal, de cualquier condición, que implique riesgos para la vida y salud de los trabaj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Prohibi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para evitar accidentes o enfermedades, en la Obra, Faena o Serv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ecanismos de la Empresa Principal, para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controlar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an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para Contratistas y Subcontratistas por 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no cumplimi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este Reglamento Espe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33520" y="1447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mités Paritarios de Fa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990720" y="266688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uando en una Obra, Faena, o Servicio, el total de los trabajadores ( cualquiera sea su dependencia),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sea superior a 25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siempre que esta condición se mantenga por un período a treinta días,  corridos;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la Empresa Principal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constituir y mantener en funcionamiento un Comité Paritario de Fa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066680" y="198108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aquellas Obras, Faenas, o Servicios, en que existan trabajadores bajo régimen de Subcontratación, y en donde concurran, además,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trabajadores de Empresas de Servicios Transito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éstos deberán ser considerados para los efectos de calcular el número total de trabajadores pres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39640" y="2209680"/>
            <a:ext cx="822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constitución y funcionamiento del Comité Paritario de Faena, </a:t>
            </a:r>
            <a:r>
              <a:rPr b="1" lang="es-CL" sz="2800" spc="-1" strike="noStrike" u="sng">
                <a:solidFill>
                  <a:srgbClr val="ffff00"/>
                </a:solidFill>
                <a:uFillTx/>
                <a:latin typeface="Arial"/>
              </a:rPr>
              <a:t>se regirá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or lo dispuesto por el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.S. Nº 54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de 1969, del Ministerio del Trabajo y Previsión Social,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n todo aquello que no esté regulado por este Reglamento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o que fuere incompatible con sus dis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68360" y="2133720"/>
            <a:ext cx="806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ndo la Empresa Principal, tenga constituido el Comité Paritario de Higiene y Seguridad, en la respectiva Obra, Faena, o Servicio, de acuerdo al D.S. Nº 54, </a:t>
            </a:r>
            <a:r>
              <a:rPr b="1" lang="es-CL" sz="2800" spc="-1" strike="noStrike" u="sng">
                <a:solidFill>
                  <a:srgbClr val="ffff00"/>
                </a:solidFill>
                <a:uFillTx/>
                <a:latin typeface="Arial"/>
              </a:rPr>
              <a:t>este podrá asumir las funcione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del Comité Paritario de Fae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Departamentos de Prevención de Riesgos 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de Fae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 Nº 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914400" y="1905120"/>
            <a:ext cx="79246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mpresa Principal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deberá constituir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y mantener en funcionamiento un Departamento de Riesgos de Faena, cuando el total de trabajadores, que prestan servicios en la Obra, Faena, o Servicio, sea superior a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100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; siempre que está condición se mantenga por un período igual o superior a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30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</a:rPr>
              <a:t> días corridos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143000" y="220968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Departamento de Prevención de Riesgos de Faena, 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</a:rPr>
              <a:t>se regirá por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 el Título III del D.S. Nº 40 de 1969,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del Ministerio del Trabajo y Previsión Social, en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todo aquello que no esté regulado por este Regla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9"/>
          <p:cNvSpPr/>
          <p:nvPr/>
        </p:nvSpPr>
        <p:spPr>
          <a:xfrm>
            <a:off x="838080" y="1066680"/>
            <a:ext cx="457200" cy="914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 rot="16200000">
            <a:off x="-1098360" y="391176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900000" y="21337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Reglamento para aplicación de Artículos Nº 66 bis y 76 de Ley </a:t>
            </a:r>
            <a:br>
              <a:rPr sz="4000"/>
            </a:b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Nº 16.74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5"/>
          <p:cNvSpPr/>
          <p:nvPr/>
        </p:nvSpPr>
        <p:spPr>
          <a:xfrm>
            <a:off x="990720" y="10666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533520" y="1600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1828800"/>
            <a:ext cx="77724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Si la 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, contare con su propio Departamento de Prevención de Riesgos Profesionales, de acuerdo a lo establecido en el D.S. Nº 40;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éste deberá asumir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las funciones indicadas en este Reglamento, para el Departamento de Prevención de Riesgos de Faena, además de sus propias fun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066680" y="2286000"/>
            <a:ext cx="73915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l Departamento de Prevención de Riesgos de Faena,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deberá estar a cargo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, de un Experto en Prevención de Riesgos, de la categoría Profesional, y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contratado a tiempo comple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D.S. Nº 76</a:t>
            </a:r>
            <a:br>
              <a:rPr sz="3600"/>
            </a:b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Estructura del Reglamen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74560" y="1989000"/>
            <a:ext cx="7994880" cy="36244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  : Disposiciones Gen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I : Sistema de Gestión de la Seguridad y Salud e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II: Reglamento especial para Empresas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ratistas y Subcontrat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V: Los Comités Paritarios de Fa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 : Los Departamentos de Prevención de Fa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I: Disposiciones Fi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66 b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95280" y="1484280"/>
            <a:ext cx="8370720" cy="2654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obre materias relativas a la Seguridad y Salud en el trabajo, para aquellas Empresas que contraten o subcontraten con otras la realización de una Obra, Faena, o Servicios propios de su giro, así como para sus contratistas y subcontratistas;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n la finalidad de proteger la vida y salud de todos los trabajadores, que laboran en dichos lu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8360" y="4941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Responsabilidad solid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914400" y="304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I. Régimen de Subcontra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24000" y="2060640"/>
            <a:ext cx="85690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Habitualidad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o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Permanencia: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quedan fuera los servicios discontinuos o esporád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Obra,  Faena, o Servici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las obras, faenas o servicios deben pertenecer y estar bajo la dirección de la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mpresa Principal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independiente del lugar físico en que se realic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752480" y="533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 Unicode MS"/>
              </a:rPr>
              <a:t>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193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EMPRESA PRINCIP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486400" y="1752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EMPRESA USUAR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 flipH="1">
            <a:off x="2895480" y="2276640"/>
            <a:ext cx="20880" cy="695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52388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2916360" y="3429000"/>
            <a:ext cx="0" cy="619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371600" y="4038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 flipH="1">
            <a:off x="7164360" y="2276640"/>
            <a:ext cx="1440" cy="6984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486400" y="30481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CONTRATA TRABAJADORES DE  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2916360" y="4581360"/>
            <a:ext cx="0" cy="6940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798200" y="522936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1143000"/>
            <a:ext cx="9143640" cy="533520"/>
            <a:chOff x="0" y="1143000"/>
            <a:chExt cx="9143640" cy="533520"/>
          </a:xfrm>
        </p:grpSpPr>
        <p:sp>
          <p:nvSpPr>
            <p:cNvPr id="101" name="Line 3"/>
            <p:cNvSpPr/>
            <p:nvPr/>
          </p:nvSpPr>
          <p:spPr>
            <a:xfrm>
              <a:off x="0" y="167652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4"/>
            <p:cNvSpPr/>
            <p:nvPr/>
          </p:nvSpPr>
          <p:spPr>
            <a:xfrm>
              <a:off x="1023840" y="114300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5"/>
            <p:cNvSpPr/>
            <p:nvPr/>
          </p:nvSpPr>
          <p:spPr>
            <a:xfrm flipV="1">
              <a:off x="1023840" y="1143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276720" y="1371600"/>
            <a:ext cx="297180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mpres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04920" y="3352680"/>
            <a:ext cx="190476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Contr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886200" y="5867280"/>
            <a:ext cx="190512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rabaj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rc 10"/>
          <p:cNvSpPr/>
          <p:nvPr/>
        </p:nvSpPr>
        <p:spPr>
          <a:xfrm flipH="1">
            <a:off x="1295280" y="1676520"/>
            <a:ext cx="1447920" cy="1676160"/>
          </a:xfrm>
          <a:prstGeom prst="pie">
            <a:avLst/>
          </a:prstGeom>
          <a:noFill/>
          <a:ln cap="sq" w="38160">
            <a:solidFill>
              <a:srgbClr val="ff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rc 11"/>
          <p:cNvSpPr/>
          <p:nvPr/>
        </p:nvSpPr>
        <p:spPr>
          <a:xfrm flipH="1" flipV="1">
            <a:off x="1294200" y="3886200"/>
            <a:ext cx="2514600" cy="2286000"/>
          </a:xfrm>
          <a:prstGeom prst="pie">
            <a:avLst/>
          </a:prstGeom>
          <a:noFill/>
          <a:ln cap="sq" w="38160">
            <a:solidFill>
              <a:srgbClr val="ff33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rc 12"/>
          <p:cNvSpPr/>
          <p:nvPr/>
        </p:nvSpPr>
        <p:spPr>
          <a:xfrm flipV="1">
            <a:off x="6172200" y="1599480"/>
            <a:ext cx="1905120" cy="4341960"/>
          </a:xfrm>
          <a:prstGeom prst="pie">
            <a:avLst/>
          </a:prstGeom>
          <a:noFill/>
          <a:ln w="38160">
            <a:solidFill>
              <a:srgbClr val="ff3300"/>
            </a:solidFill>
            <a:prstDash val="lgDashDot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257800" y="2514600"/>
            <a:ext cx="3124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Simulación o Subterfu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(se presume subordinación y depende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1752480" y="2286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Contrato  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0" y="4572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Contrato   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1143000"/>
            <a:ext cx="9143640" cy="533520"/>
            <a:chOff x="0" y="1143000"/>
            <a:chExt cx="9143640" cy="533520"/>
          </a:xfrm>
        </p:grpSpPr>
        <p:sp>
          <p:nvSpPr>
            <p:cNvPr id="115" name="Line 3"/>
            <p:cNvSpPr/>
            <p:nvPr/>
          </p:nvSpPr>
          <p:spPr>
            <a:xfrm>
              <a:off x="0" y="167652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4"/>
            <p:cNvSpPr/>
            <p:nvPr/>
          </p:nvSpPr>
          <p:spPr>
            <a:xfrm>
              <a:off x="1023840" y="114300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5"/>
            <p:cNvSpPr/>
            <p:nvPr/>
          </p:nvSpPr>
          <p:spPr>
            <a:xfrm flipV="1">
              <a:off x="1023840" y="1143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RITERIO  PARA EVITAR DOBLE SUBORDIN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657600" y="1447920"/>
            <a:ext cx="297180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mpres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572000" y="5168880"/>
            <a:ext cx="190512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rabaj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rc 10"/>
          <p:cNvSpPr/>
          <p:nvPr/>
        </p:nvSpPr>
        <p:spPr>
          <a:xfrm flipH="1" flipV="1">
            <a:off x="2133720" y="4648320"/>
            <a:ext cx="2970000" cy="914400"/>
          </a:xfrm>
          <a:prstGeom prst="pie">
            <a:avLst/>
          </a:prstGeom>
          <a:noFill/>
          <a:ln cap="sq" w="38160">
            <a:solidFill>
              <a:srgbClr val="ff33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990720" y="2514600"/>
            <a:ext cx="243828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Administrador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990720" y="4191120"/>
            <a:ext cx="243828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Administrador Contr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2209680" y="3429000"/>
            <a:ext cx="76320" cy="68580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7696080" y="27432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imes New Roman"/>
                <a:ea typeface="MS Mincho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rc 19"/>
          <p:cNvSpPr/>
          <p:nvPr/>
        </p:nvSpPr>
        <p:spPr>
          <a:xfrm flipH="1">
            <a:off x="2610000" y="1579680"/>
            <a:ext cx="1117440" cy="900000"/>
          </a:xfrm>
          <a:prstGeom prst="pie">
            <a:avLst/>
          </a:prstGeom>
          <a:noFill/>
          <a:ln cap="sq" w="38160">
            <a:solidFill>
              <a:srgbClr val="ff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rc 24"/>
          <p:cNvSpPr/>
          <p:nvPr/>
        </p:nvSpPr>
        <p:spPr>
          <a:xfrm>
            <a:off x="6627960" y="1679400"/>
            <a:ext cx="2058840" cy="38196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8:47:34Z</dcterms:created>
  <dc:creator>Achs</dc:creator>
  <dc:description/>
  <dc:language>en-US</dc:language>
  <cp:lastModifiedBy>WinuE</cp:lastModifiedBy>
  <dcterms:modified xsi:type="dcterms:W3CDTF">2011-04-24T22:56:02Z</dcterms:modified>
  <cp:revision>211</cp:revision>
  <dc:subject/>
  <dc:title>Presentación de PowerPoint</dc:title>
</cp:coreProperties>
</file>