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37DD-1CA8-4E7D-AC08-3534B5306E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4731-C6A2-4C05-9BA8-9E732C7A08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E888-739D-4F91-A56C-8EBFE8E591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86C6-15A5-4963-9A48-5C3C9FB6CE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E8C4-C4EB-4AC5-B53E-918DCB264C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328F-1FAC-471D-A387-86993C2B1F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94FD-4BFA-4EA1-9B2A-71BD000EB2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C084-3A50-4F6C-8F8C-690CAFB2C1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0A78-A7A6-43BB-8412-95780FA089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49D9-35B1-4680-BC2F-AEA05207C9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C6F2-A24B-4613-B593-E754CCC192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5FA7-A06E-445C-B6C7-BE54E26350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5F2F-42ED-4804-AFF8-B8E71A58B2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F7DC-71E2-4438-948D-65945FC5DF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7D02-97C9-4880-A762-51EFFB2EE8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8B69-1E50-4F4D-B3D0-461073063A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536B-2DA7-4089-A29B-54F5239065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6603-F5AF-407F-A237-7D4E812D88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8DD4-307A-4026-84C1-5F1B872282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A29C-8DF7-4844-8FBA-3D24FCF990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4A13-276C-4246-B47F-8D95D4A521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8493-962A-4BA2-8E1D-9CE24F6B7D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A911-0546-4169-AC93-4964203B99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4308-0B45-40EB-94D6-E4FC715DA0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D2C4-A615-4180-A7E1-44C7C66B0B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4D48-296B-4821-B9F1-99556DDB7B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57E-391A-4B0F-B42F-C34B2E82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BC2-05FF-4763-AA3B-37D483AC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B44-7FB1-4694-BF60-B2812F75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F19-9142-4C9F-BF4B-0538D577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7D9-13D7-4CC5-9B0F-ECB0AB57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E19-FD13-463C-B6AA-4D03AAB3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210-BB90-44F8-B5FA-BE49C6C3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F48-75B8-4493-9E2D-9CE3AF93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05A-424E-4CE3-A76F-A2271867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DF9-ED79-4D78-A48B-33E028FE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9EB-8BA1-4CE6-AF8F-B45029C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149-1A51-4677-A59F-845D23E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6C32-7A3F-447F-B70F-38B8D43EE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8"/>
          <p:cNvGraphicFramePr/>
          <p:nvPr/>
        </p:nvGraphicFramePr>
        <p:xfrm>
          <a:off x="1066680" y="6019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019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Text Box 9"/>
          <p:cNvSpPr/>
          <p:nvPr/>
        </p:nvSpPr>
        <p:spPr>
          <a:xfrm>
            <a:off x="1774800" y="61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atricio Pinoch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GERENCIA DE PREVENC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0"/>
          <p:cNvGrpSpPr/>
          <p:nvPr/>
        </p:nvGrpSpPr>
        <p:grpSpPr>
          <a:xfrm>
            <a:off x="0" y="1066680"/>
            <a:ext cx="9143640" cy="533520"/>
            <a:chOff x="0" y="1066680"/>
            <a:chExt cx="9143640" cy="533520"/>
          </a:xfrm>
        </p:grpSpPr>
        <p:sp>
          <p:nvSpPr>
            <p:cNvPr id="10" name="Line 11"/>
            <p:cNvSpPr/>
            <p:nvPr/>
          </p:nvSpPr>
          <p:spPr>
            <a:xfrm>
              <a:off x="0" y="16002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12"/>
            <p:cNvSpPr/>
            <p:nvPr/>
          </p:nvSpPr>
          <p:spPr>
            <a:xfrm>
              <a:off x="1023840" y="10666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13"/>
            <p:cNvSpPr/>
            <p:nvPr/>
          </p:nvSpPr>
          <p:spPr>
            <a:xfrm flipV="1">
              <a:off x="1023840" y="10666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 rot="16200000">
            <a:off x="-1098360" y="39351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028880" y="2895480"/>
            <a:ext cx="7924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Ley N° 20.123 - Subcontra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ero 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0" y="6324480"/>
            <a:ext cx="9143640" cy="533520"/>
            <a:chOff x="0" y="6324480"/>
            <a:chExt cx="9143640" cy="533520"/>
          </a:xfrm>
        </p:grpSpPr>
        <p:sp>
          <p:nvSpPr>
            <p:cNvPr id="59" name="Line 8"/>
            <p:cNvSpPr/>
            <p:nvPr/>
          </p:nvSpPr>
          <p:spPr>
            <a:xfrm>
              <a:off x="0" y="68580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1023840" y="63244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1023840" y="6324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57200" y="26668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formar de los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y de las medida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 sus trabajadores y a las Empresas Contratistas o Subcontratistas,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nt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l inicio de las faenas, o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cuando se produzcan cambi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las condiciones del 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4419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Dar cumplimiento a el Decreto Supremo Nº 594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respecto a todos los trabajadores que se desempeñen en la Obra, Faena o Servicio (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spectos sanitarios, disposición de residuos, agua potable, riesgos de higiene industrial. )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26370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Vigilar el 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or parte de los Contratistas y Subcontratistas, de la obligación de informar  los Riesgos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dicar los procedimientos seguros de trabajo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y las medidas de Prevención de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y de la entrega de los EPP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09480" y="41148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Controlar la constitución y el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Comités Paritarios y de los Departamentos  de Prevención, cuando correspondan, de acuerdo a D.S.  N°s 40 y 54,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057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3276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Facilitar el acces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e los Organismos Administradores de la Ley Nº 16.744, a la Obra, Faena o Servicios, con el objetivo de que cumplan sus funciones (evaluaciones, inspecciones, charlas, HO, INE, Reconocimientos, Investigaciones. ). Coordinar las acciones de estos Organismos Administradores, en la Obra, Faena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295280" y="1371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33520" y="2286000"/>
            <a:ext cx="830556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mplementar y aplicar un Sistema de Gestión de la Seguridad y Salud, el que incluirá entre otros los sigui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feccionar y mantene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al día el Reglamento Especial, para Empresas Contratistas y Subcontratis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stituir y mantener en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l Comité Paritario y el Departamento de Prevención de Riesgos de Faen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ordinar las accione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entre las distintas Empresas, desde el día que se inician los traba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219320" y="1125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57200" y="1773360"/>
            <a:ext cx="83059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mplementar y aplicar un Sistema de Gestión de la Seguridad y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ando en Obra ,Faena o Servicio, laboren mas de 50 trabajadores; el que incluirá entre otros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ntrolar que cada Contratista o Subcontratist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ente con un procedimiento, frente a los accidentes; a objeto de ofrecer una adecuada y oportuna atención médica, a sus trabaj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elar por el cumplimiento de los indicad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en el artículo Nº 76, informando inmediatamente de un accidente labora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fatal o grav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 la Dirección del Trabajo, y al Seremi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uspender inmediatamente la faen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desalojando el lugar. La reanudación del trabajo se hará previa autorización del fiscalizador, y cuando se hayan solucionado los riesgos que originaron el acci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tuaciones del Empleador ante Accidente grave o fa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74560" y="17524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rtículo Nº 76, inciso 4° de la Ley Nº 16.74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2286000"/>
            <a:ext cx="8642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n caso de accidentes del trabajo fatales o graves,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l Empleador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eberá informar inmediatamente a la Inspección del Trabajo y a la Secretaría Regional Ministerial de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que corresponda,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erca de la ocurrencia de estos  h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49200" y="3718080"/>
            <a:ext cx="8642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ómina de direcciones, teléfonos y Fax que deben ser utilizados para la notificación, se encuent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perintendencia de Seguridad Social: www.suses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irección del Trabajo                           : www.direcciondeltrabaj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Ministerio de Salud                              : www.minsal.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finición de Accidente grave y fata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(Circular Nº 2.345, SUSESO)</a:t>
            </a: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915920"/>
            <a:ext cx="79185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fatal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causa o con ocasión del trabajo, y que provoca la muerte del trabajador, en forma inmediata o durante su traslado a un centro asis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grav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a causa o con ocasión del trabajo y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ligue 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realizar maniobras de resucitación, o a realizar maniobras de res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curra p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caídas de altura de mas de dos me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voqu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en forma inmediata, la amputación o pérdida de cualquier parte del cuer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Que obligu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vacuar el l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l Empleador autosuspensión de Fa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iso 5° del artículo 76 de la Ley Nº 16.7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98360" y="2438280"/>
            <a:ext cx="8640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Empleador debe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uspender de forma inmediata las Faenas afectadas, y de ser necesario, permitir a los trabajadores la evacuación del lugar de trabajo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reanudación de Faen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ólo podrá efectuarse cuando, previa fiscalización del Organismo Fiscalizador, se verifique que se han subsanado las deficiencias constatada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16000" y="4876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in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estas obligaciones, son consideradas “faltas gravísimas”, y son sancionadas con multas entre 50 a 150 U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Faena afectada por un 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cidente fatal o gr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quella área o puesto de trabajo en que ocurrió el accidente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udiendo incluso abarcar la Faena en su conjunto, dependiendo de las características y origen del siniestro, y en la cual, de no adoptar la Empresa medidas correctivas inmediatas, se pone en riesgo la seguridad de otros trabajador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914400" y="129528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ntener en la Obra, Faena o Servicio, un Registro actualizado de antecedentes, sea en papel o digital,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72880" y="2057400"/>
            <a:ext cx="86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ronogram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actividades planif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pia de los Contrat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que mantiene con las Empresas que laboran en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Datos de Contratistas, Subcontratistas y Servicios Transitori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; RUT, Nombre Empresa Organismo Administrador, Nombre del Encargado de Faena, N° de trabajadores, Fecha de Inicio y Término de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Historial de Accidentes y  Enfermedad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Profesional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Fae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form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valuaciones de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isit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y medidas prescritas por los Organismos Administradores de la Ley N° 16.74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speccion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ntidades fiscalizadoras y sus respal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quem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722760" y="135576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ey N° 20.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252520" y="2195640"/>
            <a:ext cx="1622520" cy="622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y N°16.7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5479920" y="2130480"/>
            <a:ext cx="1406520" cy="6094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ódig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58840" y="3747960"/>
            <a:ext cx="2392200" cy="11131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76 (Modif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ig. 16.01.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irc. 2.345 SUSE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irc. 2.346 SUS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211560" y="3794040"/>
            <a:ext cx="2373120" cy="1079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66 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AutoShape 8"/>
          <p:cNvCxnSpPr>
            <a:stCxn id="63" idx="2"/>
            <a:endCxn id="64" idx="0"/>
          </p:cNvCxnSpPr>
          <p:nvPr/>
        </p:nvCxnSpPr>
        <p:spPr>
          <a:xfrm rot="5400000">
            <a:off x="3715560" y="1312920"/>
            <a:ext cx="231120" cy="1535760"/>
          </a:xfrm>
          <a:prstGeom prst="bentConnector3">
            <a:avLst>
              <a:gd name="adj1" fmla="val 4960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9" name="AutoShape 9"/>
          <p:cNvCxnSpPr>
            <a:stCxn id="63" idx="2"/>
            <a:endCxn id="65" idx="0"/>
          </p:cNvCxnSpPr>
          <p:nvPr/>
        </p:nvCxnSpPr>
        <p:spPr>
          <a:xfrm flipH="1" rot="16200000">
            <a:off x="5307480" y="1255320"/>
            <a:ext cx="16596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70" name="AutoShape 10"/>
          <p:cNvCxnSpPr>
            <a:stCxn id="64" idx="2"/>
            <a:endCxn id="66" idx="0"/>
          </p:cNvCxnSpPr>
          <p:nvPr/>
        </p:nvCxnSpPr>
        <p:spPr>
          <a:xfrm rot="5400000">
            <a:off x="1793880" y="2478600"/>
            <a:ext cx="930960" cy="1608840"/>
          </a:xfrm>
          <a:prstGeom prst="bentConnector3">
            <a:avLst>
              <a:gd name="adj1" fmla="val 49980"/>
            </a:avLst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" name="AutoShape 11"/>
          <p:cNvSpPr/>
          <p:nvPr/>
        </p:nvSpPr>
        <p:spPr>
          <a:xfrm>
            <a:off x="5867280" y="3641760"/>
            <a:ext cx="3124440" cy="13716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ga Título VI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Trabajo 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gimen de Subcontratació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AutoShape 12"/>
          <p:cNvCxnSpPr/>
          <p:nvPr/>
        </p:nvCxnSpPr>
        <p:spPr>
          <a:xfrm>
            <a:off x="3047760" y="3108240"/>
            <a:ext cx="1275480" cy="5976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73" name="AutoShape 13"/>
          <p:cNvCxnSpPr/>
          <p:nvPr/>
        </p:nvCxnSpPr>
        <p:spPr>
          <a:xfrm>
            <a:off x="6324120" y="3031920"/>
            <a:ext cx="1335960" cy="35604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sp>
        <p:nvSpPr>
          <p:cNvPr id="74" name="Line 14"/>
          <p:cNvSpPr/>
          <p:nvPr/>
        </p:nvSpPr>
        <p:spPr>
          <a:xfrm flipV="1">
            <a:off x="6324480" y="2727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7696080" y="348948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omponentes mínimos del Sistema de Gestión en Salud y Seguridad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en el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68360" y="2057400"/>
            <a:ext cx="83516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olítica de Seguridad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salud en el trabajo (Gerencia General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Organiz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estructura de la Prevención, actores y responsabilidad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lanific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sobre un diagnóstico inicial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periódica e inclusive a todos los nivel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Acción P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mejoras o correctivas (como resultado de la evalu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 de Contratis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2666880"/>
            <a:ext cx="83055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 ejemplar de este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ser entregad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al Contratista o Subcontratista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previo al inici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sus labores en la Obra, Faena, o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a copia de este Reglamento Especial, s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corporar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al regist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be llevar la Empresa Principal (artículo Nº 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24000" y="1344600"/>
            <a:ext cx="84247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efinición de los encarg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Programa de Gestión de la S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ciones de coordin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tre las actividades de prevención, entre los distintos Empleadores, como reuniones conjuntas de los Comités y de los Deptos. de Prevención, mecanismo de intercambio de información, y procedimientos de acceso de los respectivos Organismos Administ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blig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informar a la Empresa Principal, de cualquier condición, que implique riesgos para la vida y salud de los trabaj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rohibi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evitar accidentes o enfermedades, en la Obra, Faena o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ecanismos de la Empresa Principal, par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ntrolar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a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Contratistas y Subcontratistas por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no cumpl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este Reglamento E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ités Paritarios de Fa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90720" y="26668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uando en una Obra, Faena, o Servicio, el total de los trabajadores ( cualquiera sea su dependencia),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a superior a 25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siempre que esta condición se mantenga por un período a treinta días,  corridos;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la Empresa Principal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constituir y mantener en funcionamiento un Comité Paritario de Fa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0666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aquellas Obras, Faenas, o Servicios, en que existan trabajadores bajo régimen de Subcontratación, y en donde concurran, ademá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trabajadores de Empresas de Servicios Transito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éstos deberán ser considerados para los efectos de calcular el número total de trabajadores pres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39640" y="2209680"/>
            <a:ext cx="822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constitución y funcionamiento del Comité Paritario de Faena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se regirá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or lo dispuesto por e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.S. Nº 54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 1969, del Ministerio del Trabajo y Previsión Social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n todo aquello que no esté regulado por este Reglamento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o que fuere incompatible con sus dis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68360" y="21337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do la Empresa Principal, tenga constituido el Comité Paritario de Higiene y Seguridad, en la respectiva Obra, Faena, o Servicio, de acuerdo al D.S. Nº 54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este podrá asumir las funcion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l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partamentos de Prevención de Riesgo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 Fae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 Nº 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914400" y="1905120"/>
            <a:ext cx="7924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mpresa Principal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constitu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y mantener en funcionamiento un Departamento de Riesgos de Faena, cuando el total de trabajadores, que prestan servicios en la Obra, Faena, o Servicio, sea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100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; siempre que está condición se mantenga por un período igual o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30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 días corrido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143000" y="22096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epartamento de Prevención de Riesgos de Faena, 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se regirá por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 el Título III del D.S. Nº 40 de 1969,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Ministerio del Trabajo y Previsión Social, en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todo aquello que no esté regulado por este Regl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9"/>
          <p:cNvSpPr/>
          <p:nvPr/>
        </p:nvSpPr>
        <p:spPr>
          <a:xfrm>
            <a:off x="838080" y="1066680"/>
            <a:ext cx="457200" cy="914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 rot="16200000">
            <a:off x="-1098360" y="39117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900000" y="21337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Reglamento para aplicación de Artículos Nº 66 bis y 76 de Ley </a:t>
            </a: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Nº 16.7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990720" y="10666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533520" y="1600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828800"/>
            <a:ext cx="7772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i la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contare con su propio Departamento de Prevención de Riesgos Profesionales, de acuerdo a lo establecido en el D.S. Nº 40;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éste deberá asum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las funciones indicadas en este Reglamento, para el Departamento de Prevención de Riesgos de Faena, además de sus propias fun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066680" y="2286000"/>
            <a:ext cx="7391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l Departamento de Prevención de Riesgos de Faena,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estar a cargo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de un Experto en Prevención de Riesgos, de la categoría Profesional, y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contratado a tiempo comple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.S. Nº 76</a:t>
            </a:r>
            <a:br>
              <a:rPr sz="3600"/>
            </a:b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structura del Reglame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74560" y="1989000"/>
            <a:ext cx="7994880" cy="3624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  : Disposiciones Gen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 : Sistema de Gestión de la Seguridad y Salud 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I: Reglamento especial para Empresas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istas y Subcontrat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V: Los Comités Paritarios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 : Los Departamentos de Prevención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: Disposiciones Fi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6 b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5280" y="1484280"/>
            <a:ext cx="837072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obre materias relativas a la Seguridad y Salud en el trabajo, para aquellas Empresas que contraten o subcontraten con otras la realización de una Obra, Faena, o Servicios propios de su giro, así como para sus contratistas y subcontratistas;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 la finalidad de proteger la vida y salud de todos los trabajadores, que laboran en dichos lu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4941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Responsabilidad solid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9144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. Régimen de Subcontra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4000" y="2060640"/>
            <a:ext cx="8569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Habitualidad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o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ermanencia: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quedan fuera los servicios discontinuos o esporád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Obra,  Faena, o Servici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las obras, faenas o servicios deben pertenecer y estar bajo la dirección de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resa Principal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independiente del lugar físico en que se realic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5248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Unicode MS"/>
              </a:rPr>
              <a:t>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EMPRESA PRINCIP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4864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EMPRESA USUAR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2895480" y="2276640"/>
            <a:ext cx="20880" cy="695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52388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2916360" y="3429000"/>
            <a:ext cx="0" cy="619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371600" y="4038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7164360" y="2276640"/>
            <a:ext cx="1440" cy="698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486400" y="30481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ONTRATA TRABAJADORES DE 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2916360" y="4581360"/>
            <a:ext cx="0" cy="694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798200" y="522936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01" name="Line 3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4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276720" y="137160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4920" y="3352680"/>
            <a:ext cx="190476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886200" y="58672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rc 10"/>
          <p:cNvSpPr/>
          <p:nvPr/>
        </p:nvSpPr>
        <p:spPr>
          <a:xfrm flipH="1">
            <a:off x="1295280" y="1676520"/>
            <a:ext cx="1447920" cy="167616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rc 11"/>
          <p:cNvSpPr/>
          <p:nvPr/>
        </p:nvSpPr>
        <p:spPr>
          <a:xfrm flipH="1" flipV="1">
            <a:off x="1294200" y="3886200"/>
            <a:ext cx="2514600" cy="228600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rc 12"/>
          <p:cNvSpPr/>
          <p:nvPr/>
        </p:nvSpPr>
        <p:spPr>
          <a:xfrm flipV="1">
            <a:off x="6172200" y="1599480"/>
            <a:ext cx="1905120" cy="4341960"/>
          </a:xfrm>
          <a:prstGeom prst="pie">
            <a:avLst/>
          </a:prstGeom>
          <a:noFill/>
          <a:ln w="38160">
            <a:solidFill>
              <a:srgbClr val="ff3300"/>
            </a:solidFill>
            <a:prstDash val="lgDashDot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257800" y="2514600"/>
            <a:ext cx="3124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Simulación o Subterfu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(se presume subordinación y depend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75248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0" y="4572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15" name="Line 3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4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5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ITERIO  PARA EVITAR DOBLE SUBORDIN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657600" y="144792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72000" y="51688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rc 10"/>
          <p:cNvSpPr/>
          <p:nvPr/>
        </p:nvSpPr>
        <p:spPr>
          <a:xfrm flipH="1" flipV="1">
            <a:off x="2133720" y="4648320"/>
            <a:ext cx="2970000" cy="91440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90720" y="251460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990720" y="419112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2209680" y="3429000"/>
            <a:ext cx="76320" cy="68580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696080" y="27432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  <a:ea typeface="MS Mincho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19"/>
          <p:cNvSpPr/>
          <p:nvPr/>
        </p:nvSpPr>
        <p:spPr>
          <a:xfrm flipH="1">
            <a:off x="2610000" y="1579680"/>
            <a:ext cx="1117440" cy="90000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24"/>
          <p:cNvSpPr/>
          <p:nvPr/>
        </p:nvSpPr>
        <p:spPr>
          <a:xfrm>
            <a:off x="6627960" y="1679400"/>
            <a:ext cx="2058840" cy="38196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8:47:34Z</dcterms:created>
  <dc:creator>Achs</dc:creator>
  <dc:description/>
  <dc:language>en-US</dc:language>
  <cp:lastModifiedBy>WinuE</cp:lastModifiedBy>
  <dcterms:modified xsi:type="dcterms:W3CDTF">2011-04-24T22:56:02Z</dcterms:modified>
  <cp:revision>211</cp:revision>
  <dc:subject/>
  <dc:title>Presentación de PowerPoint</dc:title>
</cp:coreProperties>
</file>