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26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ABB-32B0-4112-8C7E-5D57334D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AF2-71DB-4425-9912-D6CEE719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A82-4D9C-478D-AD51-6FF1EFB3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279-88BC-4178-8053-455C2077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3972-D48E-4BD4-933E-F6FA16F4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57E3-E341-46DF-BB52-0CD511A0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33BB-6DD0-4053-9A9A-C95288C6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4E07-CC6E-4D9F-BCC8-028FC33A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3AFA-4EEB-4713-950F-C404E54F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462D-11B2-4886-9E36-D4E5D65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4BAA-45CB-4710-8202-6290C13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A3F-4C53-44B0-90C8-7FF8BB49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5BEA-427D-4242-970A-0D4796D3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725F-9BC8-4B5A-8532-0ACF997D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78B0-8EB1-49D8-A72F-573FC0CE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425C-ED35-48C5-89B8-DE02840F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BDD4-4F25-4658-8F56-46875079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27E-6673-4BA6-96C1-2FD4AA83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568-1474-4E17-8FF1-3D5B4A77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B82-A7CD-46D5-B5AF-831AD50E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281-E970-439B-8F54-DE68218D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F50-C0B5-4776-A46D-55FD57F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C83-C758-437C-B38D-7A6B055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3C6-C97D-4C84-A344-CE041AD1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2F0B-9259-4E52-9E88-3A5E90E770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70DB-6A3C-4E40-AEBF-E28761C01A90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21420000">
            <a:off x="1221840" y="2977920"/>
            <a:ext cx="6770880" cy="326700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914400"/>
            <a:ext cx="8305560" cy="4114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DISPOSICIONES LEG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LEY 16.7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0049"/>
                </a:solidFill>
                <a:latin typeface="Arial"/>
              </a:rPr>
              <a:t>(1 DE Febrero de 196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EGURO SOCIAL OBLIGATO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SOBRE ACCIDENTES DEL TRABAJO 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3840" y="6629400"/>
            <a:ext cx="8127720" cy="0"/>
          </a:xfrm>
          <a:prstGeom prst="line">
            <a:avLst/>
          </a:prstGeom>
          <a:ln w="255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4267080"/>
            <a:ext cx="777240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410080"/>
            <a:ext cx="7848360" cy="7621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257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990720"/>
            <a:ext cx="4495680" cy="2895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114800"/>
            <a:ext cx="7848720" cy="7621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50000">
                <a:srgbClr val="e2eb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4800" y="22096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INGENCIAS CUBIERTA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LA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CCIDENTES DEL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26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228600"/>
            <a:ext cx="4343400" cy="76212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33920" y="1066680"/>
            <a:ext cx="495288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9fbb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143000"/>
            <a:ext cx="213336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IDENTE DEL</a:t>
            </a:r>
            <a:r>
              <a:rPr b="1" lang="en-US" sz="2800" spc="-1" strike="noStrike">
                <a:solidFill>
                  <a:srgbClr val="712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 TOD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QUE SUFRA UNA PERSONA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US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C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CA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L TRABAJO Y QUE LE PRODUZC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CAPACIDA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 MUER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2133720" cy="53352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457200"/>
            <a:ext cx="480060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2251080" cy="17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ON TAMBIEN CONSIDERAD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CCIDENTES DE DIRIGENTES SINDICALES A CAUSA DE SU COMETIDO GREM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BAJADOR ENVIADO POR LA EMPRESA A CURSOS DE CAPACITAC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67560" y="5181480"/>
            <a:ext cx="1789200" cy="11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CAUSADOS POR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FUERZA MAYOR</a:t>
            </a: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EXTRAÑA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 Y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SIN RELACION CON EL TRABAJO DE LA VICTIMA</a:t>
            </a:r>
            <a:r>
              <a:rPr b="1" lang="en-US" sz="2900" spc="-1" strike="noStrike">
                <a:solidFill>
                  <a:srgbClr val="280049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362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LOS PRODUCIDOS </a:t>
            </a:r>
            <a:r>
              <a:rPr b="1" lang="en-US" sz="2900" spc="-1" strike="noStrike">
                <a:solidFill>
                  <a:srgbClr val="ff9900"/>
                </a:solidFill>
                <a:latin typeface="Arial"/>
              </a:rPr>
              <a:t>INTENCIONALMENTE POR LA VICTIM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48200" y="4838760"/>
            <a:ext cx="1230120" cy="15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ahoma"/>
              </a:rPr>
              <a:t>Fuerza may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 la naturalez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ismos, Tempestades, Enfermedades, Incendios, Naufragios, Aluv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Del homb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Guerras, revolucion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52388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input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o existe culpable, Voluntad del trabajador o empleador no interviene en la ocurrencia del hecho.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previsi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Las partes no pueden prever  la ocurrencia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00"/>
                </a:solidFill>
                <a:uFillTx/>
                <a:latin typeface="Tahoma"/>
              </a:rPr>
              <a:t>Insuperabilidad:</a:t>
            </a: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Nadie podría evitar las causas del hec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6668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ACCIDENTE CON CAU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e refiere a la lesion ocurrida debido a una o mas causas, donde tiene en definitiva, efectos más graves que en un caso nor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Herida leve en un hemofíl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nfermedad preexistente (diabe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ahoma"/>
              </a:rPr>
              <a:t>CONCAUSA SOBREVIN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Son aquellos acaecidos con posterioridad al accidente, pero en relación con 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rror en intervención quirúr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2590920"/>
            <a:ext cx="8229600" cy="2590560"/>
          </a:xfrm>
          <a:prstGeom prst="roundRect">
            <a:avLst>
              <a:gd name="adj" fmla="val 124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438280"/>
            <a:ext cx="8305560" cy="2590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f57b49"/>
              </a:gs>
              <a:gs pos="50000">
                <a:srgbClr val="fefefe"/>
              </a:gs>
              <a:gs pos="100000">
                <a:srgbClr val="f57b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N LOS OCURRIDOS EN EL TRAYECTO DIRECTO ENTRE LA HABITACION Y EL LUGAR DE TRABAJO Y VICEVER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676520"/>
            <a:ext cx="2044800" cy="520560"/>
          </a:xfrm>
          <a:prstGeom prst="roundRect">
            <a:avLst>
              <a:gd name="adj" fmla="val 49995"/>
            </a:avLst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066680"/>
            <a:ext cx="5029200" cy="53352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990720"/>
            <a:ext cx="5029200" cy="5331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1523880"/>
            <a:ext cx="2895480" cy="533520"/>
          </a:xfrm>
          <a:prstGeom prst="roundRect">
            <a:avLst>
              <a:gd name="adj" fmla="val 49995"/>
            </a:avLst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447920"/>
            <a:ext cx="3047760" cy="5331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523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 EL TRA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38360" y="5261040"/>
            <a:ext cx="1971720" cy="10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Domicilio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Es el asiento legal de una persona. Atiende más a un concepto que a una materialidad. (pluralidad de domicil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Residenci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Atiende a un concepto material, donde la persona vive en forma perman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Habitación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Lugar donde la persona reside o perno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66ffff"/>
                </a:solidFill>
                <a:uFillTx/>
                <a:latin typeface="Tahoma"/>
              </a:rPr>
              <a:t>Morada: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Se asemeja a habi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457200"/>
            <a:ext cx="813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7524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Lugar de trabaj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Lugar donde la persona desempeña una función, tomando en cuenta el momento en que se dispone a trabaj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669900"/>
                </a:solidFill>
                <a:uFillTx/>
                <a:latin typeface="Tahoma"/>
              </a:rPr>
              <a:t>Trayecto directo: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Trayecto que no sea desviado ni interrumpido por propósitos  ajenos a la necesidad de dirigirse al lugar de trabajo o habit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4440" y="566640"/>
          <a:ext cx="8115120" cy="572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66640"/>
                    <a:ext cx="811512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838080"/>
            <a:ext cx="8382240" cy="53352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458200" cy="5331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447920"/>
            <a:ext cx="8382240" cy="83808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523880"/>
            <a:ext cx="8458200" cy="83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dee7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IDENTE DEL TRABAJO EN EL TRAYECT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E DE CARABIN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RTIFICADO MEDICO - POSTA - HOS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IG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2100"/>
              </a:spcBef>
              <a:buClr>
                <a:srgbClr val="0054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 EMPLEADOR SOLO OTORGA DENUNCIA Y CERTIFICADO HOR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6765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6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BEN SER PROBADOS POR EL TRABAJADOR (ART. 7º DECRETO 10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0" y="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828800"/>
            <a:ext cx="8534160" cy="2209680"/>
          </a:xfrm>
          <a:prstGeom prst="roundRect">
            <a:avLst>
              <a:gd name="adj" fmla="val 1249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3049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04920"/>
            <a:ext cx="5639040" cy="76176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FERMEDAD PROFESIONAL</a:t>
            </a:r>
            <a:br>
              <a:rPr sz="2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REGLAMENTADO DECRETO Nº 109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S LA CAUSADA DE UNA MANERA DIRECTA POR EL EJERCICIO DE LA PROFESION O EL TRABAJO QUE REALICE UNA PERSONA Y QUE LE PRODUZCA INCAPACIDAD O MUER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295280"/>
            <a:ext cx="2355840" cy="527040"/>
          </a:xfrm>
          <a:prstGeom prst="roundRect">
            <a:avLst>
              <a:gd name="adj" fmla="val 49995"/>
            </a:avLst>
          </a:prstGeom>
          <a:solidFill>
            <a:srgbClr val="2800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1295280"/>
            <a:ext cx="2057400" cy="53352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1295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FINIC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4114800" cy="237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br>
              <a:rPr sz="3600"/>
            </a:b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ENFERMEDAD 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 u="sng">
                <a:solidFill>
                  <a:srgbClr val="669900"/>
                </a:solidFill>
                <a:uFillTx/>
                <a:latin typeface="Tahoma"/>
              </a:rPr>
              <a:t>Elemen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ación directa de causa ef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capacidad o muerte del trabaj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ar incluida en Decreto Supremo Nº 109 o prueba conforme al Art. Nº 7 de la L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04640"/>
            <a:ext cx="87138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00"/>
                </a:solidFill>
                <a:uFillTx/>
                <a:latin typeface="Tahoma"/>
              </a:rPr>
              <a:t>Similitudes entre Accidente y Enf. Pro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Relación entre el trabajo y la alteración de la salud, y menoscabo de la capacidad de trabajo o muerte del trabaj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Alteración de la salu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Estado de necesidad del trabajador yo de sus cargas famili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Estado de necesidad:</a:t>
            </a:r>
            <a:r>
              <a:rPr b="0" lang="es-CL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Hechos que provocan una situación de menor capacidad de ganancia o bien desembolso extraordinario, o amb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LEGISLACIÓN DE ACCID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12536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6600"/>
                </a:solidFill>
                <a:uFillTx/>
                <a:latin typeface="Tahoma"/>
              </a:rPr>
              <a:t>Di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origen clínico Ej.: trabajador de una mina ( sordo por detonació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stantaneidad y/o acumu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usa directa o indirec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ccidente no está reglamentado, es un concep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7400" y="1143000"/>
            <a:ext cx="5715000" cy="2286000"/>
          </a:xfrm>
          <a:prstGeom prst="roundRect">
            <a:avLst>
              <a:gd name="adj" fmla="val 1249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1143000"/>
            <a:ext cx="5410080" cy="2286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0" y="114264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ADMINISTRAC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D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0049"/>
                </a:solidFill>
                <a:latin typeface="Arial"/>
              </a:rPr>
              <a:t>SEGU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57200"/>
            <a:ext cx="403884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3886200"/>
            <a:ext cx="7543800" cy="990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105520"/>
            <a:ext cx="7543800" cy="1218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18ffd"/>
              </a:gs>
              <a:gs pos="50000">
                <a:srgbClr val="fefefe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03848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A. ORGANISMOS ESTA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I.N.P. - S.N.S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B. ORGANISMOS PRIV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MUTUALIDA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80049"/>
                </a:solidFill>
                <a:latin typeface="Arial"/>
              </a:rPr>
              <a:t>(ADMINISTRACION DELEG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2971800"/>
            <a:ext cx="7162920" cy="1143000"/>
          </a:xfrm>
          <a:prstGeom prst="roundRect">
            <a:avLst>
              <a:gd name="adj" fmla="val 31611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343400"/>
            <a:ext cx="5257800" cy="7621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990720"/>
            <a:ext cx="5715000" cy="685800"/>
          </a:xfrm>
          <a:prstGeom prst="roundRect">
            <a:avLst>
              <a:gd name="adj" fmla="val 28565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990720"/>
            <a:ext cx="5943600" cy="68580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5257800"/>
            <a:ext cx="7772400" cy="99072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162920" cy="685800"/>
          </a:xfrm>
          <a:prstGeom prst="roundRect">
            <a:avLst>
              <a:gd name="adj" fmla="val 36532"/>
            </a:avLst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c5e"/>
                </a:solidFill>
                <a:latin typeface="Arial"/>
              </a:rPr>
              <a:t>FINANCIAMIENTO LE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A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BASICA 0,9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B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OTIZACION ADIC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0,0% - 3,4% (DECRETO 11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C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MULT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. 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533520"/>
            <a:ext cx="6400800" cy="838080"/>
          </a:xfrm>
          <a:prstGeom prst="roundRect">
            <a:avLst>
              <a:gd name="adj" fmla="val 28565"/>
            </a:avLst>
          </a:prstGeom>
          <a:solidFill>
            <a:srgbClr val="6e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57200"/>
            <a:ext cx="624852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PRESTACIONES MEDICA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ENCION MEDICA, QUIRURGICA Y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SPITALIZ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MENTOS Y PRODUCTOS FARMACEU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SIS Y APARATOS ORTOPEDICOS Y SU REPAR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buClr>
                <a:srgbClr val="9999f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HABILITACION FI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20685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90920" y="533520"/>
            <a:ext cx="5638680" cy="914400"/>
          </a:xfrm>
          <a:prstGeom prst="roundRect">
            <a:avLst>
              <a:gd name="adj" fmla="val 28565"/>
            </a:avLst>
          </a:prstGeom>
          <a:solidFill>
            <a:srgbClr val="280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380880"/>
            <a:ext cx="5639040" cy="914400"/>
          </a:xfrm>
          <a:prstGeom prst="roundRect">
            <a:avLst>
              <a:gd name="adj" fmla="val 28565"/>
            </a:avLst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      PRESTACIONES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ECONOM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) SUBSI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) INDEMNIZ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II)PEN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V)PENSION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ERVIVEN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76200" y="671400"/>
          <a:ext cx="8391600" cy="55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200" y="671400"/>
                    <a:ext cx="839160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1676520"/>
            <a:ext cx="38862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I)      SUBSIDI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89548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 algn="just">
              <a:lnSpc>
                <a:spcPct val="100000"/>
              </a:lnSpc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APACIDAD 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GENCIA 52 SEMANAS PRORROGABLES POR OTRAS 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TO: 100% DE LA REMUNERACION PROMEDIO ULTIMOS 3 M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CIDENTE O ENFERMEDAD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YE COTIZACION PREVISIONAL Y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DERECHO A REPETIR ART. 56 Y 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838080"/>
            <a:ext cx="5029200" cy="838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 INDEMNIZACION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ANDO EL TRABAJADOR PIERDE ENTRE EL 15% Y 40% DE SU CAPACIDAD DE GANA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54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CIBE DE 1,5  A 15 SUELDOS BASE QUE CORRESPONDEN AL PROMEDIO REMUNERACION DE LOS 6 MESES ANTERIORES AL ACCIDENTE O ENFERMEDAD PROFESION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657600"/>
            <a:ext cx="8229600" cy="22096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fefefe"/>
              </a:gs>
              <a:gs pos="100000">
                <a:srgbClr val="eaec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971800"/>
            <a:ext cx="822960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04560" y="23619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DIDA PERMANENTE DE SU CAPACIDAD DE GANA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%PERDID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PENSION MENS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1800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TRE 40% Y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5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GUAL O SUPERIOR A 70%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7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DA SU CAPACIDA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10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N INVALIDEZ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30% SUPLE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E 140% SUELDO 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1295280"/>
            <a:ext cx="3809880" cy="685800"/>
          </a:xfrm>
          <a:prstGeom prst="ellipse">
            <a:avLst/>
          </a:prstGeom>
          <a:gradFill rotWithShape="0">
            <a:gsLst>
              <a:gs pos="0">
                <a:srgbClr val="f35b1b"/>
              </a:gs>
              <a:gs pos="50000">
                <a:srgbClr val="f9bca3"/>
              </a:gs>
              <a:gs pos="100000">
                <a:srgbClr val="f35b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280049"/>
                </a:solidFill>
                <a:latin typeface="Arial"/>
              </a:rPr>
              <a:t>III) PEN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2971800"/>
            <a:ext cx="0" cy="5842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657600"/>
            <a:ext cx="0" cy="2184480"/>
          </a:xfrm>
          <a:prstGeom prst="line">
            <a:avLst/>
          </a:prstGeom>
          <a:ln w="25560">
            <a:solidFill>
              <a:srgbClr val="28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4952880" cy="1066680"/>
          </a:xfrm>
          <a:prstGeom prst="ellipse">
            <a:avLst/>
          </a:prstGeom>
          <a:gradFill rotWithShape="0">
            <a:gsLst>
              <a:gs pos="0">
                <a:srgbClr val="438e00"/>
              </a:gs>
              <a:gs pos="50000">
                <a:srgbClr val="fefefe"/>
              </a:gs>
              <a:gs pos="100000">
                <a:srgbClr val="438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V) PENSIONES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OR SUPERVIVENCI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RECHO - HABIENT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7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P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5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 algn="just">
              <a:lnSpc>
                <a:spcPct val="90000"/>
              </a:lnSpc>
              <a:spcBef>
                <a:spcPts val="2100"/>
              </a:spcBef>
              <a:buClr>
                <a:srgbClr val="f35b1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VIVIENTE Y TODO AQUEL QUE HUBIERE VIVIDO A EXPENSAS DE LA VICTIMA COMO CARGA RECONOCID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715000" y="8380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CION  DE RIESGOS PROFESION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(TITULO VII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588520" cy="20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LIGACIONES DEL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VIGILANCIA Y FISCALIZACION DE LA PREVENCION, HIGIENE Y SEGURIDAD DE TODOS LOS SITIOS DE TRABAJO A TRAVES DE LOS SNSS. (ART.6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99ccf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CAR LAS MEDIDAS DE HIGIENE Y SEGURIDAD EN EL TRABAJO NECESARIAS EN LAS EMPRESAS A TRAVES DE LOS SERVICIOS DE SALUD Y APLICAR SANCIONES POR INCUMPLIMIENTO. (ART.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86104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2276640"/>
            <a:ext cx="5867280" cy="4124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BIR TODAS LAS MEDIDAS DE HIGIENE Y SEGURIDAD EN EL TRABAJO QUE LAS EMPRESAS ADHERIDAS DEBAN IMPLANT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LICAR ALZAS O REBAJAS DE COTIZACION ADICIONAL DIFERENCIADA (TASA DE SINIESTRALIDAD EFECTIVA DECRETO Nº 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438280" cy="2361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95280" y="476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OS ORGANISMOS ADMINIST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920000" cy="45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-541440" algn="just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ANTAR MEDIDAS DE PREVENCIÓN DE RIESGOS QUE INDIQUE EL ORGANISMO ADMINISTRADOR Y/O EL DEPARTAMENTO DE PREVENCION DE RIESGOS Y COMITES PARITAR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Y MANTENER AL DIA REGLAMENTO INTERNO DE HIGIENE Y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41440" indent="-541440" algn="just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ECER EL DEPARTAMENTO DE PREVENCIÓN DE RIESGOS CUANDO CUENTEN CON MAS DE 100 TRABA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286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9680" y="655308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57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43828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2060640"/>
            <a:ext cx="864216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r comité paritario cuando cuente con mas 25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r a los trabajadores, elementos de protección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 a su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1199"/>
              </a:spcBef>
              <a:buClr>
                <a:srgbClr val="99ccff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ectuar exámenes de control radiológico a trabajadores expuestos a riesgos de neumoconio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457200"/>
            <a:ext cx="5486400" cy="533520"/>
          </a:xfrm>
          <a:prstGeom prst="flowChartAlternateProcess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533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457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LIGACIONES DE L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705720" y="4762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09680" y="3049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99440" cy="358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o establecido por el reglamento int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0440" indent="-190440" algn="just">
              <a:lnSpc>
                <a:spcPct val="90000"/>
              </a:lnSpc>
              <a:spcBef>
                <a:spcPts val="10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mplir con las normas e instrucciones impartidas por el servicio de salud, organismo administrador, departamento de prevención de riesgos o Comité Paritario de Higiene y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8380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80880"/>
            <a:ext cx="6575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 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3816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2060640"/>
            <a:ext cx="6624720" cy="422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just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tilizar los elementos de protección personal y/o dispositivos de segur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udir a exámenes médicos de contro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rticipar activamente en el actividades de prevención de riesgos a través del comité parit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0" y="662940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333360"/>
            <a:ext cx="6019920" cy="9907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LIGACIONES DE 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BAJ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964200" y="2205000"/>
            <a:ext cx="1987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8520" y="414360"/>
          <a:ext cx="8886960" cy="602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414360"/>
                    <a:ext cx="888696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9280" y="333360"/>
            <a:ext cx="4176720" cy="1143000"/>
          </a:xfrm>
          <a:prstGeom prst="roundRect">
            <a:avLst>
              <a:gd name="adj" fmla="val 16667"/>
            </a:avLst>
          </a:prstGeom>
          <a:solidFill>
            <a:srgbClr val="ffd9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5639040" cy="35812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tectar y evaluar riesg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6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ión educativa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moción del adiestra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esoría a Comités Paritarios y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ínea de administración técn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gistros estadíst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1375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r sobre riesgos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aborales a los trabajad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80880"/>
            <a:ext cx="4191120" cy="99072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fefefe"/>
              </a:gs>
              <a:gs pos="100000">
                <a:srgbClr val="00ae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67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30492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ECRETO S. Nº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333360"/>
            <a:ext cx="4032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NCIONES DE LOS DEPARTA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 PREVENCION 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841480" cy="1752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972040" y="4038480"/>
            <a:ext cx="28846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2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7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2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7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2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7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sorar e instruir a los trabajadores en la correcta utilización de los elementos de protección pers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gilar cumplimiento de medidas de higiene y segur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gar causas de accidentes y enfermedades profesion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dir si el accidente o enfermedad profesional se debió a negligencia inexcusable del trabaj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4096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404640"/>
            <a:ext cx="335268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1890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933560"/>
            <a:ext cx="3816360" cy="6375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925800" cy="220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9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3200400"/>
            <a:ext cx="8713800" cy="322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r la adopción de todas las medidas de higiene y segur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mplir funciones o misiones que se les haya encomendado el organismo administr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ver cursos de capacitación para  los trabaj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r sobre riesgos labo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512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80880"/>
            <a:ext cx="3353040" cy="762120"/>
          </a:xfrm>
          <a:prstGeom prst="rect">
            <a:avLst/>
          </a:prstGeom>
          <a:solidFill>
            <a:srgbClr val="fadfb4"/>
          </a:solidFill>
          <a:ln w="0">
            <a:noFill/>
          </a:ln>
          <a:effectLst>
            <a:outerShdw dist="17819" dir="2700000" blurRad="0" rotWithShape="0">
              <a:srgbClr val="9585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2286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TO S. Nº 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828800"/>
            <a:ext cx="4232520" cy="698760"/>
          </a:xfrm>
          <a:prstGeom prst="rect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IONES DEL COM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I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364000" y="609480"/>
            <a:ext cx="3551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04920" y="428760"/>
          <a:ext cx="8458200" cy="64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28760"/>
                    <a:ext cx="845820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5760" y="404640"/>
          <a:ext cx="8772480" cy="604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60" y="404640"/>
                    <a:ext cx="87724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7320" y="747720"/>
          <a:ext cx="8829360" cy="53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320" y="747720"/>
                    <a:ext cx="88293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600200"/>
            <a:ext cx="7162920" cy="6858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a2c1fe"/>
              </a:gs>
              <a:gs pos="50000">
                <a:srgbClr val="fefefe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6019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2000"/>
                </a:solidFill>
                <a:latin typeface="Arial"/>
              </a:rPr>
              <a:t>OBJETIVOS LEY 16.74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REVENCION DE ACCIDENTES ENFERMEDADE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PRESTACIONES MED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PRESTACIONES ECONO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REHABILIT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 REEDUCA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10080" y="4705200"/>
            <a:ext cx="2919600" cy="165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37160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a2c1fe"/>
              </a:gs>
              <a:gs pos="50000">
                <a:srgbClr val="f4f7fd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00600" y="1143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BAJADORES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ENTA AJ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ION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UDI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2999"/>
              </a:spcBef>
              <a:buClr>
                <a:srgbClr val="99cc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GUNOS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 TRABAJ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I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133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712000"/>
                </a:solidFill>
                <a:latin typeface="Arial"/>
              </a:rPr>
              <a:t>PERSONAS PROTEG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25560" y="152280"/>
            <a:ext cx="904248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57200"/>
            <a:ext cx="4038480" cy="380880"/>
          </a:xfrm>
          <a:prstGeom prst="rect">
            <a:avLst/>
          </a:prstGeom>
          <a:gradFill rotWithShape="0">
            <a:gsLst>
              <a:gs pos="0">
                <a:srgbClr val="ffa27c"/>
              </a:gs>
              <a:gs pos="50000">
                <a:srgbClr val="fefefe"/>
              </a:gs>
              <a:gs pos="100000">
                <a:srgbClr val="ffa2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ISPOSICIONES LEGALES LEY 16.7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680" y="6477120"/>
            <a:ext cx="8096040" cy="0"/>
          </a:xfrm>
          <a:prstGeom prst="line">
            <a:avLst/>
          </a:prstGeom>
          <a:ln w="5724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00240" y="3656160"/>
            <a:ext cx="2914560" cy="234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0T07:57:52Z</dcterms:created>
  <dc:creator>MUTUAL DE SEGURIDAD C.CH.C.</dc:creator>
  <dc:description/>
  <cp:keywords/>
  <dc:language>en-US</dc:language>
  <cp:lastModifiedBy>.</cp:lastModifiedBy>
  <cp:lastPrinted>1999-08-30T13:50:41Z</cp:lastPrinted>
  <dcterms:modified xsi:type="dcterms:W3CDTF">2008-02-06T14:43:52Z</dcterms:modified>
  <cp:revision>104</cp:revision>
  <dc:subject/>
  <dc:title>CURSO DE ORIENTACION EN</dc:title>
</cp:coreProperties>
</file>