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AAC-8B93-4419-82CD-450AD6E7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D5DB-5859-47B0-A8E6-B611E78C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636-B7A7-41FE-8DCA-2AA30A1D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4C4-52AF-412D-A83F-6BB9F079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E9-089A-406A-BB30-9B264EB6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74D-86C0-4521-BE91-9DD1FDE3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BBE-D660-4A5E-9D6B-A480781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0C1-C65C-44D1-B2CF-54CC01C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EDA-5E93-4EDF-90E4-B3626F1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9BD-9C92-4054-8353-E43724B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F7C-478A-4EDD-85A6-1FEAA70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D09-5EE5-4367-9C45-3F06223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32A5-02DA-4CCA-B8D0-D8921CD649D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65% del IVA en proyectos habitacionales. Ley modificada en 2008: ahora es por tra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xplot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recupera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invers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11-11-17T11:40:57Z</dcterms:modified>
  <cp:revision>47</cp:revision>
  <dc:subject/>
  <dc:title>CI 52A Métodos Constructivos</dc:title>
</cp:coreProperties>
</file>