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5EE-8707-48DC-9CC1-55051FAC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586-F527-4407-8592-436F518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416-162A-4140-86A8-26BA767B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A8C-E93B-4A49-9A5C-31CF67A5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CD3-ECBC-4519-8AA8-0C263AA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42F-AD33-4218-A214-4DC7F285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47F-3165-4938-9E3C-F5403630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138-8C10-4F37-838C-581147C7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091-A102-4BC9-B3A4-DFE5A9D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093-2C86-47AF-9C6E-1975D6E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9B7-B3C9-42C6-8D7C-695B28D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499-2A1C-4176-9DB4-88B4971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4835-691E-42BF-AC2B-D6038E023A92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65% del IVA en proyectos habitacionales. Ley modificada en 2008: ahora es por tra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xplota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recupera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invers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11-11-17T11:40:57Z</dcterms:modified>
  <cp:revision>47</cp:revision>
  <dc:subject/>
  <dc:title>CI 52A Métodos Constructivos</dc:title>
</cp:coreProperties>
</file>