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FDEB-EFD3-4D32-B681-0264655A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9434A-9ED8-4DFA-AE14-23210A0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9FD7-34CA-4BBC-9312-A4CFA835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6803-2061-430A-9E7F-D28511F2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74BE-5C9F-4FE8-A859-7073AABD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1601-0E55-4621-B786-1F0226CB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0BC2-80B6-44A1-A9A1-E93208AD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2D51-16B6-4467-AB97-724D229C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088A-7255-4DCE-894D-83F0184C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EEC5-6CDA-4EFA-8BDC-EF20FDDB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DDED-9538-49CE-9B50-70D3210B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8F8C-CE68-40B6-BFF9-91CE6C16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553A-1D79-4806-9C24-2F732105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33FC-B4B6-460D-BF22-702FCA1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FEF3-161A-4C95-99E7-67E821FD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E619-702C-474D-8FE2-EDE7156E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0815-55CF-4E9B-A67C-377463A0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EFF9-2AD7-4048-B533-10FDA00B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4460-C971-4558-A4AC-DED41F90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B70E-A1F5-4933-B04E-3D827987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97D8-7B1C-49FE-9B97-63AF5820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D0E3-CA9C-4980-BF85-84DED7F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11D9-36C7-4E00-914C-08342AD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EE24-DA50-4178-8C34-7982C7C4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C11E-4FCC-4E33-BE8B-70C14735536E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3C66-BBE1-4944-860C-1597C30E2844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homepage3.nifty.com/kenkraft/img/con/k0040.jpg&amp;imgrefurl=http://homepage3.nifty.com/kenkraft/con-b02.html&amp;h=600&amp;w=900&amp;sz=83&amp;tbnid=5Z3_K-LAEkYJ:&amp;tbnh=96&amp;tbnw=144&amp;start=2&amp;prev=/images%3Fq%3Dfront%2Bshovel%26imgsz%3Dxxlarge%26hl%3Des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ES_tradnl" sz="6600" spc="-1" strike="noStrike">
                <a:solidFill>
                  <a:srgbClr val="e5e5ff"/>
                </a:solidFill>
                <a:latin typeface="Garamond"/>
              </a:rPr>
              <a:t>CI5501</a:t>
            </a:r>
            <a:br>
              <a:rPr sz="6600"/>
            </a:br>
            <a:r>
              <a:rPr b="1" lang="es-ES_tradnl" sz="3600" spc="-1" strike="noStrike">
                <a:solidFill>
                  <a:srgbClr val="e5e5ff"/>
                </a:solidFill>
                <a:latin typeface="Garamond"/>
              </a:rPr>
              <a:t>(CI52A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Pala Mecánic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317600" y="2798640"/>
                <a:ext cx="7137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sSub>
                          <m:e>
                            <m:r>
                              <m:t xml:space="preserve">Q·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576360" y="4572000"/>
            <a:ext cx="907236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eficiencia según ángulo de giro y a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sobre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grande volúmene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Montada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Transmisión eléctric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bles o cilindr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4" descr="Palas_camion"/>
          <p:cNvPicPr/>
          <p:nvPr/>
        </p:nvPicPr>
        <p:blipFill>
          <a:blip r:embed="rId1"/>
          <a:stretch/>
        </p:blipFill>
        <p:spPr>
          <a:xfrm>
            <a:off x="4968720" y="3995640"/>
            <a:ext cx="46054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Loading in the open pit, using a Liebherr 996 excavator and Caterpillar 993 haulers; Thiess Contractors provided the initial mine development service.&#13;&#10;"/>
          <p:cNvPicPr/>
          <p:nvPr/>
        </p:nvPicPr>
        <p:blipFill>
          <a:blip r:embed="rId1"/>
          <a:stretch/>
        </p:blipFill>
        <p:spPr>
          <a:xfrm>
            <a:off x="1295280" y="3995640"/>
            <a:ext cx="523872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680000" y="219564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7180"/>
              <a:gd name="adj5" fmla="val 284092"/>
              <a:gd name="adj6" fmla="val -51513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debaj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993080" y="4716360"/>
            <a:ext cx="12952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81250"/>
              <a:gd name="adj5" fmla="val 233203"/>
              <a:gd name="adj6" fmla="val -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ontrape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16000" y="2556000"/>
            <a:ext cx="129528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2106"/>
              <a:gd name="adj5" fmla="val 582606"/>
              <a:gd name="adj6" fmla="val 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uchar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4089240" y="1476360"/>
            <a:ext cx="599148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863640" y="1547640"/>
            <a:ext cx="1295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21078"/>
              <a:gd name="adj5" fmla="val 50171"/>
              <a:gd name="adj6" fmla="val 342277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503280" y="608472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14000"/>
              <a:gd name="adj5" fmla="val -7458"/>
              <a:gd name="adj6" fmla="val 32844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863640" y="363528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54023"/>
              <a:gd name="adj5" fmla="val -52375"/>
              <a:gd name="adj6" fmla="val 41069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des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pacidad del balde o capacho se mide en forma similar a la retroexcavadora (Norma SAE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Para materiales duros conviene usar el capacho que ejerza la mayor presión posibl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44" descr="P1020489"/>
          <p:cNvPicPr/>
          <p:nvPr/>
        </p:nvPicPr>
        <p:blipFill>
          <a:blip r:embed="rId1"/>
          <a:stretch/>
        </p:blipFill>
        <p:spPr>
          <a:xfrm>
            <a:off x="4824360" y="3708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45" descr=""/>
          <p:cNvPicPr/>
          <p:nvPr/>
        </p:nvPicPr>
        <p:blipFill>
          <a:blip r:embed="rId2"/>
          <a:stretch/>
        </p:blipFill>
        <p:spPr>
          <a:xfrm>
            <a:off x="503280" y="3714840"/>
            <a:ext cx="4176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Terex Giant Truck and Excavator in Gold Mine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50% de la altura máxima de 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: 7 a 9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con carga: 4 a 6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: 2 a 4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: 4 a 5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28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145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Ángulo de barrid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Tipo de materia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Altura de la cara de excav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en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ay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k0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64000"/>
            <a:ext cx="252108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335640" y="716436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 rot="5400000">
            <a:off x="4786560" y="561564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3"/>
          <p:cNvSpPr/>
          <p:nvPr/>
        </p:nvSpPr>
        <p:spPr>
          <a:xfrm rot="16200000">
            <a:off x="5076000" y="4896360"/>
            <a:ext cx="2305080" cy="122364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63800 h 1223640"/>
              <a:gd name="textAreaBottom" fmla="*/ 10598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Factores de reducción de la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40" descr=""/>
          <p:cNvPicPr/>
          <p:nvPr/>
        </p:nvPicPr>
        <p:blipFill>
          <a:blip r:embed="rId1"/>
          <a:stretch/>
        </p:blipFill>
        <p:spPr>
          <a:xfrm>
            <a:off x="216000" y="2987640"/>
            <a:ext cx="9648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</cp:lastModifiedBy>
  <dcterms:modified xsi:type="dcterms:W3CDTF">2011-10-18T11:23:09Z</dcterms:modified>
  <cp:revision>33</cp:revision>
  <dc:subject/>
  <dc:title>CI 52A</dc:title>
</cp:coreProperties>
</file>