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8D1ED-7C2C-4F45-A456-B926DA69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8A310-3327-4F11-A7A9-4208BC79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04A49-C9A1-4B48-B766-02530754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5D370-3DD3-49AD-987A-FF318565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0D36-185C-4103-9A71-93C3022C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E50E-21B5-417B-98BA-09093812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3CB9-2B84-47F7-A6E5-68265366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BFBF-4C3F-4141-88C7-4EBD6402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E1B0-DF9B-4C69-B91E-CB07661B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84FB-A10C-4CD3-89CE-C7907E47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9005-0007-4BE5-ADC0-BD4B5B59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4D74E-1BF6-49D5-9BBF-E20C50CB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41C9-4951-4DD7-A241-8E116928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DBD2-C33D-4C55-B70C-1CC83310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27AB-7774-409C-83DB-5CB72FA6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9523-D7D1-476B-9E37-01336326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02B1-C31B-4B8B-911D-81CC2AC2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B752F-E5FB-4F33-8894-CA1C811D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38B56-0E63-4CF4-BBBF-4CADEE4A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9EB1D-B26D-4C40-BEAF-791368D4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7CEC7-0F9A-4B92-8CAC-D23DCDE7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2B6D0-6BF0-4006-93EA-BEE78098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778EE-6E14-412F-874E-222D2628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A3E26-C972-447E-A799-B9190161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B5B6-58DE-4C17-B96A-3438C6024299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" name="Group 5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24000" y="4626000"/>
                <a:ext cx="5047200" cy="292356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297920" y="4673160"/>
                <a:ext cx="2208600" cy="14191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074920" y="5854320"/>
                <a:ext cx="4985640" cy="16952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08880" y="3902040"/>
                <a:ext cx="5262480" cy="364752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876800" y="4053960"/>
                <a:ext cx="2183760" cy="94284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14000" y="2346120"/>
              <a:ext cx="319392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077120" cy="3107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51" name="Group 3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24000" y="4626000"/>
                <a:ext cx="5047200" cy="292356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297920" y="4673160"/>
                <a:ext cx="2208600" cy="14191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074920" y="5854320"/>
                <a:ext cx="4985640" cy="16952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08880" y="3902040"/>
                <a:ext cx="5262480" cy="364752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876800" y="4053960"/>
                <a:ext cx="2183760" cy="94284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14000" y="2346120"/>
              <a:ext cx="319392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077120" cy="3107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90BB-C766-4982-876B-F67503D72FAB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homepage3.nifty.com/kenkraft/img/con/k0040.jpg&amp;imgrefurl=http://homepage3.nifty.com/kenkraft/con-b02.html&amp;h=600&amp;w=900&amp;sz=83&amp;tbnid=5Z3_K-LAEkYJ:&amp;tbnh=96&amp;tbnw=144&amp;start=2&amp;prev=/images%3Fq%3Dfront%2Bshovel%26imgsz%3Dxxlarge%26hl%3Des%26lr%3D%26ie%3DUTF-8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s-ES_tradnl" sz="6600" spc="-1" strike="noStrike">
                <a:solidFill>
                  <a:srgbClr val="e5e5ff"/>
                </a:solidFill>
                <a:latin typeface="Garamond"/>
              </a:rPr>
              <a:t>CI5501</a:t>
            </a:r>
            <a:br>
              <a:rPr sz="6600"/>
            </a:br>
            <a:r>
              <a:rPr b="1" lang="es-ES_tradnl" sz="3600" spc="-1" strike="noStrike">
                <a:solidFill>
                  <a:srgbClr val="e5e5ff"/>
                </a:solidFill>
                <a:latin typeface="Garamond"/>
              </a:rPr>
              <a:t>(CI52A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Maquinarias para Movimiento de Tierr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Excava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Pala Mecánica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8785440" cy="153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FÓRMULA DE PRODUC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1317600" y="2798640"/>
                <a:ext cx="7137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·</m:t>
                        </m:r>
                        <m:sSub>
                          <m:e>
                            <m:r>
                              <m:t xml:space="preserve">Q·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sponjamiento</m:t>
                        </m:r>
                      </m:den>
                    </m:f>
                    <m:r>
                      <m:t xml:space="preserve">·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Text Box 6"/>
          <p:cNvSpPr/>
          <p:nvPr/>
        </p:nvSpPr>
        <p:spPr>
          <a:xfrm>
            <a:off x="576360" y="4572000"/>
            <a:ext cx="9072360" cy="27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: capacidad del bal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factor de llenado (tabla según materia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factor de eficiencia según ángulo de giro y altu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: tiempo de ciclo (seg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: eficiencia en minutos de cada hora ( tipicamente 50 min/hor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39800" y="2099880"/>
            <a:ext cx="8693280" cy="885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37044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FACTOR DE LLENADO (%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70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Garamond"/>
              </a:rPr>
              <a:t>(SE APLICAN SOBRE CAPACIDAD BALDE COLMADO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36720" y="3419640"/>
          <a:ext cx="8424720" cy="338292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TERIAL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ACTOR (%)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cilla arenos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 – 11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rava y/o aren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5 – 11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ca mal dinamitad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 – 5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ca bien dinamitad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 – 75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cilla dur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 -9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5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979280"/>
            <a:ext cx="8929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Excavación sobre la superficie sobre la cual trabaja la máquina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Adecuada para excavación de grande volúmenes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Montada sobre orugas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Transmisión eléctrica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Cables o cilindro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4" descr="Palas_camion"/>
          <p:cNvPicPr/>
          <p:nvPr/>
        </p:nvPicPr>
        <p:blipFill>
          <a:blip r:embed="rId1"/>
          <a:stretch/>
        </p:blipFill>
        <p:spPr>
          <a:xfrm>
            <a:off x="4968720" y="3995640"/>
            <a:ext cx="460548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6" descr="Loading in the open pit, using a Liebherr 996 excavator and Caterpillar 993 haulers; Thiess Contractors provided the initial mine development service.&#13;&#10;"/>
          <p:cNvPicPr/>
          <p:nvPr/>
        </p:nvPicPr>
        <p:blipFill>
          <a:blip r:embed="rId1"/>
          <a:stretch/>
        </p:blipFill>
        <p:spPr>
          <a:xfrm>
            <a:off x="1295280" y="3995640"/>
            <a:ext cx="5238720" cy="29527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5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4680000" y="2195640"/>
            <a:ext cx="1728720" cy="1008000"/>
          </a:xfrm>
          <a:prstGeom prst="borderCallout2">
            <a:avLst>
              <a:gd name="adj1" fmla="val 18750"/>
              <a:gd name="adj2" fmla="val -8333"/>
              <a:gd name="adj3" fmla="val 11337"/>
              <a:gd name="adj4" fmla="val -27180"/>
              <a:gd name="adj5" fmla="val 284092"/>
              <a:gd name="adj6" fmla="val -51513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ilindros Hidráulicos por debaj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AutoShape 13"/>
          <p:cNvSpPr/>
          <p:nvPr/>
        </p:nvSpPr>
        <p:spPr>
          <a:xfrm>
            <a:off x="7993080" y="4716360"/>
            <a:ext cx="1295280" cy="40176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81250"/>
              <a:gd name="adj5" fmla="val 233203"/>
              <a:gd name="adj6" fmla="val -159680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ontrapes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AutoShape 19"/>
          <p:cNvSpPr/>
          <p:nvPr/>
        </p:nvSpPr>
        <p:spPr>
          <a:xfrm>
            <a:off x="216000" y="2556000"/>
            <a:ext cx="129528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132106"/>
              <a:gd name="adj5" fmla="val 582606"/>
              <a:gd name="adj6" fmla="val 159680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uchar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12" descr=""/>
          <p:cNvPicPr/>
          <p:nvPr/>
        </p:nvPicPr>
        <p:blipFill>
          <a:blip r:embed="rId1"/>
          <a:stretch/>
        </p:blipFill>
        <p:spPr>
          <a:xfrm>
            <a:off x="4089240" y="1476360"/>
            <a:ext cx="5991480" cy="58672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4"/>
          <p:cNvSpPr/>
          <p:nvPr/>
        </p:nvSpPr>
        <p:spPr>
          <a:xfrm>
            <a:off x="863640" y="1547640"/>
            <a:ext cx="129528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221078"/>
              <a:gd name="adj5" fmla="val 50171"/>
              <a:gd name="adj6" fmla="val 342277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Altura máxima excavaci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AutoShape 15"/>
          <p:cNvSpPr/>
          <p:nvPr/>
        </p:nvSpPr>
        <p:spPr>
          <a:xfrm>
            <a:off x="503280" y="6084720"/>
            <a:ext cx="144000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214000"/>
              <a:gd name="adj5" fmla="val -7458"/>
              <a:gd name="adj6" fmla="val 328444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Profundidad máxima excavaci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863640" y="3635280"/>
            <a:ext cx="144000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254023"/>
              <a:gd name="adj5" fmla="val -52375"/>
              <a:gd name="adj6" fmla="val 410694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Altura máxima descarg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7280" y="1476360"/>
            <a:ext cx="9506160" cy="27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62880" indent="-36288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La </a:t>
            </a: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capacidad del balde o capacho se mide en forma similar a la retroexcavadora (Norma SAE)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62880" indent="-36288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Para materiales duros conviene usar el capacho que ejerza la mayor presión posible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444" descr="P1020489"/>
          <p:cNvPicPr/>
          <p:nvPr/>
        </p:nvPicPr>
        <p:blipFill>
          <a:blip r:embed="rId1"/>
          <a:stretch/>
        </p:blipFill>
        <p:spPr>
          <a:xfrm>
            <a:off x="4824360" y="3708360"/>
            <a:ext cx="4751280" cy="356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45" descr=""/>
          <p:cNvPicPr/>
          <p:nvPr/>
        </p:nvPicPr>
        <p:blipFill>
          <a:blip r:embed="rId2"/>
          <a:stretch/>
        </p:blipFill>
        <p:spPr>
          <a:xfrm>
            <a:off x="503280" y="3714840"/>
            <a:ext cx="417672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CL" sz="4900" spc="-1" strike="noStrike">
                <a:solidFill>
                  <a:srgbClr val="e5e5ff"/>
                </a:solidFill>
                <a:latin typeface="Garamond"/>
              </a:rPr>
              <a:t>Tiempo de Ciclo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Terex Giant Truck and Excavator in Gold Mine.avi" descr=""/>
          <p:cNvPicPr/>
          <p:nvPr/>
        </p:nvPicPr>
        <p:blipFill>
          <a:blip r:embed="rId1"/>
          <a:stretch/>
        </p:blipFill>
        <p:spPr>
          <a:xfrm>
            <a:off x="3516480" y="2637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Profundidad óptima de excavación varía entre 30% a 50% de la altura máxima de excava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Ciclo típico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Cargar el balde: 7 a 9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irar con carga: 4 a 6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Descargar: 2 a 4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iro de retorno: 4 a 5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2887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1979640"/>
            <a:ext cx="914544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Ángulo de barrido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28548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Tipo de material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28548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Altura de la cara de excava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2" marL="1295280" indent="-21564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Menor que altura de llenado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95280" indent="-21564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Mayor que altura de llenado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k00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5364000"/>
            <a:ext cx="2521080" cy="1679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4"/>
          <p:cNvSpPr/>
          <p:nvPr/>
        </p:nvSpPr>
        <p:spPr>
          <a:xfrm>
            <a:off x="6335640" y="7164360"/>
            <a:ext cx="3168720" cy="71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15"/>
          <p:cNvSpPr/>
          <p:nvPr/>
        </p:nvSpPr>
        <p:spPr>
          <a:xfrm rot="5400000">
            <a:off x="4786560" y="5615640"/>
            <a:ext cx="3168720" cy="71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13"/>
          <p:cNvSpPr/>
          <p:nvPr/>
        </p:nvSpPr>
        <p:spPr>
          <a:xfrm rot="16200000">
            <a:off x="5076000" y="4896360"/>
            <a:ext cx="2305080" cy="1223640"/>
          </a:xfrm>
          <a:custGeom>
            <a:avLst/>
            <a:gdLst>
              <a:gd name="textAreaLeft" fmla="*/ 403200 w 2305080"/>
              <a:gd name="textAreaRight" fmla="*/ 1671120 w 2305080"/>
              <a:gd name="textAreaTop" fmla="*/ 163800 h 1223640"/>
              <a:gd name="textAreaBottom" fmla="*/ 105984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cc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5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100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Factores de reducción de la produc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440" descr=""/>
          <p:cNvPicPr/>
          <p:nvPr/>
        </p:nvPicPr>
        <p:blipFill>
          <a:blip r:embed="rId1"/>
          <a:stretch/>
        </p:blipFill>
        <p:spPr>
          <a:xfrm>
            <a:off x="216000" y="2987640"/>
            <a:ext cx="964872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</cp:lastModifiedBy>
  <dcterms:modified xsi:type="dcterms:W3CDTF">2011-10-18T11:23:09Z</dcterms:modified>
  <cp:revision>33</cp:revision>
  <dc:subject/>
  <dc:title>CI 52A</dc:title>
</cp:coreProperties>
</file>