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EDDAE-F267-4002-83E9-5544E55A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7EC9F-6C30-4FBF-8CE4-9CAE2788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2052C-40FE-4528-9ADB-4B06863C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ED445-AC49-4858-B0D1-FB0F77A8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3AAA-8DF5-417B-84BB-B6689B10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A5DD-F44A-4FF0-9C97-B8D28C2A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2DDE-E45D-4642-A64E-4228A674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8C11-A2EF-4B0B-A9CE-1EED9D1F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D44D-73A8-4F9B-AC5E-928DB065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707E-66BE-4BA1-9885-77082539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FA89-3D44-4C5E-A82A-A6E32498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46B10-D008-43A1-BA3D-2EE90809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A64E-6B7B-4DAB-9758-8F5C588A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CB70-40E4-43C8-8100-B5C67821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DBA5-ADF1-4F8A-BA81-77AFD6D7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ECBA-39AF-4157-91DD-5B506A13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6356-19E4-4047-8441-9D58092B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F6AF7-D07A-4EF5-A362-8C55D14E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45F7E-433A-4384-954A-C4A114F4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D2566-DE29-46BE-B73F-86AD3493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35A2-90A2-46B6-A3CC-AC2E9406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2DE6F-49A2-4D4A-A6B5-E90D3622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52DED-6516-4C5B-9923-0C2F11D6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B5170-5716-45DC-9985-38102115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6F03-F129-430C-AA8C-EF182A80F837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7200" cy="292356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08600" cy="14191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7200" cy="292356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08600" cy="14191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7CA3-A4BE-4439-8B60-8E5816DEC4E1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homepage3.nifty.com/kenkraft/img/con/k0040.jpg&amp;imgrefurl=http://homepage3.nifty.com/kenkraft/con-b02.html&amp;h=600&amp;w=900&amp;sz=83&amp;tbnid=5Z3_K-LAEkYJ:&amp;tbnh=96&amp;tbnw=144&amp;start=2&amp;prev=/images%3Fq%3Dfront%2Bshovel%26imgsz%3Dxxlarge%26hl%3Des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s-ES_tradnl" sz="6600" spc="-1" strike="noStrike">
                <a:solidFill>
                  <a:srgbClr val="e5e5ff"/>
                </a:solidFill>
                <a:latin typeface="Garamond"/>
              </a:rPr>
              <a:t>CI5501</a:t>
            </a:r>
            <a:br>
              <a:rPr sz="6600"/>
            </a:br>
            <a:r>
              <a:rPr b="1" lang="es-ES_tradnl" sz="3600" spc="-1" strike="noStrike">
                <a:solidFill>
                  <a:srgbClr val="e5e5ff"/>
                </a:solidFill>
                <a:latin typeface="Garamond"/>
              </a:rPr>
              <a:t>(CI52A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Maquinarias para Movimi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Excava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Pala Mecánic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8785440" cy="153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ÓRMULA DE PRODU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317600" y="2798640"/>
                <a:ext cx="7137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·</m:t>
                        </m:r>
                        <m:sSub>
                          <m:e>
                            <m:r>
                              <m:t xml:space="preserve">Q·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sponjamiento</m:t>
                        </m:r>
                      </m:den>
                    </m:f>
                    <m:r>
                      <m:t xml:space="preserve">·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Text Box 6"/>
          <p:cNvSpPr/>
          <p:nvPr/>
        </p:nvSpPr>
        <p:spPr>
          <a:xfrm>
            <a:off x="576360" y="4572000"/>
            <a:ext cx="9072360" cy="27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: capacidad del bal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factor de llenado (tabla según materia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factor de eficiencia según ángulo de giro y altu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: tiempo de ciclo (se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: eficiencia en minutos de cada hora ( tipicamente 50 min/hor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39800" y="2099880"/>
            <a:ext cx="8693280" cy="885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ACTOR DE LLENADO (%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7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Garamond"/>
              </a:rPr>
              <a:t>(SE APLICAN SOBRE CAPACIDAD BALDE COLMADO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36720" y="3419640"/>
          <a:ext cx="8424720" cy="338292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TERIAL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ACTOR (%)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arenos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va y/o aren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5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mal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 – 5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bien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 – 75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dur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 -9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979280"/>
            <a:ext cx="8929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Excavación sobre la superficie sobre la cual trabaja la máquin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Adecuada para excavación de grande volúmene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Montada sobre oruga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Transmisión eléctrica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Cables o cilindro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4" descr="Palas_camion"/>
          <p:cNvPicPr/>
          <p:nvPr/>
        </p:nvPicPr>
        <p:blipFill>
          <a:blip r:embed="rId1"/>
          <a:stretch/>
        </p:blipFill>
        <p:spPr>
          <a:xfrm>
            <a:off x="4968720" y="3995640"/>
            <a:ext cx="460548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6" descr="Loading in the open pit, using a Liebherr 996 excavator and Caterpillar 993 haulers; Thiess Contractors provided the initial mine development service.&#13;&#10;"/>
          <p:cNvPicPr/>
          <p:nvPr/>
        </p:nvPicPr>
        <p:blipFill>
          <a:blip r:embed="rId1"/>
          <a:stretch/>
        </p:blipFill>
        <p:spPr>
          <a:xfrm>
            <a:off x="1295280" y="3995640"/>
            <a:ext cx="5238720" cy="2952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4680000" y="2195640"/>
            <a:ext cx="1728720" cy="1008000"/>
          </a:xfrm>
          <a:prstGeom prst="borderCallout2">
            <a:avLst>
              <a:gd name="adj1" fmla="val 18750"/>
              <a:gd name="adj2" fmla="val -8333"/>
              <a:gd name="adj3" fmla="val 11337"/>
              <a:gd name="adj4" fmla="val -27180"/>
              <a:gd name="adj5" fmla="val 284092"/>
              <a:gd name="adj6" fmla="val -51513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ilindros Hidráulicos por debaj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AutoShape 13"/>
          <p:cNvSpPr/>
          <p:nvPr/>
        </p:nvSpPr>
        <p:spPr>
          <a:xfrm>
            <a:off x="7993080" y="4716360"/>
            <a:ext cx="1295280" cy="40176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81250"/>
              <a:gd name="adj5" fmla="val 233203"/>
              <a:gd name="adj6" fmla="val -159680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ontrapes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AutoShape 19"/>
          <p:cNvSpPr/>
          <p:nvPr/>
        </p:nvSpPr>
        <p:spPr>
          <a:xfrm>
            <a:off x="216000" y="2556000"/>
            <a:ext cx="129528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132106"/>
              <a:gd name="adj5" fmla="val 582606"/>
              <a:gd name="adj6" fmla="val 159680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uchar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12" descr=""/>
          <p:cNvPicPr/>
          <p:nvPr/>
        </p:nvPicPr>
        <p:blipFill>
          <a:blip r:embed="rId1"/>
          <a:stretch/>
        </p:blipFill>
        <p:spPr>
          <a:xfrm>
            <a:off x="4089240" y="1476360"/>
            <a:ext cx="5991480" cy="5867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4"/>
          <p:cNvSpPr/>
          <p:nvPr/>
        </p:nvSpPr>
        <p:spPr>
          <a:xfrm>
            <a:off x="863640" y="1547640"/>
            <a:ext cx="129528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21078"/>
              <a:gd name="adj5" fmla="val 50171"/>
              <a:gd name="adj6" fmla="val 342277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tura máxima excav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AutoShape 15"/>
          <p:cNvSpPr/>
          <p:nvPr/>
        </p:nvSpPr>
        <p:spPr>
          <a:xfrm>
            <a:off x="503280" y="6084720"/>
            <a:ext cx="144000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14000"/>
              <a:gd name="adj5" fmla="val -7458"/>
              <a:gd name="adj6" fmla="val 328444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Profundidad máxima excav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863640" y="3635280"/>
            <a:ext cx="144000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54023"/>
              <a:gd name="adj5" fmla="val -52375"/>
              <a:gd name="adj6" fmla="val 410694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tura máxima descarg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7280" y="1476360"/>
            <a:ext cx="950616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62880" indent="-36288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La </a:t>
            </a: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capacidad del balde o capacho se mide en forma similar a la retroexcavadora (Norma SAE)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62880" indent="-36288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Para materiales duros conviene usar el capacho que ejerza la mayor presión posible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44" descr="P1020489"/>
          <p:cNvPicPr/>
          <p:nvPr/>
        </p:nvPicPr>
        <p:blipFill>
          <a:blip r:embed="rId1"/>
          <a:stretch/>
        </p:blipFill>
        <p:spPr>
          <a:xfrm>
            <a:off x="4824360" y="3708360"/>
            <a:ext cx="4751280" cy="356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45" descr=""/>
          <p:cNvPicPr/>
          <p:nvPr/>
        </p:nvPicPr>
        <p:blipFill>
          <a:blip r:embed="rId2"/>
          <a:stretch/>
        </p:blipFill>
        <p:spPr>
          <a:xfrm>
            <a:off x="503280" y="3714840"/>
            <a:ext cx="417672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CL" sz="4900" spc="-1" strike="noStrike">
                <a:solidFill>
                  <a:srgbClr val="e5e5ff"/>
                </a:solidFill>
                <a:latin typeface="Garamond"/>
              </a:rPr>
              <a:t>Tiempo de Ciclo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Terex Giant Truck and Excavator in Gold Mine.avi" descr=""/>
          <p:cNvPicPr/>
          <p:nvPr/>
        </p:nvPicPr>
        <p:blipFill>
          <a:blip r:embed="rId1"/>
          <a:stretch/>
        </p:blipFill>
        <p:spPr>
          <a:xfrm>
            <a:off x="3516480" y="2637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Profundidad óptima de excavación varía entre 30% a 50% de la altura máxima de excava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Ciclo típic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Cargar el balde: 7 a 9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ar con carga: 4 a 6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Descargar: 2 a 4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o de retorno: 4 a 5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28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1979640"/>
            <a:ext cx="914544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Ángulo de barrid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Tipo de material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Altura de la cara de excava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2" marL="1295280" indent="-2156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Menor que altura de llenad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95280" indent="-2156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Mayor que altura de llenad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k00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5364000"/>
            <a:ext cx="2521080" cy="1679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4"/>
          <p:cNvSpPr/>
          <p:nvPr/>
        </p:nvSpPr>
        <p:spPr>
          <a:xfrm>
            <a:off x="6335640" y="7164360"/>
            <a:ext cx="3168720" cy="71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5"/>
          <p:cNvSpPr/>
          <p:nvPr/>
        </p:nvSpPr>
        <p:spPr>
          <a:xfrm rot="5400000">
            <a:off x="4786560" y="5615640"/>
            <a:ext cx="3168720" cy="71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13"/>
          <p:cNvSpPr/>
          <p:nvPr/>
        </p:nvSpPr>
        <p:spPr>
          <a:xfrm rot="16200000">
            <a:off x="5076000" y="4896360"/>
            <a:ext cx="2305080" cy="1223640"/>
          </a:xfrm>
          <a:custGeom>
            <a:avLst/>
            <a:gdLst>
              <a:gd name="textAreaLeft" fmla="*/ 403200 w 2305080"/>
              <a:gd name="textAreaRight" fmla="*/ 1671120 w 2305080"/>
              <a:gd name="textAreaTop" fmla="*/ 163800 h 1223640"/>
              <a:gd name="textAreaBottom" fmla="*/ 105984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cc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100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Factores de reducción de la produ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40" descr=""/>
          <p:cNvPicPr/>
          <p:nvPr/>
        </p:nvPicPr>
        <p:blipFill>
          <a:blip r:embed="rId1"/>
          <a:stretch/>
        </p:blipFill>
        <p:spPr>
          <a:xfrm>
            <a:off x="216000" y="2987640"/>
            <a:ext cx="964872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</cp:lastModifiedBy>
  <dcterms:modified xsi:type="dcterms:W3CDTF">2011-10-18T11:23:09Z</dcterms:modified>
  <cp:revision>33</cp:revision>
  <dc:subject/>
  <dc:title>CI 52A</dc:title>
</cp:coreProperties>
</file>