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D4E8D6-9341-4B5C-818E-DCB684021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7CF6E8-AD4F-4CBD-AF58-2C9CE593C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E36B2-6469-4762-A0B6-CF9456509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7E3F-5C5F-46AC-986D-CEC0BFAC4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33755-71AA-4CFA-ACEB-9022946F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E7C22-EF62-4DE3-9F24-9086C6F04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79FA-4257-4126-AF4A-31AB907C2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FD760-17BE-43F3-B910-4D6EC93D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E19A-B359-4B2E-A88C-38CDBC153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FEEC-BD3A-485C-9DFB-A9512D8B8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F53B2-04EA-4319-B7C0-03F6F33B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36858-9FFC-4F81-A80D-9E9FDACBB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63184-A577-43E3-8DF1-FC36884F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EAFE3-5CB8-40A0-A331-10FD653FE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B207-505B-43E5-814E-D6F43B1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FD84-F9B6-4CE2-A534-EB53F3870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228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9840" y="17636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72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228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9840" y="4370040"/>
            <a:ext cx="292104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EEBAE-4C23-4D50-925A-938AFB2B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FED45-DF45-4477-B267-58068E2C7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AA91-4B2D-4490-A9E8-69CB82E4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D8FA0-2958-4CE0-843A-E7D8C506F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720" y="302760"/>
            <a:ext cx="907272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AB259-C93A-4CF0-B600-C7170559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32C8-6F90-4CFD-BDA1-FC946836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3760" y="43700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FA514-ECBA-4140-9611-41DB2A55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3760" y="1763640"/>
            <a:ext cx="44272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720" y="4370040"/>
            <a:ext cx="90727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spcBef>
                <a:spcPts val="876"/>
              </a:spcBef>
              <a:buNone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050E0C-6DAC-47EA-8A79-74407B67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5116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480" y="6887880"/>
            <a:ext cx="235260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389A-6342-42B6-9687-272611AB6AAB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3" name="Group 5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840" y="6887880"/>
            <a:ext cx="31910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10077120" cy="7549560"/>
            <a:chOff x="0" y="0"/>
            <a:chExt cx="10077120" cy="7549560"/>
          </a:xfrm>
        </p:grpSpPr>
        <p:grpSp>
          <p:nvGrpSpPr>
            <p:cNvPr id="51" name="Group 3"/>
            <p:cNvGrpSpPr/>
            <p:nvPr/>
          </p:nvGrpSpPr>
          <p:grpSpPr>
            <a:xfrm>
              <a:off x="3024000" y="3902040"/>
              <a:ext cx="7047360" cy="3647520"/>
              <a:chOff x="3024000" y="3902040"/>
              <a:chExt cx="7047360" cy="364752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3024000" y="4626000"/>
                <a:ext cx="5047200" cy="292356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7297920" y="4673160"/>
                <a:ext cx="2208600" cy="14191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5074920" y="5854320"/>
                <a:ext cx="4985640" cy="169524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808880" y="3902040"/>
                <a:ext cx="5262480" cy="364752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876800" y="4053960"/>
                <a:ext cx="2183760" cy="94284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814000" y="2346120"/>
              <a:ext cx="319392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10077120" cy="3107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US" sz="49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2" marL="1260360" indent="-252360"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3" marL="1763640" indent="-252360"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4" marL="2268360" indent="-25236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5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6" marL="2268360" indent="-252360">
              <a:spcBef>
                <a:spcPts val="876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5116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444840" y="6891120"/>
            <a:ext cx="3191040" cy="5252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224480" y="6894360"/>
            <a:ext cx="23526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C572F-7E1C-47C4-9973-132789400E83}" type="slidenum">
              <a:rPr b="0" lang="es-ES" sz="13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homepage3.nifty.com/kenkraft/img/con/k0040.jpg&amp;imgrefurl=http://homepage3.nifty.com/kenkraft/con-b02.html&amp;h=600&amp;w=900&amp;sz=83&amp;tbnid=5Z3_K-LAEkYJ:&amp;tbnh=96&amp;tbnw=144&amp;start=2&amp;prev=/images%3Fq%3Dfront%2Bshovel%26imgsz%3Dxxlarge%26hl%3Des%26lr%3D%26ie%3DUTF-8%26sa%3DG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39440" y="62712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s-ES_tradnl" sz="6600" spc="-1" strike="noStrike">
                <a:solidFill>
                  <a:srgbClr val="e5e5ff"/>
                </a:solidFill>
                <a:latin typeface="Garamond"/>
              </a:rPr>
              <a:t>CI5501</a:t>
            </a:r>
            <a:br>
              <a:rPr sz="6600"/>
            </a:br>
            <a:r>
              <a:rPr b="1" lang="es-ES_tradnl" sz="3600" spc="-1" strike="noStrike">
                <a:solidFill>
                  <a:srgbClr val="e5e5ff"/>
                </a:solidFill>
                <a:latin typeface="Garamond"/>
              </a:rPr>
              <a:t>(CI52A)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739440" y="2101680"/>
            <a:ext cx="860724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Maquinarias para Movimiento de Tierra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Times New Roman"/>
              </a:rPr>
              <a:t>Pala Mecánic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8785440" cy="1535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ÓRMULA DE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Object 4"/>
              <p:cNvSpPr txBox="1"/>
              <p:nvPr/>
            </p:nvSpPr>
            <p:spPr>
              <a:xfrm>
                <a:off x="1317600" y="2798640"/>
                <a:ext cx="7137360" cy="10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OD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600</m:t>
                        </m:r>
                        <m:r>
                          <m:t xml:space="preserve">·</m:t>
                        </m:r>
                        <m:sSub>
                          <m:e>
                            <m:r>
                              <m:t xml:space="preserve">Q·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t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Ef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60</m:t>
                        </m:r>
                      </m:den>
                    </m:f>
                    <m:r>
                      <m:t xml:space="preserve">·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esponjamiento</m:t>
                        </m:r>
                      </m:den>
                    </m:f>
                    <m:r>
                      <m:t xml:space="preserve">·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35" name="Text Box 6"/>
          <p:cNvSpPr/>
          <p:nvPr/>
        </p:nvSpPr>
        <p:spPr>
          <a:xfrm>
            <a:off x="576360" y="4572000"/>
            <a:ext cx="907236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Q: capacidad del balde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llenado (tabla según material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 factor de eficiencia según ángulo de giro y altur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: tiempo de ciclo (seg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: eficiencia en minutos de cada hora ( tipicamente 50 min/hora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39800" y="2099880"/>
            <a:ext cx="8693280" cy="885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8000"/>
          </a:bodyPr>
          <a:p>
            <a:pPr marL="370440" indent="-37044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FACTOR DE LLENADO (%)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marL="3704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2200" spc="-1" strike="noStrike">
                <a:solidFill>
                  <a:srgbClr val="ffffff"/>
                </a:solidFill>
                <a:latin typeface="Garamond"/>
              </a:rPr>
              <a:t>(SE APLICAN SOBRE CAPACIDAD BALDE COLMADO)</a:t>
            </a:r>
            <a:endParaRPr b="0" lang="en-US" sz="22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936720" y="3419640"/>
          <a:ext cx="8424720" cy="3382920"/>
        </p:xfrm>
        <a:graphic>
          <a:graphicData uri="http://schemas.openxmlformats.org/drawingml/2006/table">
            <a:tbl>
              <a:tblPr/>
              <a:tblGrid>
                <a:gridCol w="4213080"/>
                <a:gridCol w="4211640"/>
              </a:tblGrid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MATERIAL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FACTOR (%)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arenos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100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Grava y/o aren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95 – 11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mal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40 – 5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44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Roca bien dinamitad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60 – 75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4120">
                <a:tc>
                  <a:txBody>
                    <a:bodyPr anchor="t">
                      <a:noAutofit/>
                    </a:bodyPr>
                    <a:p>
                      <a:pPr marL="108000" indent="-108000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Arcilla dura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108000" indent="-108000" algn="ctr">
                        <a:spcBef>
                          <a:spcPts val="774"/>
                        </a:spcBef>
                        <a:tabLst>
                          <a:tab algn="l" pos="0"/>
                          <a:tab algn="l" pos="1008000"/>
                          <a:tab algn="l" pos="2016000"/>
                          <a:tab algn="l" pos="3024360"/>
                          <a:tab algn="l" pos="4032360"/>
                          <a:tab algn="l" pos="5040360"/>
                          <a:tab algn="l" pos="6048360"/>
                          <a:tab algn="l" pos="7056360"/>
                          <a:tab algn="l" pos="8064360"/>
                          <a:tab algn="l" pos="9072720"/>
                          <a:tab algn="l" pos="10080720"/>
                        </a:tabLst>
                      </a:pPr>
                      <a:r>
                        <a:rPr b="0" lang="es-ES_tradnl" sz="3100" spc="-1" strike="noStrike">
                          <a:solidFill>
                            <a:srgbClr val="ffffff"/>
                          </a:solidFill>
                          <a:latin typeface="Garamond"/>
                        </a:rPr>
                        <a:t>80 -90</a:t>
                      </a:r>
                      <a:endParaRPr b="0" lang="en-US" sz="31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1979280"/>
            <a:ext cx="8929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Excavación sobre la superficie sobre la cual trabaja la máquina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Adecuada para excavación de grande volúmene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Montada sobre orugas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Transmisión eléctrica.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bles o cilindros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4" name="Picture 14" descr="Palas_camion"/>
          <p:cNvPicPr/>
          <p:nvPr/>
        </p:nvPicPr>
        <p:blipFill>
          <a:blip r:embed="rId1"/>
          <a:stretch/>
        </p:blipFill>
        <p:spPr>
          <a:xfrm>
            <a:off x="4968720" y="3995640"/>
            <a:ext cx="4605480" cy="30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6" descr="Loading in the open pit, using a Liebherr 996 excavator and Caterpillar 993 haulers; Thiess Contractors provided the initial mine development service.&#13;&#10;"/>
          <p:cNvPicPr/>
          <p:nvPr/>
        </p:nvPicPr>
        <p:blipFill>
          <a:blip r:embed="rId1"/>
          <a:stretch/>
        </p:blipFill>
        <p:spPr>
          <a:xfrm>
            <a:off x="1295280" y="3995640"/>
            <a:ext cx="5238720" cy="29527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360" y="303120"/>
            <a:ext cx="77043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4680000" y="2195640"/>
            <a:ext cx="1728720" cy="1008000"/>
          </a:xfrm>
          <a:prstGeom prst="borderCallout2">
            <a:avLst>
              <a:gd name="adj1" fmla="val 18750"/>
              <a:gd name="adj2" fmla="val -8333"/>
              <a:gd name="adj3" fmla="val 11337"/>
              <a:gd name="adj4" fmla="val -27180"/>
              <a:gd name="adj5" fmla="val 284092"/>
              <a:gd name="adj6" fmla="val -51513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ilindros Hidráulicos por debaj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AutoShape 13"/>
          <p:cNvSpPr/>
          <p:nvPr/>
        </p:nvSpPr>
        <p:spPr>
          <a:xfrm>
            <a:off x="7993080" y="4716360"/>
            <a:ext cx="1295280" cy="40176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-81250"/>
              <a:gd name="adj5" fmla="val 233203"/>
              <a:gd name="adj6" fmla="val -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ontrape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9" name="AutoShape 19"/>
          <p:cNvSpPr/>
          <p:nvPr/>
        </p:nvSpPr>
        <p:spPr>
          <a:xfrm>
            <a:off x="216000" y="2556000"/>
            <a:ext cx="1295280" cy="401400"/>
          </a:xfrm>
          <a:prstGeom prst="borderCallout2">
            <a:avLst>
              <a:gd name="adj1" fmla="val 18750"/>
              <a:gd name="adj2" fmla="val -8333"/>
              <a:gd name="adj3" fmla="val 28458"/>
              <a:gd name="adj4" fmla="val 132106"/>
              <a:gd name="adj5" fmla="val 582606"/>
              <a:gd name="adj6" fmla="val 159680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Cuchar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1" name="Picture 12" descr=""/>
          <p:cNvPicPr/>
          <p:nvPr/>
        </p:nvPicPr>
        <p:blipFill>
          <a:blip r:embed="rId1"/>
          <a:stretch/>
        </p:blipFill>
        <p:spPr>
          <a:xfrm>
            <a:off x="4089240" y="1476360"/>
            <a:ext cx="5991480" cy="586728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4"/>
          <p:cNvSpPr/>
          <p:nvPr/>
        </p:nvSpPr>
        <p:spPr>
          <a:xfrm>
            <a:off x="863640" y="1547640"/>
            <a:ext cx="129528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21078"/>
              <a:gd name="adj5" fmla="val 50171"/>
              <a:gd name="adj6" fmla="val 342277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3" name="AutoShape 15"/>
          <p:cNvSpPr/>
          <p:nvPr/>
        </p:nvSpPr>
        <p:spPr>
          <a:xfrm>
            <a:off x="503280" y="608472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14000"/>
              <a:gd name="adj5" fmla="val -7458"/>
              <a:gd name="adj6" fmla="val 32844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Profundidad máxima excavación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AutoShape 16"/>
          <p:cNvSpPr/>
          <p:nvPr/>
        </p:nvSpPr>
        <p:spPr>
          <a:xfrm>
            <a:off x="863640" y="3635280"/>
            <a:ext cx="1440000" cy="936720"/>
          </a:xfrm>
          <a:prstGeom prst="borderCallout2">
            <a:avLst>
              <a:gd name="adj1" fmla="val 18750"/>
              <a:gd name="adj2" fmla="val -8333"/>
              <a:gd name="adj3" fmla="val 12203"/>
              <a:gd name="adj4" fmla="val 254023"/>
              <a:gd name="adj5" fmla="val -52375"/>
              <a:gd name="adj6" fmla="val 410694"/>
            </a:avLst>
          </a:prstGeom>
          <a:solidFill>
            <a:srgbClr val="0099cc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Garamond"/>
              </a:rPr>
              <a:t>Altura máxima descarg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04720" y="303120"/>
            <a:ext cx="9074160" cy="12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87280" y="1476360"/>
            <a:ext cx="950616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n-GB" sz="3500" spc="-1" strike="noStrike">
                <a:solidFill>
                  <a:srgbClr val="ffffff"/>
                </a:solidFill>
                <a:latin typeface="Garamond"/>
              </a:rPr>
              <a:t>La </a:t>
            </a: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capacidad del balde o capacho se mide en forma similar a la retroexcavadora (Norma SAE)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62880" indent="-36288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64360"/>
                <a:tab algn="l" pos="9072720"/>
                <a:tab algn="l" pos="1008072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Para materiales duros conviene usar el capacho que ejerza la mayor presión posible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Picture 444" descr="P1020489"/>
          <p:cNvPicPr/>
          <p:nvPr/>
        </p:nvPicPr>
        <p:blipFill>
          <a:blip r:embed="rId1"/>
          <a:stretch/>
        </p:blipFill>
        <p:spPr>
          <a:xfrm>
            <a:off x="4824360" y="3708360"/>
            <a:ext cx="4751280" cy="35640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45" descr=""/>
          <p:cNvPicPr/>
          <p:nvPr/>
        </p:nvPicPr>
        <p:blipFill>
          <a:blip r:embed="rId2"/>
          <a:stretch/>
        </p:blipFill>
        <p:spPr>
          <a:xfrm>
            <a:off x="503280" y="3714840"/>
            <a:ext cx="4176720" cy="357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s-CL" sz="4900" spc="-1" strike="noStrike">
                <a:solidFill>
                  <a:srgbClr val="e5e5ff"/>
                </a:solidFill>
                <a:latin typeface="Garamond"/>
              </a:rPr>
              <a:t>Tiempo de Ciclo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0" name="Terex Giant Truck and Excavator in Gold Mine.avi" descr=""/>
          <p:cNvPicPr/>
          <p:nvPr/>
        </p:nvPicPr>
        <p:blipFill>
          <a:blip r:embed="rId1"/>
          <a:stretch/>
        </p:blipFill>
        <p:spPr>
          <a:xfrm>
            <a:off x="3516480" y="2637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2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Profundidad óptima de excavación varía entre 30% a 50% de la altura máxima de excavación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marL="378000" indent="-37800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500" spc="-1" strike="noStrike">
                <a:solidFill>
                  <a:srgbClr val="ffffff"/>
                </a:solidFill>
                <a:latin typeface="Garamond"/>
              </a:rPr>
              <a:t>Ciclo típic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Cargar el balde: 7 a 9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ar con carga: 4 a 6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Descargar: 2 a 4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19000" indent="-31572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ES_tradnl" sz="3100" spc="-1" strike="noStrike">
                <a:solidFill>
                  <a:srgbClr val="ffffff"/>
                </a:solidFill>
                <a:latin typeface="Garamond"/>
              </a:rPr>
              <a:t>Giro de retorno: 4 a 5 seg.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288720" cy="12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9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9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1979640"/>
            <a:ext cx="914544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500" spc="-1" strike="noStrike">
                <a:solidFill>
                  <a:srgbClr val="ffffff"/>
                </a:solidFill>
                <a:latin typeface="Garamond"/>
              </a:rPr>
              <a:t>Ángulo de barrido</a:t>
            </a:r>
            <a:endParaRPr b="0" lang="en-US" sz="35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Tipo de material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1" marL="861840" indent="-285480"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Altura de la cara de excava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en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  <a:p>
            <a:pPr lvl="2" marL="1295280" indent="-215640">
              <a:spcBef>
                <a:spcPts val="6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7440"/>
                <a:tab algn="l" pos="7961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Garamond"/>
              </a:rPr>
              <a:t>Mayor que altura de llenado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5" name="Picture 10" descr="k0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53080" y="5364000"/>
            <a:ext cx="2521080" cy="167976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14"/>
          <p:cNvSpPr/>
          <p:nvPr/>
        </p:nvSpPr>
        <p:spPr>
          <a:xfrm>
            <a:off x="6335640" y="716436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Rectangle 15"/>
          <p:cNvSpPr/>
          <p:nvPr/>
        </p:nvSpPr>
        <p:spPr>
          <a:xfrm rot="5400000">
            <a:off x="4786560" y="5615640"/>
            <a:ext cx="3168720" cy="7164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AutoShape 13"/>
          <p:cNvSpPr/>
          <p:nvPr/>
        </p:nvSpPr>
        <p:spPr>
          <a:xfrm rot="16200000">
            <a:off x="5076000" y="4896360"/>
            <a:ext cx="2305080" cy="1223640"/>
          </a:xfrm>
          <a:custGeom>
            <a:avLst/>
            <a:gdLst>
              <a:gd name="textAreaLeft" fmla="*/ 403200 w 2305080"/>
              <a:gd name="textAreaRight" fmla="*/ 1671120 w 2305080"/>
              <a:gd name="textAreaTop" fmla="*/ 163800 h 1223640"/>
              <a:gd name="textAreaBottom" fmla="*/ 10598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>
              <a:alpha val="4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buNone/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1" lang="en-GB" sz="4500" spc="-1" strike="noStrike">
                <a:solidFill>
                  <a:srgbClr val="e5e5ff"/>
                </a:solidFill>
                <a:latin typeface="Garamond"/>
              </a:rPr>
              <a:t>PALA MECÁNICA</a:t>
            </a:r>
            <a:endParaRPr b="1" lang="en-US" sz="45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100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8000" indent="-378000"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6360"/>
                <a:tab algn="l" pos="8064360"/>
                <a:tab algn="l" pos="9072720"/>
                <a:tab algn="l" pos="10080720"/>
              </a:tabLst>
            </a:pPr>
            <a:r>
              <a:rPr b="0" lang="es-CL" sz="3100" spc="-1" strike="noStrike">
                <a:solidFill>
                  <a:srgbClr val="ffffff"/>
                </a:solidFill>
                <a:latin typeface="Garamond"/>
              </a:rPr>
              <a:t>Factores de reducción de la producción</a:t>
            </a:r>
            <a:endParaRPr b="0" lang="en-US" sz="31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440" descr=""/>
          <p:cNvPicPr/>
          <p:nvPr/>
        </p:nvPicPr>
        <p:blipFill>
          <a:blip r:embed="rId1"/>
          <a:stretch/>
        </p:blipFill>
        <p:spPr>
          <a:xfrm>
            <a:off x="216000" y="2987640"/>
            <a:ext cx="9648720" cy="34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lliam</cp:lastModifiedBy>
  <dcterms:modified xsi:type="dcterms:W3CDTF">2011-10-18T11:23:09Z</dcterms:modified>
  <cp:revision>33</cp:revision>
  <dc:subject/>
  <dc:title>CI 52A</dc:title>
</cp:coreProperties>
</file>