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35B25-BB1A-4258-A7A1-52263FEA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E516F-044D-43C4-A974-A9143C17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ADB8-34BE-41AD-9950-1A9A008F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AB307-37B8-4272-8992-CD5A0960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45F2-24A2-41F2-BC83-137DCE6C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CA36-BC53-45AF-891A-4E116821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89FF-1FCA-4743-816B-8B519E90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AF28-C958-4F1C-927E-EBAE088E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5629-DB9D-4CDA-8447-16C6D828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B929-2295-4268-85B2-2AB3EDFA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1F52-4147-4C41-872D-A208D8D6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ADE38-0FA1-4B6E-856A-FE17BB3A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E466-D0D2-4A54-A489-9DFACAAD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CDAB-25E4-43B0-A6FB-5E6C600F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08DE-AC53-4B99-9A30-2F41A6B2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75FF-C431-4D53-90E4-1A1EC5D9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438A-50B8-4C1D-BBDD-A756E3BC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7017-9F59-40AB-920F-37CC852C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72C81-5A23-4313-AF86-1C05DBD1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2035A-4B3D-41A1-95FF-9DC3CDC2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DBFC9-1993-4269-BD1A-CAFA551F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7BB10-ADFF-4F93-9FC6-AE1F414C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DA755-DD33-46B1-8329-A220D2C3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594EA-AD39-4069-BA43-7C676802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BD4C-F108-4B20-AA3F-B70514422B32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8600" cy="14191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8600" cy="14191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9148-94D0-4420-AE07-B2B184EC8E47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s-ES_tradnl" sz="6600" spc="-1" strike="noStrike">
                <a:solidFill>
                  <a:srgbClr val="e5e5ff"/>
                </a:solidFill>
                <a:latin typeface="Garamond"/>
              </a:rPr>
              <a:t>CI5501 (CI52A)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Maquinarias para Movimi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npo000000"/>
          <p:cNvPicPr/>
          <p:nvPr/>
        </p:nvPicPr>
        <p:blipFill>
          <a:blip r:embed="rId1"/>
          <a:stretch/>
        </p:blipFill>
        <p:spPr>
          <a:xfrm>
            <a:off x="3672000" y="5435640"/>
            <a:ext cx="2952720" cy="192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8785440" cy="153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ÓRMULA DE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317600" y="2765520"/>
                <a:ext cx="713736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·</m:t>
                        </m:r>
                        <m:r>
                          <m:t xml:space="preserve">Q·F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sponjamient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Text Box 6"/>
          <p:cNvSpPr/>
          <p:nvPr/>
        </p:nvSpPr>
        <p:spPr>
          <a:xfrm>
            <a:off x="576360" y="4572000"/>
            <a:ext cx="907236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: capacidad del bal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: factor de llenado (tabla según materi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: tiempo de ciclo (s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: eficiencia en minutos de cada hora ( tipicamente 50 min/hor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800" y="2099880"/>
            <a:ext cx="8693280" cy="885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ACTOR DE LLENADO (%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7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(SE APLICAN SOBRE CAPACIDAD BALDE COLMAD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36720" y="3419640"/>
          <a:ext cx="8424720" cy="33829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ACTOR (%)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arenos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va y/o aren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5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mal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 – 5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bien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 – 75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dur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 -9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ACCESORI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Martillo neumático para demolicione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Tenazas para manejo de troncos o rolliz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lamshell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anch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npo00000b"/>
          <p:cNvPicPr/>
          <p:nvPr/>
        </p:nvPicPr>
        <p:blipFill>
          <a:blip r:embed="rId1"/>
          <a:stretch/>
        </p:blipFill>
        <p:spPr>
          <a:xfrm>
            <a:off x="4032360" y="4859280"/>
            <a:ext cx="2874960" cy="1959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npo00000d"/>
          <p:cNvPicPr/>
          <p:nvPr/>
        </p:nvPicPr>
        <p:blipFill>
          <a:blip r:embed="rId2"/>
          <a:stretch/>
        </p:blipFill>
        <p:spPr>
          <a:xfrm>
            <a:off x="8136000" y="4859280"/>
            <a:ext cx="135396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npo00000f"/>
          <p:cNvPicPr/>
          <p:nvPr/>
        </p:nvPicPr>
        <p:blipFill>
          <a:blip r:embed="rId3"/>
          <a:stretch/>
        </p:blipFill>
        <p:spPr>
          <a:xfrm>
            <a:off x="431640" y="4859280"/>
            <a:ext cx="257184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97928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Excavación bajo la superficie sobre la cual trabaja la máquin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Adecuada para excavación de zanjas y pozo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Sobre ruedas o sobre oruga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8" descr="npo000002"/>
          <p:cNvPicPr/>
          <p:nvPr/>
        </p:nvPicPr>
        <p:blipFill>
          <a:blip r:embed="rId1"/>
          <a:stretch/>
        </p:blipFill>
        <p:spPr>
          <a:xfrm>
            <a:off x="2160720" y="4788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Medium-sized hydraulic excavator (PC200)"/>
          <p:cNvPicPr/>
          <p:nvPr/>
        </p:nvPicPr>
        <p:blipFill>
          <a:blip r:embed="rId2"/>
          <a:stretch/>
        </p:blipFill>
        <p:spPr>
          <a:xfrm>
            <a:off x="5400720" y="4643280"/>
            <a:ext cx="2855880" cy="219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Picture 6" descr="npo000006"/>
          <p:cNvPicPr/>
          <p:nvPr/>
        </p:nvPicPr>
        <p:blipFill>
          <a:blip r:embed="rId1"/>
          <a:stretch/>
        </p:blipFill>
        <p:spPr>
          <a:xfrm>
            <a:off x="287280" y="3419640"/>
            <a:ext cx="6050160" cy="38322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1"/>
          <p:cNvSpPr/>
          <p:nvPr/>
        </p:nvSpPr>
        <p:spPr>
          <a:xfrm>
            <a:off x="863640" y="2195640"/>
            <a:ext cx="91440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73092"/>
              <a:gd name="adj5" fmla="val 550199"/>
              <a:gd name="adj6" fmla="val 2399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Bo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7056360" y="2916360"/>
            <a:ext cx="1728720" cy="1008000"/>
          </a:xfrm>
          <a:prstGeom prst="borderCallout2">
            <a:avLst>
              <a:gd name="adj1" fmla="val 18750"/>
              <a:gd name="adj2" fmla="val -8333"/>
              <a:gd name="adj3" fmla="val 11337"/>
              <a:gd name="adj4" fmla="val -61800"/>
              <a:gd name="adj5" fmla="val 211337"/>
              <a:gd name="adj6" fmla="val -12148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ilindros Hidráulicos por encim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6769080" y="6659640"/>
            <a:ext cx="91440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104513"/>
              <a:gd name="adj5" fmla="val -152569"/>
              <a:gd name="adj6" fmla="val -20468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Bucke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979280"/>
            <a:ext cx="9145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Distancias características: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5" descr="npo000007"/>
          <p:cNvPicPr/>
          <p:nvPr/>
        </p:nvPicPr>
        <p:blipFill>
          <a:blip r:embed="rId1"/>
          <a:stretch/>
        </p:blipFill>
        <p:spPr>
          <a:xfrm>
            <a:off x="5761080" y="2627280"/>
            <a:ext cx="3809880" cy="46674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7853400" y="1403280"/>
            <a:ext cx="1434960" cy="720720"/>
          </a:xfrm>
          <a:prstGeom prst="borderCallout2">
            <a:avLst>
              <a:gd name="adj1" fmla="val 18750"/>
              <a:gd name="adj2" fmla="val -8333"/>
              <a:gd name="adj3" fmla="val 15861"/>
              <a:gd name="adj4" fmla="val -22564"/>
              <a:gd name="adj5" fmla="val 209912"/>
              <a:gd name="adj6" fmla="val -40486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de carg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2448000" y="2987640"/>
            <a:ext cx="14349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84180"/>
              <a:gd name="adj5" fmla="val 588106"/>
              <a:gd name="adj6" fmla="val 266041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ca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2879640" y="6443640"/>
            <a:ext cx="1435320" cy="914400"/>
          </a:xfrm>
          <a:prstGeom prst="borderCallout2">
            <a:avLst>
              <a:gd name="adj1" fmla="val 18750"/>
              <a:gd name="adj2" fmla="val -8333"/>
              <a:gd name="adj3" fmla="val 28300"/>
              <a:gd name="adj4" fmla="val 243472"/>
              <a:gd name="adj5" fmla="val 28300"/>
              <a:gd name="adj6" fmla="val 386949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rofundidad de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7280" y="1476360"/>
            <a:ext cx="950616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La capacidad del balde o capacho se mide colmado, con pendiente 1:1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Para materiales blandos conviene usar el capacho más ancho y grande posible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42" descr="npo000009"/>
          <p:cNvPicPr/>
          <p:nvPr/>
        </p:nvPicPr>
        <p:blipFill>
          <a:blip r:embed="rId1"/>
          <a:stretch/>
        </p:blipFill>
        <p:spPr>
          <a:xfrm>
            <a:off x="2808360" y="3851280"/>
            <a:ext cx="4608360" cy="34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431640" y="2987640"/>
            <a:ext cx="9217080" cy="3086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792000" y="1979640"/>
            <a:ext cx="871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istancias Característ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Tiempo de Ciclo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Komatsu PC1250-7 _amp; HD605-7 dump truck.avi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Profundidad óptima de excavación varía entre 30% a 60% de la profundidad máxima de exc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típic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argar el balde (30% a 60% prof. máxima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ar (30º a 60º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Descargar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o de retorno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92000" y="2627280"/>
          <a:ext cx="8606160" cy="4505400"/>
        </p:xfrm>
        <a:graphic>
          <a:graphicData uri="http://schemas.openxmlformats.org/drawingml/2006/table">
            <a:tbl>
              <a:tblPr/>
              <a:tblGrid>
                <a:gridCol w="1435320"/>
                <a:gridCol w="1433520"/>
                <a:gridCol w="1434960"/>
                <a:gridCol w="1433520"/>
                <a:gridCol w="1435320"/>
                <a:gridCol w="143352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LDE (m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R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SCAR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&lt; 1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9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2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6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0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88"/>
          <p:cNvSpPr/>
          <p:nvPr/>
        </p:nvSpPr>
        <p:spPr>
          <a:xfrm>
            <a:off x="792000" y="1979640"/>
            <a:ext cx="871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Tiempos de ciclo (segundo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</cp:lastModifiedBy>
  <dcterms:modified xsi:type="dcterms:W3CDTF">2011-10-20T11:21:06Z</dcterms:modified>
  <cp:revision>29</cp:revision>
  <dc:subject/>
  <dc:title>CI 52A</dc:title>
</cp:coreProperties>
</file>