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6D166-A266-46E5-83D1-85CED69D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12099-1098-49B7-9507-43D249FE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38A6-6040-47D0-AAF3-B50682C7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49B2-E4A0-4E52-8038-FF33AB17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1394-5537-48DC-A58A-CA9ADE40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C2C7-DDB9-4AAE-A571-B3DC9CD3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41B4-FD3B-4E6D-969D-D5820929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ED78-B6FB-4D8F-8839-99C0A1B9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603E-B088-4C0D-838B-31E445B1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5A07-002C-4E5B-BA9A-1828DD80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3A00-D1DB-4BE9-AF0A-3ABC67F9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1E5E4-676C-4BD5-9A93-8AA54D4C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2F0B-1BA2-4095-9479-111780AB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D3F8-5A50-4D03-A0C4-826A1EFA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AD83-FE21-43EA-9B31-A8C52AC8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C92E-382F-4503-9973-ACC8AC61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B901-CDAE-4F65-8A88-FB612290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9D48F-7F56-49BD-B5A9-E0F0CF7C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F8A0B-58B8-4399-B9F8-24A3523F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7B450-8803-41C6-80FA-9CE6182E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0F24-4221-4EE4-B776-82ECE729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DFB8-58A2-4EDE-B6C1-17419002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7962-F71F-426E-9250-AA983EF1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7841-DD8D-4EFD-BC90-75DAABBE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D15A-B9EE-44CE-A751-BC6452283743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8600" cy="14191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8600" cy="14191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677A-0EDF-4A81-9104-8A565DA7305A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s-ES_tradnl" sz="6600" spc="-1" strike="noStrike">
                <a:solidFill>
                  <a:srgbClr val="e5e5ff"/>
                </a:solidFill>
                <a:latin typeface="Garamond"/>
              </a:rPr>
              <a:t>CI5501 (CI52A)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Maquinarias para Movimi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npo000000"/>
          <p:cNvPicPr/>
          <p:nvPr/>
        </p:nvPicPr>
        <p:blipFill>
          <a:blip r:embed="rId1"/>
          <a:stretch/>
        </p:blipFill>
        <p:spPr>
          <a:xfrm>
            <a:off x="3672000" y="5435640"/>
            <a:ext cx="2952720" cy="192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8785440" cy="153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ÓRMULA DE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17600" y="2765520"/>
                <a:ext cx="713736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·</m:t>
                        </m:r>
                        <m:r>
                          <m:t xml:space="preserve">Q·F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sponjamient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Text Box 6"/>
          <p:cNvSpPr/>
          <p:nvPr/>
        </p:nvSpPr>
        <p:spPr>
          <a:xfrm>
            <a:off x="576360" y="4572000"/>
            <a:ext cx="907236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: capacidad del bal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: factor de llenado (tabla según mater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: tiempo de ciclo (s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: eficiencia en minutos de cada hora ( tipicamente 50 min/hor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800" y="2099880"/>
            <a:ext cx="869328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ACTOR DE LLENADO (%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7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(SE APLICAN SOBRE CAPACIDAD BALDE COLMAD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36720" y="3419640"/>
          <a:ext cx="8424720" cy="33829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TOR (%)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arenos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a y/o aren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mal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 – 5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bien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 – 7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dur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-9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ACCESORI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Martillo neumático para demolicione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enazas para manejo de troncos o rolliz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lamshel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anch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npo00000b"/>
          <p:cNvPicPr/>
          <p:nvPr/>
        </p:nvPicPr>
        <p:blipFill>
          <a:blip r:embed="rId1"/>
          <a:stretch/>
        </p:blipFill>
        <p:spPr>
          <a:xfrm>
            <a:off x="4032360" y="4859280"/>
            <a:ext cx="2874960" cy="1959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npo00000d"/>
          <p:cNvPicPr/>
          <p:nvPr/>
        </p:nvPicPr>
        <p:blipFill>
          <a:blip r:embed="rId2"/>
          <a:stretch/>
        </p:blipFill>
        <p:spPr>
          <a:xfrm>
            <a:off x="8136000" y="4859280"/>
            <a:ext cx="135396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npo00000f"/>
          <p:cNvPicPr/>
          <p:nvPr/>
        </p:nvPicPr>
        <p:blipFill>
          <a:blip r:embed="rId3"/>
          <a:stretch/>
        </p:blipFill>
        <p:spPr>
          <a:xfrm>
            <a:off x="431640" y="4859280"/>
            <a:ext cx="257184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Excavación bajo la superficie sobre la cual trabaja la máquin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Adecuada para excavación de zanjas y pozo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Sobre ruedas o sobre oruga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8" descr="npo000002"/>
          <p:cNvPicPr/>
          <p:nvPr/>
        </p:nvPicPr>
        <p:blipFill>
          <a:blip r:embed="rId1"/>
          <a:stretch/>
        </p:blipFill>
        <p:spPr>
          <a:xfrm>
            <a:off x="2160720" y="4788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Medium-sized hydraulic excavator (PC200)"/>
          <p:cNvPicPr/>
          <p:nvPr/>
        </p:nvPicPr>
        <p:blipFill>
          <a:blip r:embed="rId2"/>
          <a:stretch/>
        </p:blipFill>
        <p:spPr>
          <a:xfrm>
            <a:off x="5400720" y="4643280"/>
            <a:ext cx="2855880" cy="219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6" descr="npo000006"/>
          <p:cNvPicPr/>
          <p:nvPr/>
        </p:nvPicPr>
        <p:blipFill>
          <a:blip r:embed="rId1"/>
          <a:stretch/>
        </p:blipFill>
        <p:spPr>
          <a:xfrm>
            <a:off x="287280" y="3419640"/>
            <a:ext cx="6050160" cy="38322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1"/>
          <p:cNvSpPr/>
          <p:nvPr/>
        </p:nvSpPr>
        <p:spPr>
          <a:xfrm>
            <a:off x="863640" y="2195640"/>
            <a:ext cx="91440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73092"/>
              <a:gd name="adj5" fmla="val 550199"/>
              <a:gd name="adj6" fmla="val 2399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Bo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7056360" y="2916360"/>
            <a:ext cx="172872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61800"/>
              <a:gd name="adj5" fmla="val 211337"/>
              <a:gd name="adj6" fmla="val -12148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ilindros Hidráulicos por encim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6769080" y="6659640"/>
            <a:ext cx="91440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104513"/>
              <a:gd name="adj5" fmla="val -152569"/>
              <a:gd name="adj6" fmla="val -20468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Bucke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979280"/>
            <a:ext cx="9145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Distancias características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5" descr="npo000007"/>
          <p:cNvPicPr/>
          <p:nvPr/>
        </p:nvPicPr>
        <p:blipFill>
          <a:blip r:embed="rId1"/>
          <a:stretch/>
        </p:blipFill>
        <p:spPr>
          <a:xfrm>
            <a:off x="5761080" y="2627280"/>
            <a:ext cx="3809880" cy="46674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7853400" y="1403280"/>
            <a:ext cx="1434960" cy="720720"/>
          </a:xfrm>
          <a:prstGeom prst="borderCallout2">
            <a:avLst>
              <a:gd name="adj1" fmla="val 18750"/>
              <a:gd name="adj2" fmla="val -8333"/>
              <a:gd name="adj3" fmla="val 15861"/>
              <a:gd name="adj4" fmla="val -22564"/>
              <a:gd name="adj5" fmla="val 209912"/>
              <a:gd name="adj6" fmla="val -40486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de car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2448000" y="2987640"/>
            <a:ext cx="14349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84180"/>
              <a:gd name="adj5" fmla="val 588106"/>
              <a:gd name="adj6" fmla="val 266041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ca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2879640" y="6443640"/>
            <a:ext cx="1435320" cy="914400"/>
          </a:xfrm>
          <a:prstGeom prst="borderCallout2">
            <a:avLst>
              <a:gd name="adj1" fmla="val 18750"/>
              <a:gd name="adj2" fmla="val -8333"/>
              <a:gd name="adj3" fmla="val 28300"/>
              <a:gd name="adj4" fmla="val 243472"/>
              <a:gd name="adj5" fmla="val 28300"/>
              <a:gd name="adj6" fmla="val 386949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rofundidad de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50616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La capacidad del balde o capacho se mide colmado, con pendiente 1:1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Para materiales blandos conviene usar el capacho más ancho y grande posible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42" descr="npo000009"/>
          <p:cNvPicPr/>
          <p:nvPr/>
        </p:nvPicPr>
        <p:blipFill>
          <a:blip r:embed="rId1"/>
          <a:stretch/>
        </p:blipFill>
        <p:spPr>
          <a:xfrm>
            <a:off x="2808360" y="3851280"/>
            <a:ext cx="4608360" cy="34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431640" y="2987640"/>
            <a:ext cx="9217080" cy="3086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792000" y="1979640"/>
            <a:ext cx="871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istancias Característ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Tiempo de Ciclo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Komatsu PC1250-7 _amp; HD605-7 dump truck.avi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Profundidad óptima de excavación varía entre 30% a 60% de la profundidad máxima de exc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típic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argar el balde (30% a 60% prof. máxim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ar (30º a 60º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Descargar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o de retorno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92000" y="2627280"/>
          <a:ext cx="8606160" cy="4505400"/>
        </p:xfrm>
        <a:graphic>
          <a:graphicData uri="http://schemas.openxmlformats.org/drawingml/2006/table">
            <a:tbl>
              <a:tblPr/>
              <a:tblGrid>
                <a:gridCol w="1435320"/>
                <a:gridCol w="1433520"/>
                <a:gridCol w="1434960"/>
                <a:gridCol w="1433520"/>
                <a:gridCol w="1435320"/>
                <a:gridCol w="143352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LDE (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R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SCAR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lt; 1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2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6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0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88"/>
          <p:cNvSpPr/>
          <p:nvPr/>
        </p:nvSpPr>
        <p:spPr>
          <a:xfrm>
            <a:off x="792000" y="1979640"/>
            <a:ext cx="871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iempos de ciclo (segundo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</cp:lastModifiedBy>
  <dcterms:modified xsi:type="dcterms:W3CDTF">2011-10-20T11:21:06Z</dcterms:modified>
  <cp:revision>29</cp:revision>
  <dc:subject/>
  <dc:title>CI 52A</dc:title>
</cp:coreProperties>
</file>