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221-2607-43A5-904C-E1CB58FCDFCE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3884-A370-492B-A724-1DC5F5F27D90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CD1-8410-401C-8376-22F927F8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C78-D9B5-40EE-8ABC-FD15C733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7DB-A2FE-4282-B609-5C0492FA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880-FCE0-4395-B5DD-EE1D58C4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3B1-CEF5-4D50-8BD0-E5022925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432-8326-40EB-96D9-08D264C8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29F-13B5-4405-8CAC-52D53D18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865-2487-4672-B7E5-000E1E8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AC6-0B70-4030-A208-B54123A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C1A-5456-4DC0-996B-35E0B882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4AF-0624-4371-9FC0-33F40A9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AE4-5B39-4BA4-9970-838BCFB0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0809-87B1-4304-A942-67F26958C2B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e=39%, fc=80%)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directamente con palSi fuese necesario, el material  se debe soltar usando chuzo o picota (o equipos neumáticos) y luego extraer mediante p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con el uso de maquinaria especializ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i fuese necesario el material se debe soltar usando equipos mecánicos o neu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explo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es muy duro y requiere el uso de explosivos para soltarlo antes de remove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</cp:lastModifiedBy>
  <dcterms:modified xsi:type="dcterms:W3CDTF">2011-10-18T11:37:16Z</dcterms:modified>
  <cp:revision>38</cp:revision>
  <dc:subject/>
  <dc:title>CI 52A Métodos Constructivos</dc:title>
</cp:coreProperties>
</file>