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7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8.wmf" ContentType="image/x-wmf"/>
  <Override PartName="/ppt/media/image2.gif" ContentType="image/gif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3AFA-5390-4496-8199-A0A5323D8CAC}" type="slidenum">
              <a:rPr b="0" lang="es-C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Ojo: los rendimientos no consideran acarreo en carretil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B8A7-27B0-4CA1-9763-F73F42F700E6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CF8A-D58C-4514-AA55-21CEA49C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34CF-BCA6-4EFC-97D5-9329FE07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9CCB-50BE-4256-8FFF-C49A7637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97B4-6D3F-4D5B-9FFD-37F737E3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00F4-0F5C-45DC-AC91-BA7D8B69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27CF-AC8F-47E6-A435-9394D308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EC39-3592-4CC9-83BD-263F2245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F7C7-240F-4560-A6B5-274B059C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54E2-42CD-48A2-8AF3-8B1E6884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79A5-B283-4AA4-AB8C-4C61522B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AD01-7F28-4616-B8F1-323E3EBD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19D3-80CB-4E43-879E-E0908C55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8151-D325-419E-B01C-8586C067D86D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5501 (CI52A)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57200" y="471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onj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xcavación “a man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509840" y="3714840"/>
            <a:ext cx="6400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Capítulo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ERRAMIEN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HUZ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ICO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C:\DOCUME~1\wwragg\CONFIG~1\Temp\npo000007.tmp"/>
          <p:cNvPicPr/>
          <p:nvPr/>
        </p:nvPicPr>
        <p:blipFill>
          <a:blip r:embed="rId1"/>
          <a:stretch/>
        </p:blipFill>
        <p:spPr>
          <a:xfrm>
            <a:off x="4500720" y="162864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C:\DOCUME~1\wwragg\CONFIG~1\Temp\npo000009.tmp"/>
          <p:cNvPicPr/>
          <p:nvPr/>
        </p:nvPicPr>
        <p:blipFill>
          <a:blip r:embed="rId2"/>
          <a:stretch/>
        </p:blipFill>
        <p:spPr>
          <a:xfrm>
            <a:off x="6740640" y="2678040"/>
            <a:ext cx="1989000" cy="2982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j0334866"/>
          <p:cNvPicPr/>
          <p:nvPr/>
        </p:nvPicPr>
        <p:blipFill>
          <a:blip r:embed="rId3"/>
          <a:stretch/>
        </p:blipFill>
        <p:spPr>
          <a:xfrm>
            <a:off x="3203640" y="4005360"/>
            <a:ext cx="206856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ERRAMIEN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RTILLO NEUMÁ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7" descr="C:\DOCUME~1\wwragg\CONFIG~1\Temp\npo00000b.tmp"/>
          <p:cNvPicPr/>
          <p:nvPr/>
        </p:nvPicPr>
        <p:blipFill>
          <a:blip r:embed="rId1"/>
          <a:stretch/>
        </p:blipFill>
        <p:spPr>
          <a:xfrm>
            <a:off x="1908000" y="3284640"/>
            <a:ext cx="540072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NDI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PENDE DE LA “DUREZA” DEL SU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lando: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miduro: chuzo o picota y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uro: martillo neumático, explos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PENDE DE LA PROFUNDIDAD DE EXCAV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aría entre 3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/HD a menos de 1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/H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carreo con carreti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1030" descr="C:\DOCUME~1\wwragg\CONFIG~1\Temp\npo00000d.tmp"/>
          <p:cNvPicPr/>
          <p:nvPr/>
        </p:nvPicPr>
        <p:blipFill>
          <a:blip r:embed="rId1"/>
          <a:stretch/>
        </p:blipFill>
        <p:spPr>
          <a:xfrm>
            <a:off x="3780000" y="2997360"/>
            <a:ext cx="470376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ASIFICACIÓN DE SUE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lasificación US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terial Granular: Sand, Gra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W: Bien graduada, pocos o ningún fi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: Mal graduada, pocos o ningún fi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: con presencia de fino no-plás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: con presencia de finos plás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C:\DOCUME~1\wwragg\CONFIG~1\Temp\npo00000f.tmp"/>
          <p:cNvPicPr/>
          <p:nvPr/>
        </p:nvPicPr>
        <p:blipFill>
          <a:blip r:embed="rId1"/>
          <a:stretch/>
        </p:blipFill>
        <p:spPr>
          <a:xfrm>
            <a:off x="5105520" y="1676520"/>
            <a:ext cx="1904760" cy="1282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C:\DOCUME~1\wwragg\CONFIG~1\Temp\npo000011.tmp"/>
          <p:cNvPicPr/>
          <p:nvPr/>
        </p:nvPicPr>
        <p:blipFill>
          <a:blip r:embed="rId2"/>
          <a:stretch/>
        </p:blipFill>
        <p:spPr>
          <a:xfrm>
            <a:off x="7086600" y="167652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ASIFICACIÓN DE SUE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915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lasificación US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terial Fino: Silt (M), Clay, Orga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: baja plastic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H: alta plastic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W, GP, CL, SM, 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5" descr="C:\DOCUME~1\wwragg\CONFIG~1\Temp\npo000013.tmp"/>
          <p:cNvPicPr/>
          <p:nvPr/>
        </p:nvPicPr>
        <p:blipFill>
          <a:blip r:embed="rId1"/>
          <a:stretch/>
        </p:blipFill>
        <p:spPr>
          <a:xfrm>
            <a:off x="5410080" y="1600200"/>
            <a:ext cx="3276720" cy="1646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C:\DOCUME~1\wwragg\CONFIG~1\Temp\npo000015.tmp"/>
          <p:cNvPicPr/>
          <p:nvPr/>
        </p:nvPicPr>
        <p:blipFill>
          <a:blip r:embed="rId2"/>
          <a:stretch/>
        </p:blipFill>
        <p:spPr>
          <a:xfrm>
            <a:off x="5410080" y="3809880"/>
            <a:ext cx="3276720" cy="2490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Oval 4"/>
          <p:cNvSpPr/>
          <p:nvPr/>
        </p:nvSpPr>
        <p:spPr>
          <a:xfrm>
            <a:off x="1692360" y="314172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Oval 5"/>
          <p:cNvSpPr/>
          <p:nvPr/>
        </p:nvSpPr>
        <p:spPr>
          <a:xfrm>
            <a:off x="1979640" y="3141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Oval 6"/>
          <p:cNvSpPr/>
          <p:nvPr/>
        </p:nvSpPr>
        <p:spPr>
          <a:xfrm>
            <a:off x="2266920" y="3141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Oval 7"/>
          <p:cNvSpPr/>
          <p:nvPr/>
        </p:nvSpPr>
        <p:spPr>
          <a:xfrm>
            <a:off x="1692360" y="343044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Oval 8"/>
          <p:cNvSpPr/>
          <p:nvPr/>
        </p:nvSpPr>
        <p:spPr>
          <a:xfrm>
            <a:off x="1979640" y="343044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Oval 9"/>
          <p:cNvSpPr/>
          <p:nvPr/>
        </p:nvSpPr>
        <p:spPr>
          <a:xfrm>
            <a:off x="2266920" y="343044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1692360" y="371808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Oval 14"/>
          <p:cNvSpPr/>
          <p:nvPr/>
        </p:nvSpPr>
        <p:spPr>
          <a:xfrm>
            <a:off x="197964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Oval 15"/>
          <p:cNvSpPr/>
          <p:nvPr/>
        </p:nvSpPr>
        <p:spPr>
          <a:xfrm>
            <a:off x="226692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826920" y="3141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Line 17"/>
          <p:cNvSpPr/>
          <p:nvPr/>
        </p:nvSpPr>
        <p:spPr>
          <a:xfrm>
            <a:off x="1619280" y="314172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Line 18"/>
          <p:cNvSpPr/>
          <p:nvPr/>
        </p:nvSpPr>
        <p:spPr>
          <a:xfrm>
            <a:off x="1619280" y="400680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19"/>
          <p:cNvSpPr/>
          <p:nvPr/>
        </p:nvSpPr>
        <p:spPr>
          <a:xfrm flipV="1">
            <a:off x="2556000" y="314136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20"/>
          <p:cNvSpPr/>
          <p:nvPr/>
        </p:nvSpPr>
        <p:spPr>
          <a:xfrm>
            <a:off x="2556000" y="3141720"/>
            <a:ext cx="345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1042920" y="4076640"/>
            <a:ext cx="230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“En banco” o Geométr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25"/>
          <p:cNvSpPr/>
          <p:nvPr/>
        </p:nvSpPr>
        <p:spPr>
          <a:xfrm>
            <a:off x="6948360" y="314172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Oval 26"/>
          <p:cNvSpPr/>
          <p:nvPr/>
        </p:nvSpPr>
        <p:spPr>
          <a:xfrm>
            <a:off x="4067280" y="220680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Oval 27"/>
          <p:cNvSpPr/>
          <p:nvPr/>
        </p:nvSpPr>
        <p:spPr>
          <a:xfrm>
            <a:off x="4427640" y="220680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Oval 28"/>
          <p:cNvSpPr/>
          <p:nvPr/>
        </p:nvSpPr>
        <p:spPr>
          <a:xfrm>
            <a:off x="4211640" y="1917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Oval 29"/>
          <p:cNvSpPr/>
          <p:nvPr/>
        </p:nvSpPr>
        <p:spPr>
          <a:xfrm>
            <a:off x="392436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Oval 30"/>
          <p:cNvSpPr/>
          <p:nvPr/>
        </p:nvSpPr>
        <p:spPr>
          <a:xfrm>
            <a:off x="428292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Oval 31"/>
          <p:cNvSpPr/>
          <p:nvPr/>
        </p:nvSpPr>
        <p:spPr>
          <a:xfrm>
            <a:off x="464328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Oval 33"/>
          <p:cNvSpPr/>
          <p:nvPr/>
        </p:nvSpPr>
        <p:spPr>
          <a:xfrm>
            <a:off x="4498920" y="27813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Oval 34"/>
          <p:cNvSpPr/>
          <p:nvPr/>
        </p:nvSpPr>
        <p:spPr>
          <a:xfrm>
            <a:off x="4859280" y="27813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Oval 38"/>
          <p:cNvSpPr/>
          <p:nvPr/>
        </p:nvSpPr>
        <p:spPr>
          <a:xfrm>
            <a:off x="3780000" y="27813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Oval 39"/>
          <p:cNvSpPr/>
          <p:nvPr/>
        </p:nvSpPr>
        <p:spPr>
          <a:xfrm>
            <a:off x="4140360" y="27813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Oval 41"/>
          <p:cNvSpPr/>
          <p:nvPr/>
        </p:nvSpPr>
        <p:spPr>
          <a:xfrm>
            <a:off x="6084720" y="29988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Oval 42"/>
          <p:cNvSpPr/>
          <p:nvPr/>
        </p:nvSpPr>
        <p:spPr>
          <a:xfrm>
            <a:off x="6372360" y="299880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Oval 43"/>
          <p:cNvSpPr/>
          <p:nvPr/>
        </p:nvSpPr>
        <p:spPr>
          <a:xfrm>
            <a:off x="6659640" y="29988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Oval 44"/>
          <p:cNvSpPr/>
          <p:nvPr/>
        </p:nvSpPr>
        <p:spPr>
          <a:xfrm>
            <a:off x="6084720" y="33591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Oval 45"/>
          <p:cNvSpPr/>
          <p:nvPr/>
        </p:nvSpPr>
        <p:spPr>
          <a:xfrm>
            <a:off x="6372360" y="33591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Oval 46"/>
          <p:cNvSpPr/>
          <p:nvPr/>
        </p:nvSpPr>
        <p:spPr>
          <a:xfrm>
            <a:off x="6659640" y="33591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Oval 47"/>
          <p:cNvSpPr/>
          <p:nvPr/>
        </p:nvSpPr>
        <p:spPr>
          <a:xfrm>
            <a:off x="608472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Oval 48"/>
          <p:cNvSpPr/>
          <p:nvPr/>
        </p:nvSpPr>
        <p:spPr>
          <a:xfrm>
            <a:off x="6372360" y="371808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Oval 49"/>
          <p:cNvSpPr/>
          <p:nvPr/>
        </p:nvSpPr>
        <p:spPr>
          <a:xfrm>
            <a:off x="665964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Line 50"/>
          <p:cNvSpPr/>
          <p:nvPr/>
        </p:nvSpPr>
        <p:spPr>
          <a:xfrm>
            <a:off x="6012000" y="314172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Line 51"/>
          <p:cNvSpPr/>
          <p:nvPr/>
        </p:nvSpPr>
        <p:spPr>
          <a:xfrm>
            <a:off x="6012000" y="400680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52"/>
          <p:cNvSpPr/>
          <p:nvPr/>
        </p:nvSpPr>
        <p:spPr>
          <a:xfrm flipV="1">
            <a:off x="6948360" y="314136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53"/>
          <p:cNvSpPr/>
          <p:nvPr/>
        </p:nvSpPr>
        <p:spPr>
          <a:xfrm>
            <a:off x="3276720" y="3284640"/>
            <a:ext cx="230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Esponjado o Suel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54"/>
          <p:cNvSpPr/>
          <p:nvPr/>
        </p:nvSpPr>
        <p:spPr>
          <a:xfrm>
            <a:off x="5580000" y="4222800"/>
            <a:ext cx="23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Compact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7" descr="j0336323"/>
          <p:cNvPicPr/>
          <p:nvPr/>
        </p:nvPicPr>
        <p:blipFill>
          <a:blip r:embed="rId1"/>
          <a:stretch/>
        </p:blipFill>
        <p:spPr>
          <a:xfrm>
            <a:off x="900000" y="4797360"/>
            <a:ext cx="2159280" cy="1408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8" descr="j0336317"/>
          <p:cNvPicPr/>
          <p:nvPr/>
        </p:nvPicPr>
        <p:blipFill>
          <a:blip r:embed="rId2"/>
          <a:stretch/>
        </p:blipFill>
        <p:spPr>
          <a:xfrm>
            <a:off x="3348000" y="4797360"/>
            <a:ext cx="2303640" cy="1416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9" descr="j0336930"/>
          <p:cNvPicPr/>
          <p:nvPr/>
        </p:nvPicPr>
        <p:blipFill>
          <a:blip r:embed="rId3"/>
          <a:stretch/>
        </p:blipFill>
        <p:spPr>
          <a:xfrm>
            <a:off x="6002280" y="4862520"/>
            <a:ext cx="2170080" cy="1346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Picture 43" descr="C:\DOCUME~1\wwragg\CONFIG~1\Temp\npo000005.tmp"/>
          <p:cNvPicPr/>
          <p:nvPr/>
        </p:nvPicPr>
        <p:blipFill>
          <a:blip r:embed="rId1"/>
          <a:stretch/>
        </p:blipFill>
        <p:spPr>
          <a:xfrm>
            <a:off x="611280" y="1628640"/>
            <a:ext cx="2901960" cy="4608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4"/>
          <p:cNvSpPr/>
          <p:nvPr/>
        </p:nvSpPr>
        <p:spPr>
          <a:xfrm>
            <a:off x="4140360" y="17002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INFLUENCIA DE LA HUMED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45"/>
          <p:cNvSpPr/>
          <p:nvPr/>
        </p:nvSpPr>
        <p:spPr>
          <a:xfrm flipV="1">
            <a:off x="3851280" y="2852280"/>
            <a:ext cx="3889440" cy="7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55640" y="1557360"/>
          <a:ext cx="7848720" cy="4646520"/>
        </p:xfrm>
        <a:graphic>
          <a:graphicData uri="http://schemas.openxmlformats.org/drawingml/2006/table">
            <a:tbl>
              <a:tblPr/>
              <a:tblGrid>
                <a:gridCol w="4713120"/>
                <a:gridCol w="31356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UELTO/BAN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ENI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RCILL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RAVA ARCILLOS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ARBÓN BITUMINO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RAV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YE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IEDRA CALI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OCA DINAMITA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R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65"/>
          <p:cNvSpPr/>
          <p:nvPr/>
        </p:nvSpPr>
        <p:spPr>
          <a:xfrm>
            <a:off x="1547640" y="630864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DEMOLICIONES </a:t>
            </a:r>
            <a:r>
              <a:rPr b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FACTOR DE CONSOLID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971640" y="2852640"/>
                <a:ext cx="680400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mpactad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elto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FACTOR DE CONSOLID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ava una zanja de 1m de ancho por 2m de profundidad en un terreno arcilloso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(e=39%, fc=80%)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olumen “en banco” por ml de zanja = 2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olumen esponjado por ml de zanja = 2x1,39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2,78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 se quiere rellenar con el material de la excavación se requieren 2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/0.8 = 2,5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de mate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or lo tanto “sobran” 2,78-2,5 = 0,28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por cada ml de z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UB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=h/6 (S1+S2+4S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4427640" y="5734080"/>
            <a:ext cx="360036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6"/>
          <p:cNvSpPr/>
          <p:nvPr/>
        </p:nvSpPr>
        <p:spPr>
          <a:xfrm flipV="1">
            <a:off x="4427640" y="4652640"/>
            <a:ext cx="360036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427640" y="573408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8028000" y="465300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754200" y="4076640"/>
            <a:ext cx="360036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12"/>
          <p:cNvSpPr/>
          <p:nvPr/>
        </p:nvSpPr>
        <p:spPr>
          <a:xfrm flipV="1">
            <a:off x="755640" y="3499920"/>
            <a:ext cx="360036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754200" y="4076640"/>
            <a:ext cx="1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4354560" y="35002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4356000" y="4076640"/>
            <a:ext cx="367200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4356000" y="3500280"/>
            <a:ext cx="3672000" cy="1152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755640" y="4076640"/>
            <a:ext cx="367200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21"/>
          <p:cNvSpPr/>
          <p:nvPr/>
        </p:nvSpPr>
        <p:spPr>
          <a:xfrm>
            <a:off x="755640" y="4581360"/>
            <a:ext cx="3672000" cy="1656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1911240" y="2954160"/>
            <a:ext cx="1076400" cy="330480"/>
          </a:xfr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Relle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24"/>
          <p:cNvSpPr/>
          <p:nvPr/>
        </p:nvSpPr>
        <p:spPr>
          <a:xfrm>
            <a:off x="4427640" y="2637000"/>
            <a:ext cx="1076400" cy="330120"/>
          </a:xfr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or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2411280" y="4076640"/>
            <a:ext cx="316872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UB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21"/>
              <p:cNvSpPr txBox="1"/>
              <p:nvPr/>
            </p:nvSpPr>
            <p:spPr>
              <a:xfrm>
                <a:off x="2955960" y="1981080"/>
                <a:ext cx="141120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23"/>
              <p:cNvSpPr txBox="1"/>
              <p:nvPr/>
            </p:nvSpPr>
            <p:spPr>
              <a:xfrm>
                <a:off x="2895480" y="3886200"/>
                <a:ext cx="21765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25"/>
              <p:cNvSpPr txBox="1"/>
              <p:nvPr/>
            </p:nvSpPr>
            <p:spPr>
              <a:xfrm>
                <a:off x="5848200" y="1770120"/>
                <a:ext cx="219888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Text Box 26"/>
          <p:cNvSpPr/>
          <p:nvPr/>
        </p:nvSpPr>
        <p:spPr>
          <a:xfrm>
            <a:off x="6084720" y="3860640"/>
            <a:ext cx="14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i 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28"/>
          <p:cNvSpPr/>
          <p:nvPr/>
        </p:nvSpPr>
        <p:spPr>
          <a:xfrm>
            <a:off x="2286000" y="1905120"/>
            <a:ext cx="533520" cy="2743200"/>
          </a:xfrm>
          <a:custGeom>
            <a:avLst/>
            <a:gdLst>
              <a:gd name="textAreaLeft" fmla="*/ 340920 w 533520"/>
              <a:gd name="textAreaRight" fmla="*/ 533880 w 5335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371600" y="297180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an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material se puede excavar directamente con palSi fuese necesario, el material  se debe soltar usando chuzo o picota (o equipos neumáticos) y luego extraer mediante pa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ecán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material se puede excavar con el uso de maquinaria especializ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i fuese necesario el material se debe soltar usando equipos mecánicos o neumát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 explosiv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material es muy duro y requiere el uso de explosivos para soltarlo antes de remover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</cp:lastModifiedBy>
  <dcterms:modified xsi:type="dcterms:W3CDTF">2011-10-18T11:37:16Z</dcterms:modified>
  <cp:revision>38</cp:revision>
  <dc:subject/>
  <dc:title>CI 52A Métodos Constructivos</dc:title>
</cp:coreProperties>
</file>