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96FB-7E1C-49D5-B29E-234049FE4BD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0B2D-6553-4450-8798-73426470F1D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83A7-21D5-4CC5-BB6B-9412E91B68E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4C63-CA41-45BA-B019-C9A9EA426A89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1E4C-6F16-41D5-85E8-8A778C3A036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8487-CC42-4911-9407-A3442F85C82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92D0-EAB4-40F9-9A36-B4799B71C83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B4A4-5DAA-4448-947B-81AEAB92EA2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D2C5-36CF-4BFC-90D3-C8C7E46A665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aiichi Ohno – Shigeo Shingo – Kiichiro Toyoda después de la II WW “debemos alcanza a la ind. Norteam. En 3 año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auri Kosk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Glenn Ball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Gregory Ho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ir John Egan “Rethinking Construct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ECF4-5F21-47D0-85A5-5F5CB8DF3A4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2BF3-5EE7-4F22-BFD8-30C55948150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D958-D30A-4B39-BFB4-8D35C23786B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F8FA-583A-45BE-ACA9-09639C94CB8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E2E2-4BBD-4F05-94C1-EE5E9680ABF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6C26-8280-4E27-9B22-1480C814E52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7E68-2189-4AEE-AFF7-8426944B707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F6FE-B33D-4FE7-B17D-BF12DA49CFB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EA7E-365D-4197-909D-3EC3480A5C6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63D1-5149-40F9-926E-374E27AA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D3B5-AE54-4EB6-AAC1-C402EE44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0F1C-E773-4E30-B694-9AED1D3B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7DC6-3656-4DA2-9F5B-BA4622BB3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4927-14E0-4248-9FDD-41F3CCE9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16B7-7B3A-4A7A-8926-1B8551A3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6685-E21A-4FCD-AABD-75BEC029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4F20-0357-49AC-8F15-6750AB6F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CF9E-483F-413D-878A-80032E56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E31B-3EDE-4DCB-A7A4-7E805EEB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65D2-327E-45EB-8B1B-A4D918F1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86C1-003D-497B-8126-5A3A3249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1DC6-B417-463B-A769-C76B511F1A56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5501 (CI52A)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ESEN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1.2 TRABAJOS PRELIMINA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1 GEOLO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2 TOPOGRAF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3 CL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4 ENER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5 TRANSPOR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6 MANO DE OB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7 CONDICIONES ECONÓM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8 SERVICIOS SO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9 RELACIONES PÚBL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OTRAS ACTIVIDAD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RABAJO EN GRUP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ISIT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HARLAS POR EXPOSITORES INVITADOS: Construcción de túneles, costo de operación de maquinarias, seguridad y salud ocupacional, otras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EVALUAC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2 Contro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1 Exa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1 Trabajo en grupo (N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NF = 75% NC  + 25% 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ximición con (C1+C2)/2 ≥ 5,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Image14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442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¿PROYECTO DE CONSTRUCCIÓN?</a:t>
            </a:r>
            <a:br>
              <a:rPr sz="4000"/>
            </a:b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¿INGENIERÍA DE CONSTRUCCIÓN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Ingeniería de Construc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71400"/>
            <a:ext cx="82296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ingeniería de construcción involucra la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planificación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 y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administración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 la construcción de obras de infraestructura y edific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construcción de dichos proyectos requiere conocimientos de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ingeniería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principios de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administración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procedimientos de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negocios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economía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comportamiento humano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os ingenieros en construcción se enfrentan al diseño de estructuras temporales, control y aseguramiento de la calidad, construcción, elaboración de presupuestos, programación, compra de materiales, selección de equipos, control de costo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785880" y="1257480"/>
            <a:ext cx="7572240" cy="55101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72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El desafío es importante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286160" y="2214720"/>
            <a:ext cx="4714920" cy="1304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4286160" y="3929040"/>
            <a:ext cx="4695840" cy="1295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3"/>
          <a:stretch/>
        </p:blipFill>
        <p:spPr>
          <a:xfrm>
            <a:off x="4286160" y="5500800"/>
            <a:ext cx="4705560" cy="1171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4"/>
          <a:stretch/>
        </p:blipFill>
        <p:spPr>
          <a:xfrm>
            <a:off x="142920" y="142920"/>
            <a:ext cx="3870360" cy="2786040"/>
          </a:xfrm>
          <a:prstGeom prst="rect">
            <a:avLst/>
          </a:prstGeom>
          <a:ln w="0">
            <a:noFill/>
          </a:ln>
        </p:spPr>
      </p:pic>
      <p:pic>
        <p:nvPicPr>
          <p:cNvPr id="82" name="Object 4" descr=""/>
          <p:cNvPicPr/>
          <p:nvPr/>
        </p:nvPicPr>
        <p:blipFill>
          <a:blip r:embed="rId5"/>
          <a:stretch/>
        </p:blipFill>
        <p:spPr>
          <a:xfrm>
            <a:off x="-357120" y="3786120"/>
            <a:ext cx="48578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http://www.investinfrance.org/NorthAmerica/Newsroom/Newsletter/Images/toyota1.jpg"/>
          <p:cNvPicPr/>
          <p:nvPr/>
        </p:nvPicPr>
        <p:blipFill>
          <a:blip r:embed="rId1"/>
          <a:srcRect l="0" t="31707" r="0" b="0"/>
          <a:stretch/>
        </p:blipFill>
        <p:spPr>
          <a:xfrm>
            <a:off x="3786120" y="1000080"/>
            <a:ext cx="4826160" cy="2357640"/>
          </a:xfrm>
          <a:prstGeom prst="rect">
            <a:avLst/>
          </a:prstGeom>
          <a:ln w="0">
            <a:noFill/>
          </a:ln>
        </p:spPr>
      </p:pic>
      <p:sp>
        <p:nvSpPr>
          <p:cNvPr id="84" name="6 Rectángulo"/>
          <p:cNvSpPr/>
          <p:nvPr/>
        </p:nvSpPr>
        <p:spPr>
          <a:xfrm>
            <a:off x="0" y="5884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l fin se reconoce que la construcción no es una producción industrial, ni artesanal: es </a:t>
            </a:r>
            <a:r>
              <a:rPr b="1" lang="es-CL" sz="2400" spc="-1" strike="noStrike">
                <a:solidFill>
                  <a:srgbClr val="ff0000"/>
                </a:solidFill>
                <a:latin typeface="Tahoma"/>
              </a:rPr>
              <a:t>otro tipo de producción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10" descr="http://www.leanconstruction.dk/_root/media/lauri.jpg"/>
          <p:cNvPicPr/>
          <p:nvPr/>
        </p:nvPicPr>
        <p:blipFill>
          <a:blip r:embed="rId2"/>
          <a:stretch/>
        </p:blipFill>
        <p:spPr>
          <a:xfrm>
            <a:off x="122400" y="1573200"/>
            <a:ext cx="1541160" cy="2786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www.industrie-technologies.com/GlobalVisuels/Local/SL_Produit/OHNO.jpg"/>
          <p:cNvPicPr/>
          <p:nvPr/>
        </p:nvPicPr>
        <p:blipFill>
          <a:blip r:embed="rId3"/>
          <a:stretch/>
        </p:blipFill>
        <p:spPr>
          <a:xfrm>
            <a:off x="5738760" y="142920"/>
            <a:ext cx="1785960" cy="1214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www.monografias.com/trabajos30/control-estadistico-calidad/Image1411.gif"/>
          <p:cNvPicPr/>
          <p:nvPr/>
        </p:nvPicPr>
        <p:blipFill>
          <a:blip r:embed="rId4"/>
          <a:stretch/>
        </p:blipFill>
        <p:spPr>
          <a:xfrm>
            <a:off x="7643880" y="142920"/>
            <a:ext cx="857160" cy="1200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http://www.msu.edu/~tariq/editorial_files/image005.jpg"/>
          <p:cNvPicPr/>
          <p:nvPr/>
        </p:nvPicPr>
        <p:blipFill>
          <a:blip r:embed="rId5"/>
          <a:stretch/>
        </p:blipFill>
        <p:spPr>
          <a:xfrm>
            <a:off x="1554120" y="1359000"/>
            <a:ext cx="1305000" cy="3335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Glenn Ballard"/>
          <p:cNvPicPr/>
          <p:nvPr/>
        </p:nvPicPr>
        <p:blipFill>
          <a:blip r:embed="rId6"/>
          <a:stretch/>
        </p:blipFill>
        <p:spPr>
          <a:xfrm>
            <a:off x="2481120" y="2073240"/>
            <a:ext cx="1298880" cy="3078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http://www.asite.com/images/sir_john_egan_rcu.jpg"/>
          <p:cNvPicPr/>
          <p:nvPr/>
        </p:nvPicPr>
        <p:blipFill>
          <a:blip r:embed="rId7"/>
          <a:stretch/>
        </p:blipFill>
        <p:spPr>
          <a:xfrm>
            <a:off x="822240" y="3359160"/>
            <a:ext cx="3749760" cy="2492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rds.yahoo.com/_ylt=A9iby56ZmFRGULoAiBOjzbkF/SIG=12ph01kd7/EXP=1180035609/**http%3A/news.bbc.co.uk/olmedia/1035000/images/_1036829_prodline300.jpg"/>
          <p:cNvPicPr/>
          <p:nvPr/>
        </p:nvPicPr>
        <p:blipFill>
          <a:blip r:embed="rId8"/>
          <a:stretch/>
        </p:blipFill>
        <p:spPr>
          <a:xfrm>
            <a:off x="5000760" y="2928960"/>
            <a:ext cx="3929040" cy="2357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Estamos frente a una revolución.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Datos profeso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Nombre: William Wragg Lar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rofesión: Ingeniero Civil U. de Ch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rabajo Actual: Coordinador de proyectos en POCH y Asoci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orreo electrónico: wwragg@ing.uchile.c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GRAMA DEL CUR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APÍTUL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Capítulo 2: Maquinaria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Capítulo 3: Metodología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Capítulo 1: Trabajos preliminar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2 MAQUINARI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1 GENERALIDAD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2 ESPONJAMIEN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3 MAQUINARIAS DE MOVIMIENTO DE TIERR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4 PRODUCCIÓN DE ÁRID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5 EQUIPOS DE ELEVA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6 MAQUINARIAS ESPECIA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3 METODOLOGÍ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1 SOSTENIMI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2 OBRAS DE HORMIGÓN. EN MASA Y ARM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2 MONTAJE DE ESTRUCTURAS DE ACE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3 CALDERERÍA (PIP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1.3 PLANIFICACIÓN Y CONTRO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1 INSTALACIÓN DE FAENAS Y OBRAS ANEX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2 PLANO DE DISTRIBU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3 PROGRAMA DE TRABAJ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4 CONTROL DE AVANCE, COSTO, RENDI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1.4 PRESUPUES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4.1 COSTOS DIREC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4.2 COSTOS INDIREC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4.3 COSTO DE LA MANO DE OB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4.4 ANÁLISIS DE PRECIOS UNITAR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1.1 GESTACIÓN DE OBR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1 ORIGEN DEL 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2 FINANCI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3 ANTE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4 INGENIERÍA BÁS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5 INGENIERÍA DE DETAL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6 INGENIERÍA DE CONSTRUC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7T20:17:27Z</dcterms:created>
  <dc:creator>William Wragg L.</dc:creator>
  <dc:description/>
  <dc:language>en-US</dc:language>
  <cp:lastModifiedBy>William</cp:lastModifiedBy>
  <dcterms:modified xsi:type="dcterms:W3CDTF">2011-10-13T11:36:51Z</dcterms:modified>
  <cp:revision>34</cp:revision>
  <dc:subject/>
  <dc:title>CI 52A Métodos Constructivos</dc:title>
</cp:coreProperties>
</file>