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DEF8-A795-41F2-AD1F-07CA9C411D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A97C-CE76-4891-98DD-F502350C8F8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F133-30FD-43B1-B842-1759BF2D550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8E1E-45BC-43C0-AF19-DBB9A221ABE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9708-6785-46D4-838F-0ADD8A58955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62FB-F510-48F3-8D13-5827C3C920E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65CE-BDCC-4763-BD22-C66E0615FAA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E698-5DF4-4055-A6E1-0C731F56D22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F74D-A313-4E35-998F-4FC4D12E3BF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aiichi Ohno – Shigeo Shingo – Kiichiro Toyoda después de la II WW “debemos alcanza a la ind. Norteam. En 3 año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auri Kosk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lenn Ball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regory H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r John Egan “Rethinking Constru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B7D4-D8EF-480B-B4E3-771903F57D9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6124-6008-422A-A223-70952DF03E9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1247-9B53-4EBA-B61A-3CFCAB0F099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BB7B-F096-4561-AA65-990E335BCB7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D733-1E74-416B-972C-738FCD1661C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855F-DA51-40D9-ABC4-D4BA73F590B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49FC-5B91-4800-B84D-B759C1EE191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3809-4554-4F9D-B442-2682A55AC86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E31D-602A-477C-B8F8-8D97A2F9538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923-529D-4E73-BAC1-DA86FC81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8F8-BF82-42D4-9F7E-1961F4C3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AC6-EA88-4965-A232-A9AFC5D2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C17-8C94-460A-BCE4-C1835E88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7F2-70C5-4456-8CD7-57CE2F9D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C46-F950-4C9C-AEEA-3B4D67DE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126-9028-4530-8288-4A47332E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1F0-21D7-41F9-AF6F-F5DEDDF4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FA0-9772-4DF5-9455-05248067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8DD-C39C-402E-8192-DB306E16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FDF-88A1-48C7-A8A4-99DE946D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F6C-C69C-4825-AE28-2B8FFF03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28A9-5F19-4146-9CBC-68BDB036FE06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EXPOSITORES INVITADOS: Construcción de túneles, costo de operación de maquinarias, seguridad y salud ocupacional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VALU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Exa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Trabajo en grupo (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F = 75% NC  + 25% 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ximición con (C1+C2)/2 ≥ 5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Ingeniería de Construc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71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geniería de construcción involucra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planific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la construcción de obras de infraestructura y edif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construcción de dichos proyectos requiere conoc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genier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incipi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oced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negocio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econom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comportamiento humano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ingenieros en construcción se enfrentan al diseño de estructuras temporales, control y aseguramiento de la calidad, construcción, elaboración de presupuestos, programación, compra de materiales, selección de equipos, control de cost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85880" y="1257480"/>
            <a:ext cx="7572240" cy="5510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l desafío es importante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6160" y="2214720"/>
            <a:ext cx="4714920" cy="130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469584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286160" y="5500800"/>
            <a:ext cx="4705560" cy="11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387036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Object 4" descr=""/>
          <p:cNvPicPr/>
          <p:nvPr/>
        </p:nvPicPr>
        <p:blipFill>
          <a:blip r:embed="rId5"/>
          <a:stretch/>
        </p:blipFill>
        <p:spPr>
          <a:xfrm>
            <a:off x="-357120" y="3786120"/>
            <a:ext cx="4857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www.investinfrance.org/NorthAmerica/Newsroom/Newsletter/Images/toyota1.jpg"/>
          <p:cNvPicPr/>
          <p:nvPr/>
        </p:nvPicPr>
        <p:blipFill>
          <a:blip r:embed="rId1"/>
          <a:srcRect l="0" t="31707" r="0" b="0"/>
          <a:stretch/>
        </p:blipFill>
        <p:spPr>
          <a:xfrm>
            <a:off x="3786120" y="1000080"/>
            <a:ext cx="4826160" cy="2357640"/>
          </a:xfrm>
          <a:prstGeom prst="rect">
            <a:avLst/>
          </a:prstGeom>
          <a:ln w="0">
            <a:noFill/>
          </a:ln>
        </p:spPr>
      </p:pic>
      <p:sp>
        <p:nvSpPr>
          <p:cNvPr id="84" name="6 Rectángulo"/>
          <p:cNvSpPr/>
          <p:nvPr/>
        </p:nvSpPr>
        <p:spPr>
          <a:xfrm>
            <a:off x="0" y="588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 fin se reconoce que la construcción no es una producción industrial, ni artesanal: es 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otro tipo de produc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0" descr="http://www.leanconstruction.dk/_root/media/lauri.jpg"/>
          <p:cNvPicPr/>
          <p:nvPr/>
        </p:nvPicPr>
        <p:blipFill>
          <a:blip r:embed="rId2"/>
          <a:stretch/>
        </p:blipFill>
        <p:spPr>
          <a:xfrm>
            <a:off x="122400" y="1573200"/>
            <a:ext cx="1541160" cy="2786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industrie-technologies.com/GlobalVisuels/Local/SL_Produit/OHNO.jpg"/>
          <p:cNvPicPr/>
          <p:nvPr/>
        </p:nvPicPr>
        <p:blipFill>
          <a:blip r:embed="rId3"/>
          <a:stretch/>
        </p:blipFill>
        <p:spPr>
          <a:xfrm>
            <a:off x="5738760" y="14292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monografias.com/trabajos30/control-estadistico-calidad/Image1411.gif"/>
          <p:cNvPicPr/>
          <p:nvPr/>
        </p:nvPicPr>
        <p:blipFill>
          <a:blip r:embed="rId4"/>
          <a:stretch/>
        </p:blipFill>
        <p:spPr>
          <a:xfrm>
            <a:off x="7643880" y="14292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msu.edu/~tariq/editorial_files/image005.jpg"/>
          <p:cNvPicPr/>
          <p:nvPr/>
        </p:nvPicPr>
        <p:blipFill>
          <a:blip r:embed="rId5"/>
          <a:stretch/>
        </p:blipFill>
        <p:spPr>
          <a:xfrm>
            <a:off x="1554120" y="1359000"/>
            <a:ext cx="1305000" cy="333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Glenn Ballard"/>
          <p:cNvPicPr/>
          <p:nvPr/>
        </p:nvPicPr>
        <p:blipFill>
          <a:blip r:embed="rId6"/>
          <a:stretch/>
        </p:blipFill>
        <p:spPr>
          <a:xfrm>
            <a:off x="2481120" y="2073240"/>
            <a:ext cx="1298880" cy="307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www.asite.com/images/sir_john_egan_rcu.jpg"/>
          <p:cNvPicPr/>
          <p:nvPr/>
        </p:nvPicPr>
        <p:blipFill>
          <a:blip r:embed="rId7"/>
          <a:stretch/>
        </p:blipFill>
        <p:spPr>
          <a:xfrm>
            <a:off x="822240" y="3359160"/>
            <a:ext cx="3749760" cy="249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rds.yahoo.com/_ylt=A9iby56ZmFRGULoAiBOjzbkF/SIG=12ph01kd7/EXP=1180035609/**http%3A/news.bbc.co.uk/olmedia/1035000/images/_1036829_prodline300.jpg"/>
          <p:cNvPicPr/>
          <p:nvPr/>
        </p:nvPicPr>
        <p:blipFill>
          <a:blip r:embed="rId8"/>
          <a:stretch/>
        </p:blipFill>
        <p:spPr>
          <a:xfrm>
            <a:off x="5000760" y="292896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stamos frente a una revolución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 Actual: Coordinador de proyectos en POCH y Asoci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wwragg@ing.uchile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2: Maquinar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3: Metodologí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1: Trabajos prelimina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AQUINARI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MAQUINARIAS DE MOVIMIENTO DE TIERR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4 PRODUCCIÓN DE ÁRI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5 EQUIPOS DE ELEV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6 MAQUINARIAS ESPECI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METODOLOGÍ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SOSTEN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OBRAS DE HORMIGÓN. EN MASA Y ARM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MONTAJE DE ESTRUCTURAS DE AC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CALDERERÍA (PIP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4 PRESUPUES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1 COSTOS 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2 COSTOS IN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3 COSTO DE LA MANO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4 ANÁLISIS DE PRECIOS UNI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</cp:lastModifiedBy>
  <dcterms:modified xsi:type="dcterms:W3CDTF">2011-10-13T11:36:51Z</dcterms:modified>
  <cp:revision>34</cp:revision>
  <dc:subject/>
  <dc:title>CI 52A Métodos Constructivos</dc:title>
</cp:coreProperties>
</file>