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20A4A-BBBE-4CE0-8E02-8C03257B69C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466DB-5BA0-43A6-A120-3B970BBF4CBD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54E95-1DB7-478D-A463-459151092D1C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BC7D1-AC08-47CE-BEB9-BF38A281947B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A6C67-63B9-4272-8874-42E2DA2382A0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C079C-54EE-4ED2-AC60-7FE48AF68284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FAB0A-4914-4CAD-90CE-7318D2568129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57BF3-BD24-4F1B-BCB0-B506C1A414E4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CD0B9-A110-4CAE-949E-5B5A2CC2E523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Taiichi Ohno – Shigeo Shingo – Kiichiro Toyoda después de la II WW “debemos alcanza a la ind. Norteam. En 3 año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Lauri Koske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Glenn Ball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Gregory How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Sir John Egan “Rethinking Construction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FB068-0B2F-4339-8874-878E3A94D816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4D22A-097D-47C1-9DCE-E2F591431590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0A0AB-825F-47DE-92EA-2927D6B51558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3D107-AEE5-45E0-9626-F5A9A6617C5D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A9353-A8EE-4B30-A771-D84E7BA1FC16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0BCF5-25E2-4BCD-852A-D6450556C727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4F860-2D3F-4232-80C1-15E5C505F41D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392E1-19E6-4A80-860A-2D07E3CDBDE9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1FADA-5351-45AB-9303-278ACE47143D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D2FA-B451-433A-A63D-0B0501750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DEFB-230F-4CCB-ABDA-E38B11DE3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871B-E2D7-410C-B201-500DA5306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18E7-6C9A-42EE-92FF-C064B61D8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F204-7FDE-4016-BBD8-C7069A1D8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15F4-0D16-4F73-AA84-F579D1777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1A54-8FE9-49A3-B43B-ABA4F168C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3B7D-5033-491E-B9C4-216B42504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93F9-145D-441B-A827-38731A3E6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40DD-E275-4626-83CD-79FB9AF71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B448-A44E-4705-BEAA-568846691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475A-9774-41A1-B1A8-4455B0ADE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0E141-7DDE-46CB-BC0F-560D236D5C3B}" type="slidenum">
              <a:rPr b="0" lang="es-C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I5501 (CI52A)</a:t>
            </a:r>
            <a:br>
              <a:rPr sz="4400"/>
            </a:b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Métodos Constructivo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PRESENTA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1.2 TRABAJOS PRELIMINAR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1.2.1 GEOLOGÍ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1.2.2 TOPOGRAFÍ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1.2.3 CLIM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1.2.4 ENERGÍ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1.2.5 TRANSPOR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1.2.6 MANO DE OBR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1.2.7 CONDICIONES ECONÓMIC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1.2.8 SERVICIOS SOCIA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1.2.9 RELACIONES PÚBLIC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OTRAS ACTIVIDAD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TRABAJO EN GRUP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VISIT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HARLAS POR EXPOSITORES INVITADOS: Construcción de túneles, costo de operación de maquinarias, seguridad y salud ocupacional, otras.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e5ffff"/>
                </a:solidFill>
                <a:latin typeface="Tahoma"/>
              </a:rPr>
              <a:t>EVALUACION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2 Contro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1 Exam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1 Trabajo en grupo (NT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NF = 75% NC  + 25% 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Eximición con (C1+C2)/2 ≥ 5,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Image14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4504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4421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e5ffff"/>
                </a:solidFill>
                <a:latin typeface="Tahoma"/>
              </a:rPr>
              <a:t>¿PROYECTO DE CONSTRUCCIÓN?</a:t>
            </a:r>
            <a:br>
              <a:rPr sz="4000"/>
            </a:br>
            <a:r>
              <a:rPr b="0" lang="es-CL" sz="4000" spc="-1" strike="noStrike">
                <a:solidFill>
                  <a:srgbClr val="e5ffff"/>
                </a:solidFill>
                <a:latin typeface="Tahoma"/>
              </a:rPr>
              <a:t>¿INGENIERÍA DE CONSTRUCCIÓN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e5ffff"/>
                </a:solidFill>
                <a:latin typeface="Tahoma"/>
              </a:rPr>
              <a:t>Ingeniería de Construc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571400"/>
            <a:ext cx="8229600" cy="452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La ingeniería de construcción involucra la </a:t>
            </a:r>
            <a:r>
              <a:rPr b="1" lang="es-CL" sz="2400" spc="-1" strike="noStrike" u="sng">
                <a:solidFill>
                  <a:srgbClr val="ffffff"/>
                </a:solidFill>
                <a:uFillTx/>
                <a:latin typeface="Tahoma"/>
              </a:rPr>
              <a:t>planificación</a:t>
            </a:r>
            <a:r>
              <a:rPr b="0" lang="es-CL" sz="2400" spc="-1" strike="noStrike" u="sng">
                <a:solidFill>
                  <a:srgbClr val="ffffff"/>
                </a:solidFill>
                <a:uFillTx/>
                <a:latin typeface="Tahoma"/>
              </a:rPr>
              <a:t> y </a:t>
            </a:r>
            <a:r>
              <a:rPr b="1" lang="es-CL" sz="2400" spc="-1" strike="noStrike" u="sng">
                <a:solidFill>
                  <a:srgbClr val="ffffff"/>
                </a:solidFill>
                <a:uFillTx/>
                <a:latin typeface="Tahoma"/>
              </a:rPr>
              <a:t>administración</a:t>
            </a:r>
            <a:r>
              <a:rPr b="0" lang="es-CL" sz="24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de la construcción de obras de infraestructura y edifici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La construcción de dichos proyectos requiere conocimientos de </a:t>
            </a:r>
            <a:r>
              <a:rPr b="1" lang="es-CL" sz="2400" spc="-1" strike="noStrike" u="sng">
                <a:solidFill>
                  <a:srgbClr val="ffffff"/>
                </a:solidFill>
                <a:uFillTx/>
                <a:latin typeface="Tahoma"/>
              </a:rPr>
              <a:t>ingeniería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, principios de </a:t>
            </a:r>
            <a:r>
              <a:rPr b="1" lang="es-CL" sz="2400" spc="-1" strike="noStrike" u="sng">
                <a:solidFill>
                  <a:srgbClr val="ffffff"/>
                </a:solidFill>
                <a:uFillTx/>
                <a:latin typeface="Tahoma"/>
              </a:rPr>
              <a:t>administración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, procedimientos de </a:t>
            </a:r>
            <a:r>
              <a:rPr b="1" lang="es-CL" sz="2400" spc="-1" strike="noStrike" u="sng">
                <a:solidFill>
                  <a:srgbClr val="ffffff"/>
                </a:solidFill>
                <a:uFillTx/>
                <a:latin typeface="Tahoma"/>
              </a:rPr>
              <a:t>negocios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es-CL" sz="2400" spc="-1" strike="noStrike" u="sng">
                <a:solidFill>
                  <a:srgbClr val="ffffff"/>
                </a:solidFill>
                <a:uFillTx/>
                <a:latin typeface="Tahoma"/>
              </a:rPr>
              <a:t>economía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 y </a:t>
            </a:r>
            <a:r>
              <a:rPr b="1" lang="es-CL" sz="2400" spc="-1" strike="noStrike" u="sng">
                <a:solidFill>
                  <a:srgbClr val="ffffff"/>
                </a:solidFill>
                <a:uFillTx/>
                <a:latin typeface="Tahoma"/>
              </a:rPr>
              <a:t>comportamiento humano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Los ingenieros en construcción se enfrentan al diseño de estructuras temporales, control y aseguramiento de la calidad, construcción, elaboración de presupuestos, programación, compra de materiales, selección de equipos, control de costos, et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"/>
          <p:cNvPicPr/>
          <p:nvPr/>
        </p:nvPicPr>
        <p:blipFill>
          <a:blip r:embed="rId1"/>
          <a:stretch/>
        </p:blipFill>
        <p:spPr>
          <a:xfrm>
            <a:off x="785880" y="1257480"/>
            <a:ext cx="7572240" cy="551016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72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e5ffff"/>
                </a:solidFill>
                <a:latin typeface="Tahoma"/>
              </a:rPr>
              <a:t>El desafío es importante…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4286160" y="2214720"/>
            <a:ext cx="4714920" cy="13046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"/>
          <p:cNvPicPr/>
          <p:nvPr/>
        </p:nvPicPr>
        <p:blipFill>
          <a:blip r:embed="rId2"/>
          <a:stretch/>
        </p:blipFill>
        <p:spPr>
          <a:xfrm>
            <a:off x="4286160" y="3929040"/>
            <a:ext cx="4695840" cy="12952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"/>
          <p:cNvPicPr/>
          <p:nvPr/>
        </p:nvPicPr>
        <p:blipFill>
          <a:blip r:embed="rId3"/>
          <a:stretch/>
        </p:blipFill>
        <p:spPr>
          <a:xfrm>
            <a:off x="4286160" y="5500800"/>
            <a:ext cx="4705560" cy="11714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"/>
          <p:cNvPicPr/>
          <p:nvPr/>
        </p:nvPicPr>
        <p:blipFill>
          <a:blip r:embed="rId4"/>
          <a:stretch/>
        </p:blipFill>
        <p:spPr>
          <a:xfrm>
            <a:off x="142920" y="142920"/>
            <a:ext cx="3870360" cy="2786040"/>
          </a:xfrm>
          <a:prstGeom prst="rect">
            <a:avLst/>
          </a:prstGeom>
          <a:ln w="0">
            <a:noFill/>
          </a:ln>
        </p:spPr>
      </p:pic>
      <p:pic>
        <p:nvPicPr>
          <p:cNvPr id="82" name="Object 4" descr=""/>
          <p:cNvPicPr/>
          <p:nvPr/>
        </p:nvPicPr>
        <p:blipFill>
          <a:blip r:embed="rId5"/>
          <a:stretch/>
        </p:blipFill>
        <p:spPr>
          <a:xfrm>
            <a:off x="-357120" y="3786120"/>
            <a:ext cx="4857840" cy="22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http://www.investinfrance.org/NorthAmerica/Newsroom/Newsletter/Images/toyota1.jpg"/>
          <p:cNvPicPr/>
          <p:nvPr/>
        </p:nvPicPr>
        <p:blipFill>
          <a:blip r:embed="rId1"/>
          <a:srcRect l="0" t="31707" r="0" b="0"/>
          <a:stretch/>
        </p:blipFill>
        <p:spPr>
          <a:xfrm>
            <a:off x="3786120" y="1000080"/>
            <a:ext cx="4826160" cy="2357640"/>
          </a:xfrm>
          <a:prstGeom prst="rect">
            <a:avLst/>
          </a:prstGeom>
          <a:ln w="0">
            <a:noFill/>
          </a:ln>
        </p:spPr>
      </p:pic>
      <p:sp>
        <p:nvSpPr>
          <p:cNvPr id="84" name="6 Rectángulo"/>
          <p:cNvSpPr/>
          <p:nvPr/>
        </p:nvSpPr>
        <p:spPr>
          <a:xfrm>
            <a:off x="0" y="58849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ctr"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Al fin se reconoce que la construcción no es una producción industrial, ni artesanal: es </a:t>
            </a:r>
            <a:r>
              <a:rPr b="1" lang="es-CL" sz="2400" spc="-1" strike="noStrike">
                <a:solidFill>
                  <a:srgbClr val="ff0000"/>
                </a:solidFill>
                <a:latin typeface="Tahoma"/>
              </a:rPr>
              <a:t>otro tipo de producción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Picture 10" descr="http://www.leanconstruction.dk/_root/media/lauri.jpg"/>
          <p:cNvPicPr/>
          <p:nvPr/>
        </p:nvPicPr>
        <p:blipFill>
          <a:blip r:embed="rId2"/>
          <a:stretch/>
        </p:blipFill>
        <p:spPr>
          <a:xfrm>
            <a:off x="122400" y="1573200"/>
            <a:ext cx="1541160" cy="27860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http://www.industrie-technologies.com/GlobalVisuels/Local/SL_Produit/OHNO.jpg"/>
          <p:cNvPicPr/>
          <p:nvPr/>
        </p:nvPicPr>
        <p:blipFill>
          <a:blip r:embed="rId3"/>
          <a:stretch/>
        </p:blipFill>
        <p:spPr>
          <a:xfrm>
            <a:off x="5738760" y="142920"/>
            <a:ext cx="1785960" cy="12142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http://www.monografias.com/trabajos30/control-estadistico-calidad/Image1411.gif"/>
          <p:cNvPicPr/>
          <p:nvPr/>
        </p:nvPicPr>
        <p:blipFill>
          <a:blip r:embed="rId4"/>
          <a:stretch/>
        </p:blipFill>
        <p:spPr>
          <a:xfrm>
            <a:off x="7643880" y="142920"/>
            <a:ext cx="857160" cy="12002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http://www.msu.edu/~tariq/editorial_files/image005.jpg"/>
          <p:cNvPicPr/>
          <p:nvPr/>
        </p:nvPicPr>
        <p:blipFill>
          <a:blip r:embed="rId5"/>
          <a:stretch/>
        </p:blipFill>
        <p:spPr>
          <a:xfrm>
            <a:off x="1554120" y="1359000"/>
            <a:ext cx="1305000" cy="33354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Glenn Ballard"/>
          <p:cNvPicPr/>
          <p:nvPr/>
        </p:nvPicPr>
        <p:blipFill>
          <a:blip r:embed="rId6"/>
          <a:stretch/>
        </p:blipFill>
        <p:spPr>
          <a:xfrm>
            <a:off x="2481120" y="2073240"/>
            <a:ext cx="1298880" cy="30783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http://www.asite.com/images/sir_john_egan_rcu.jpg"/>
          <p:cNvPicPr/>
          <p:nvPr/>
        </p:nvPicPr>
        <p:blipFill>
          <a:blip r:embed="rId7"/>
          <a:stretch/>
        </p:blipFill>
        <p:spPr>
          <a:xfrm>
            <a:off x="822240" y="3359160"/>
            <a:ext cx="3749760" cy="24922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http://rds.yahoo.com/_ylt=A9iby56ZmFRGULoAiBOjzbkF/SIG=12ph01kd7/EXP=1180035609/**http%3A/news.bbc.co.uk/olmedia/1035000/images/_1036829_prodline300.jpg"/>
          <p:cNvPicPr/>
          <p:nvPr/>
        </p:nvPicPr>
        <p:blipFill>
          <a:blip r:embed="rId8"/>
          <a:stretch/>
        </p:blipFill>
        <p:spPr>
          <a:xfrm>
            <a:off x="5000760" y="2928960"/>
            <a:ext cx="3929040" cy="235728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14200" y="142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e5ffff"/>
                </a:solidFill>
                <a:latin typeface="Tahoma"/>
              </a:rPr>
              <a:t>Estamos frente a una revolución.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3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3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3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3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3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3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3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3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e5ffff"/>
                </a:solidFill>
                <a:latin typeface="Tahoma"/>
              </a:rPr>
              <a:t>Datos profesor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Nombre: William Wragg Larc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Profesión: Ingeniero Civil U. de Chi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Trabajo Actual: Coordinador de proyectos en POCH y Asociad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Correo electrónico: wwragg@ing.uchile.c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I 52A</a:t>
            </a:r>
            <a:br>
              <a:rPr sz="4400"/>
            </a:b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Métodos Constructivo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PROGRAMA DEL CURS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APÍTULO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Tahoma"/>
              </a:rPr>
              <a:t>Capítulo 2: Maquinaria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Tahoma"/>
              </a:rPr>
              <a:t>Capítulo 3: Metodología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Tahoma"/>
              </a:rPr>
              <a:t>Capítulo 1: Trabajos preliminar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2 MAQUINARIA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ahoma"/>
              </a:rPr>
              <a:t>2.2.1 GENERALIDAD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ahoma"/>
              </a:rPr>
              <a:t>2.2.2 ESPONJAMIENTO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ahoma"/>
              </a:rPr>
              <a:t>2.2.3 MAQUINARIAS DE MOVIMIENTO DE TIERRA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ahoma"/>
              </a:rPr>
              <a:t>2.2.4 PRODUCCIÓN DE ÁRIDO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ahoma"/>
              </a:rPr>
              <a:t>2.2.5 EQUIPOS DE ELEVACIÓ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ahoma"/>
              </a:rPr>
              <a:t>2.2.6 MAQUINARIAS ESPECIAL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3 METODOLOGÍA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3.1 SOSTENIMIENT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3.2 OBRAS DE HORMIGÓN. EN MASA Y ARMAD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3.2 MONTAJE DE ESTRUCTURAS DE ACER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3.3 CALDERERÍA (PIPING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1.3 PLANIFICACIÓN Y CONTROL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1.3.1 INSTALACIÓN DE FAENAS Y OBRAS ANEX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1.3.2 PLANO DE DISTRIBU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1.3.3 PROGRAMA DE TRABAJ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1.3.4 CONTROL DE AVANCE, COSTO, RENDIMIENT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1.4 PRESUPUEST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1.4.1 COSTOS DIRECT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1.4.2 COSTOS INDIRECT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1.4.3 COSTO DE LA MANO DE OB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1.4.4 ANÁLISIS DE PRECIOS UNITARI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1.1 GESTACIÓN DE OBRA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1.1.1 ORIGEN DEL PROYEC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1.1.2 FINANCIAMIEN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1.1.3 ANTEPROYEC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1.1.4 INGENIERÍA BÁSIC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1.1.5 INGENIERÍA DE DETAL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1.1.6 INGENIERÍA DE CONSTRUC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7T20:17:27Z</dcterms:created>
  <dc:creator>William Wragg L.</dc:creator>
  <dc:description/>
  <dc:language>en-US</dc:language>
  <cp:lastModifiedBy>William</cp:lastModifiedBy>
  <dcterms:modified xsi:type="dcterms:W3CDTF">2011-10-13T11:36:51Z</dcterms:modified>
  <cp:revision>34</cp:revision>
  <dc:subject/>
  <dc:title>CI 52A Métodos Constructivos</dc:title>
</cp:coreProperties>
</file>