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9EB6-14F3-4DF0-8E5B-F1CEA9661C4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6D50-A432-4166-9EE5-37B526A53A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83D4-CD51-4829-8BAC-3635D31C63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diversos estilos de liderazgo, esquematizados de esta manera por Goleman y Hay Group. Los líderes que obtienen mejores resultados son aquellos capaces de utilizar diversos estilos, eligiendo el más adecuado al contexto y la sit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Goleman, “Liderazgo que obtiene resultados”, HB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Marcador de número de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622-ABE2-4811-B5B7-A30894C7AE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A52A-68AC-44CF-9D1B-419E3569D5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2C36-D671-458B-A914-890B06CF8A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8C4-E5BA-4D85-AE67-1A4A5387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243-A403-4DA7-AD06-E6676546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CB9-C25C-4075-A823-8A7F2CF2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2DF-8ABE-47E5-81D3-3DFA6F9F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D6B-0B7A-4ECF-BA04-1E4A620E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CEA6-EB0E-48BB-8B8E-BDD44547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85E4-0C5B-448F-BE67-7982AB37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F878-BA89-45C0-ABA1-3869BB12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6E70-7CE9-4A0F-ABCD-4E66849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CC18-0D8A-439C-8A1C-AE348880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E5C-25A8-4FDF-824C-2519EF4D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5C02-F3F2-415A-899B-C6D4572B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B8F2-5C15-4812-AF5C-970E0FAE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2A92-C65A-47AB-9A29-4027D60F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745B-62F0-4A4F-B6CD-FD17E1A8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E79-D2EC-4EA7-BB6E-E1442203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D8E9-D1B7-4F44-8EF1-DCA0B86B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DD00-8791-4402-8E9A-94CF1469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7056-7D16-4AA7-82D5-F6FE24F5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3468-8B88-436E-B88B-4B37BE7F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7991-0431-44E9-9970-25AF51B6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449-4CC7-4D15-BBEA-38B58BEC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BFA9-E1AC-485E-B7B6-7A089ECA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CA17-82B9-4C8D-B280-15BA7012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1B35-5699-4D5C-8CB0-05ECFF06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7A2B-54E5-4EE3-8076-F229275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D824-164E-4F13-B690-4C9661D0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C81D-6A79-4FCC-95DA-A1AB184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FCCB-DCF6-493D-91DB-58B11A83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ED84-AB05-437B-AD1F-E0E260EC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DE26-06C5-4612-B7F7-AFE9469E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002-AEE0-44AA-9568-97C133CA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9D9-11E8-4A77-A075-A0EB813F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914-9E69-431B-BC27-50C95C3B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7A0-03DB-49F8-B770-EC4353D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780-9FD8-44A8-A728-DDB34CF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AE0D-1E00-4E81-956D-1F3869AA61DB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96FA-33D4-4636-BFA3-A794C29DCFE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6" name="Conector recto 7"/>
          <p:cNvSpPr/>
          <p:nvPr/>
        </p:nvSpPr>
        <p:spPr>
          <a:xfrm>
            <a:off x="1295280" y="1066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H="1">
            <a:off x="1295280" y="1143000"/>
            <a:ext cx="64771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ector recto 8"/>
          <p:cNvSpPr/>
          <p:nvPr/>
        </p:nvSpPr>
        <p:spPr>
          <a:xfrm>
            <a:off x="1295280" y="3352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0E0E-4087-4738-8979-CEE10D2DBF0F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401-6A3F-4BEB-A1D8-9EA10241911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CD7C-56FC-4ABE-99E0-78813B29B0CF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2E5C-849C-4AAB-BE99-4182CB88723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3"/>
          <p:cNvSpPr/>
          <p:nvPr/>
        </p:nvSpPr>
        <p:spPr>
          <a:xfrm flipH="1">
            <a:off x="1371240" y="3429000"/>
            <a:ext cx="63277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&#10;images.jpg                                                     00300D1C_x000c_Macintosh HD                   BE7B4DA2:"/>
          <p:cNvPicPr/>
          <p:nvPr/>
        </p:nvPicPr>
        <p:blipFill>
          <a:blip r:embed="rId2"/>
          <a:stretch/>
        </p:blipFill>
        <p:spPr>
          <a:xfrm>
            <a:off x="1600200" y="24382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ligencia emocional: 4 dimensiones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1447920" y="914400"/>
            <a:ext cx="7086600" cy="5864760"/>
            <a:chOff x="1447920" y="914400"/>
            <a:chExt cx="7086600" cy="5864760"/>
          </a:xfrm>
        </p:grpSpPr>
        <p:sp>
          <p:nvSpPr>
            <p:cNvPr id="263" name="Rectangle 2"/>
            <p:cNvSpPr/>
            <p:nvPr/>
          </p:nvSpPr>
          <p:spPr>
            <a:xfrm>
              <a:off x="1447920" y="3494160"/>
              <a:ext cx="7086600" cy="305928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So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1447920" y="914400"/>
              <a:ext cx="7086600" cy="253980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Pers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859040" y="1324440"/>
              <a:ext cx="3109680" cy="2050200"/>
              <a:chOff x="1859040" y="1324440"/>
              <a:chExt cx="3109680" cy="2050200"/>
            </a:xfrm>
          </p:grpSpPr>
          <p:sp>
            <p:nvSpPr>
              <p:cNvPr id="266" name="Text Box 5"/>
              <p:cNvSpPr/>
              <p:nvPr/>
            </p:nvSpPr>
            <p:spPr>
              <a:xfrm>
                <a:off x="205740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de s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10"/>
              <p:cNvSpPr/>
              <p:nvPr/>
            </p:nvSpPr>
            <p:spPr>
              <a:xfrm>
                <a:off x="2057400" y="1787040"/>
                <a:ext cx="290844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ocimiento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aloración adecuada de sí mism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fianz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859040" y="1324440"/>
                <a:ext cx="395280" cy="60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6"/>
            <p:cNvGrpSpPr/>
            <p:nvPr/>
          </p:nvGrpSpPr>
          <p:grpSpPr>
            <a:xfrm>
              <a:off x="5194440" y="3851280"/>
              <a:ext cx="3101760" cy="2625480"/>
              <a:chOff x="5194440" y="3851280"/>
              <a:chExt cx="3101760" cy="2625480"/>
            </a:xfrm>
          </p:grpSpPr>
          <p:sp>
            <p:nvSpPr>
              <p:cNvPr id="270" name="Text Box 9"/>
              <p:cNvSpPr/>
              <p:nvPr/>
            </p:nvSpPr>
            <p:spPr>
              <a:xfrm>
                <a:off x="5384880" y="397008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ilidades soci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5372280" y="4406400"/>
                <a:ext cx="2920680" cy="207036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isión, inspi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flu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Desarrollo de ot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atalizar el camb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Gestionar confli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stablecer víncul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Trabajo en equipo y colabo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5194440" y="3851280"/>
                <a:ext cx="395280" cy="63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4"/>
            <p:cNvGrpSpPr/>
            <p:nvPr/>
          </p:nvGrpSpPr>
          <p:grpSpPr>
            <a:xfrm>
              <a:off x="5194440" y="1311120"/>
              <a:ext cx="3101760" cy="2063520"/>
              <a:chOff x="5194440" y="1311120"/>
              <a:chExt cx="3101760" cy="2063520"/>
            </a:xfrm>
          </p:grpSpPr>
          <p:sp>
            <p:nvSpPr>
              <p:cNvPr id="274" name="Text Box 6"/>
              <p:cNvSpPr/>
              <p:nvPr/>
            </p:nvSpPr>
            <p:spPr>
              <a:xfrm>
                <a:off x="538488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utogest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0"/>
              <p:cNvSpPr/>
              <p:nvPr/>
            </p:nvSpPr>
            <p:spPr>
              <a:xfrm>
                <a:off x="5384880" y="1787040"/>
                <a:ext cx="290808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trol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f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dapt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og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iciativ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16"/>
              <p:cNvSpPr/>
              <p:nvPr/>
            </p:nvSpPr>
            <p:spPr>
              <a:xfrm>
                <a:off x="5194440" y="1311120"/>
                <a:ext cx="395280" cy="629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1860480" y="3849480"/>
              <a:ext cx="3116160" cy="2576160"/>
              <a:chOff x="1860480" y="3849480"/>
              <a:chExt cx="3116160" cy="257616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2063880" y="3998880"/>
                <a:ext cx="2911320" cy="52200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so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14"/>
              <p:cNvSpPr/>
              <p:nvPr/>
            </p:nvSpPr>
            <p:spPr>
              <a:xfrm>
                <a:off x="1981080" y="4521240"/>
                <a:ext cx="2995560" cy="19044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mpatí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 de la organiz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ervic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18"/>
              <p:cNvSpPr/>
              <p:nvPr/>
            </p:nvSpPr>
            <p:spPr>
              <a:xfrm>
                <a:off x="1860480" y="3849480"/>
                <a:ext cx="395280" cy="76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2"/>
            <p:cNvSpPr/>
            <p:nvPr/>
          </p:nvSpPr>
          <p:spPr>
            <a:xfrm>
              <a:off x="1523880" y="6626520"/>
              <a:ext cx="495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 Goleman, Boyatzis, McKee, “El lídere resonante”, Plaza &amp; Janés,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164160" y="1981080"/>
            <a:ext cx="8674920" cy="4359240"/>
            <a:chOff x="164160" y="1981080"/>
            <a:chExt cx="8674920" cy="4359240"/>
          </a:xfrm>
        </p:grpSpPr>
        <p:sp>
          <p:nvSpPr>
            <p:cNvPr id="284" name="Freeform 25"/>
            <p:cNvSpPr/>
            <p:nvPr/>
          </p:nvSpPr>
          <p:spPr>
            <a:xfrm>
              <a:off x="861840" y="3341520"/>
              <a:ext cx="797436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2590920" y="1981080"/>
              <a:ext cx="396216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4007520" y="37339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3993120" y="510552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103560" y="495288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 rot="10800000">
              <a:off x="576360" y="3982680"/>
              <a:ext cx="838080" cy="1538280"/>
            </a:xfrm>
            <a:prstGeom prst="upArrow">
              <a:avLst>
                <a:gd name="adj1" fmla="val 35991"/>
                <a:gd name="adj2" fmla="val 4605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164160" y="5562720"/>
              <a:ext cx="17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prof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114300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2"/>
            <p:cNvSpPr/>
            <p:nvPr/>
          </p:nvSpPr>
          <p:spPr>
            <a:xfrm>
              <a:off x="4052520" y="4572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>
              <a:off x="3540240" y="411480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1"/>
          <p:cNvGrpSpPr/>
          <p:nvPr/>
        </p:nvGrpSpPr>
        <p:grpSpPr>
          <a:xfrm>
            <a:off x="6629400" y="1568520"/>
            <a:ext cx="2286000" cy="3841560"/>
            <a:chOff x="6629400" y="1568520"/>
            <a:chExt cx="2286000" cy="3841560"/>
          </a:xfrm>
        </p:grpSpPr>
        <p:sp>
          <p:nvSpPr>
            <p:cNvPr id="295" name="Text Box 28"/>
            <p:cNvSpPr/>
            <p:nvPr/>
          </p:nvSpPr>
          <p:spPr>
            <a:xfrm>
              <a:off x="6629400" y="1568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9"/>
            <p:cNvSpPr/>
            <p:nvPr/>
          </p:nvSpPr>
          <p:spPr>
            <a:xfrm>
              <a:off x="7353360" y="259092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7124760" y="457200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32"/>
          <p:cNvGrpSpPr/>
          <p:nvPr/>
        </p:nvGrpSpPr>
        <p:grpSpPr>
          <a:xfrm>
            <a:off x="327960" y="1600200"/>
            <a:ext cx="5302080" cy="1828800"/>
            <a:chOff x="327960" y="1600200"/>
            <a:chExt cx="5302080" cy="1828800"/>
          </a:xfrm>
        </p:grpSpPr>
        <p:sp>
          <p:nvSpPr>
            <p:cNvPr id="299" name="AutoShape 17"/>
            <p:cNvSpPr/>
            <p:nvPr/>
          </p:nvSpPr>
          <p:spPr>
            <a:xfrm>
              <a:off x="612720" y="2022480"/>
              <a:ext cx="838080" cy="1406520"/>
            </a:xfrm>
            <a:prstGeom prst="upArrow">
              <a:avLst>
                <a:gd name="adj1" fmla="val 40907"/>
                <a:gd name="adj2" fmla="val 4382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327960" y="160020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vi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3903840" y="198108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557880" y="2438280"/>
              <a:ext cx="20721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04" name="Group 44"/>
          <p:cNvGrpSpPr/>
          <p:nvPr/>
        </p:nvGrpSpPr>
        <p:grpSpPr>
          <a:xfrm>
            <a:off x="23760" y="1992240"/>
            <a:ext cx="7977240" cy="4359240"/>
            <a:chOff x="23760" y="1992240"/>
            <a:chExt cx="7977240" cy="4359240"/>
          </a:xfrm>
        </p:grpSpPr>
        <p:sp>
          <p:nvSpPr>
            <p:cNvPr id="305" name="AutoShape 7"/>
            <p:cNvSpPr/>
            <p:nvPr/>
          </p:nvSpPr>
          <p:spPr>
            <a:xfrm>
              <a:off x="1828800" y="199224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3760" y="3352680"/>
              <a:ext cx="797400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0"/>
            <p:cNvSpPr/>
            <p:nvPr/>
          </p:nvSpPr>
          <p:spPr>
            <a:xfrm>
              <a:off x="533520" y="1992240"/>
              <a:ext cx="396252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1950120" y="37450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1935720" y="511668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1046160" y="496404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30492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1995120" y="45831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482840" y="412596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1496160" y="2449440"/>
              <a:ext cx="207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Oval 23"/>
          <p:cNvSpPr/>
          <p:nvPr/>
        </p:nvSpPr>
        <p:spPr>
          <a:xfrm>
            <a:off x="3962520" y="1566720"/>
            <a:ext cx="121896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4952880" y="2023920"/>
            <a:ext cx="1300320" cy="76860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busc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6858000" y="1583640"/>
            <a:ext cx="2286000" cy="3750120"/>
            <a:chOff x="6858000" y="1583640"/>
            <a:chExt cx="2286000" cy="3750120"/>
          </a:xfrm>
        </p:grpSpPr>
        <p:sp>
          <p:nvSpPr>
            <p:cNvPr id="318" name="Text Box 31"/>
            <p:cNvSpPr/>
            <p:nvPr/>
          </p:nvSpPr>
          <p:spPr>
            <a:xfrm>
              <a:off x="6858000" y="1583640"/>
              <a:ext cx="2286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7581960" y="251460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7353360" y="449568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Oval 34"/>
          <p:cNvSpPr/>
          <p:nvPr/>
        </p:nvSpPr>
        <p:spPr>
          <a:xfrm>
            <a:off x="5943600" y="2557440"/>
            <a:ext cx="121932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capaci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35"/>
          <p:cNvCxnSpPr>
            <a:stCxn id="315" idx="7"/>
            <a:endCxn id="316" idx="0"/>
          </p:cNvCxnSpPr>
          <p:nvPr/>
        </p:nvCxnSpPr>
        <p:spPr>
          <a:xfrm flipH="1" rot="16200000">
            <a:off x="5126400" y="1547280"/>
            <a:ext cx="353160" cy="600840"/>
          </a:xfrm>
          <a:prstGeom prst="curvedConnector5">
            <a:avLst>
              <a:gd name="adj1" fmla="val -94795"/>
              <a:gd name="adj2" fmla="val 50000"/>
              <a:gd name="adj3" fmla="val -94795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3" name="AutoShape 36"/>
          <p:cNvCxnSpPr>
            <a:stCxn id="316" idx="7"/>
            <a:endCxn id="321" idx="0"/>
          </p:cNvCxnSpPr>
          <p:nvPr/>
        </p:nvCxnSpPr>
        <p:spPr>
          <a:xfrm flipH="1" rot="16200000">
            <a:off x="6097320" y="2101320"/>
            <a:ext cx="421560" cy="491040"/>
          </a:xfrm>
          <a:prstGeom prst="curvedConnector5">
            <a:avLst>
              <a:gd name="adj1" fmla="val -80940"/>
              <a:gd name="adj2" fmla="val 49963"/>
              <a:gd name="adj3" fmla="val -8094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4" name="AutoShape 37"/>
          <p:cNvCxnSpPr>
            <a:stCxn id="321" idx="6"/>
            <a:endCxn id="319" idx="2"/>
          </p:cNvCxnSpPr>
          <p:nvPr/>
        </p:nvCxnSpPr>
        <p:spPr>
          <a:xfrm flipV="1">
            <a:off x="7162920" y="2856960"/>
            <a:ext cx="419760" cy="6084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5" name="Oval 38"/>
          <p:cNvSpPr/>
          <p:nvPr/>
        </p:nvSpPr>
        <p:spPr>
          <a:xfrm>
            <a:off x="3733920" y="3581280"/>
            <a:ext cx="121896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724280" y="4038480"/>
            <a:ext cx="1300320" cy="8146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 valo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0"/>
          <p:cNvSpPr/>
          <p:nvPr/>
        </p:nvSpPr>
        <p:spPr>
          <a:xfrm>
            <a:off x="5715000" y="4572000"/>
            <a:ext cx="121932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apaci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AutoShape 41"/>
          <p:cNvCxnSpPr>
            <a:stCxn id="325" idx="7"/>
            <a:endCxn id="326" idx="0"/>
          </p:cNvCxnSpPr>
          <p:nvPr/>
        </p:nvCxnSpPr>
        <p:spPr>
          <a:xfrm flipH="1" rot="16200000">
            <a:off x="4901040" y="3565080"/>
            <a:ext cx="346680" cy="600840"/>
          </a:xfrm>
          <a:prstGeom prst="curvedConnector5">
            <a:avLst>
              <a:gd name="adj1" fmla="val -98336"/>
              <a:gd name="adj2" fmla="val 50000"/>
              <a:gd name="adj3" fmla="val -98336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9" name="AutoShape 42"/>
          <p:cNvCxnSpPr>
            <a:stCxn id="326" idx="7"/>
            <a:endCxn id="327" idx="0"/>
          </p:cNvCxnSpPr>
          <p:nvPr/>
        </p:nvCxnSpPr>
        <p:spPr>
          <a:xfrm flipH="1" rot="16200000">
            <a:off x="5871960" y="4119120"/>
            <a:ext cx="415080" cy="491040"/>
          </a:xfrm>
          <a:prstGeom prst="curvedConnector5">
            <a:avLst>
              <a:gd name="adj1" fmla="val -28732"/>
              <a:gd name="adj2" fmla="val 49963"/>
              <a:gd name="adj3" fmla="val -28732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0" name="AutoShape 43"/>
          <p:cNvCxnSpPr>
            <a:stCxn id="327" idx="6"/>
          </p:cNvCxnSpPr>
          <p:nvPr/>
        </p:nvCxnSpPr>
        <p:spPr>
          <a:xfrm flipV="1">
            <a:off x="6934320" y="4871520"/>
            <a:ext cx="419760" cy="81360"/>
          </a:xfrm>
          <a:prstGeom prst="curvedConnector5">
            <a:avLst>
              <a:gd name="adj1" fmla="val 49957"/>
              <a:gd name="adj2" fmla="val 49777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los de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n 4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965160" cy="2806920"/>
          </a:xfrm>
          <a:prstGeom prst="rect">
            <a:avLst/>
          </a:prstGeom>
          <a:ln w="0">
            <a:noFill/>
          </a:ln>
        </p:spPr>
      </p:pic>
      <p:pic>
        <p:nvPicPr>
          <p:cNvPr id="333" name="Imagen 5" descr=""/>
          <p:cNvPicPr/>
          <p:nvPr/>
        </p:nvPicPr>
        <p:blipFill>
          <a:blip r:embed="rId2"/>
          <a:stretch/>
        </p:blipFill>
        <p:spPr>
          <a:xfrm>
            <a:off x="1434960" y="1523880"/>
            <a:ext cx="7175520" cy="982800"/>
          </a:xfrm>
          <a:prstGeom prst="rect">
            <a:avLst/>
          </a:prstGeom>
          <a:ln w="0">
            <a:noFill/>
          </a:ln>
        </p:spPr>
      </p:pic>
      <p:pic>
        <p:nvPicPr>
          <p:cNvPr id="334" name="Imagen 6" descr=""/>
          <p:cNvPicPr/>
          <p:nvPr/>
        </p:nvPicPr>
        <p:blipFill>
          <a:blip r:embed="rId3"/>
          <a:stretch/>
        </p:blipFill>
        <p:spPr>
          <a:xfrm>
            <a:off x="1434960" y="248904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n 7" descr=""/>
          <p:cNvPicPr/>
          <p:nvPr/>
        </p:nvPicPr>
        <p:blipFill>
          <a:blip r:embed="rId4"/>
          <a:stretch/>
        </p:blipFill>
        <p:spPr>
          <a:xfrm>
            <a:off x="1434960" y="29592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6" name="Imagen 8" descr=""/>
          <p:cNvPicPr/>
          <p:nvPr/>
        </p:nvPicPr>
        <p:blipFill>
          <a:blip r:embed="rId5"/>
          <a:stretch/>
        </p:blipFill>
        <p:spPr>
          <a:xfrm>
            <a:off x="1434960" y="34164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9" descr=""/>
          <p:cNvPicPr/>
          <p:nvPr/>
        </p:nvPicPr>
        <p:blipFill>
          <a:blip r:embed="rId6"/>
          <a:stretch/>
        </p:blipFill>
        <p:spPr>
          <a:xfrm>
            <a:off x="1434960" y="388620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8" name="Imagen 10" descr=""/>
          <p:cNvPicPr/>
          <p:nvPr/>
        </p:nvPicPr>
        <p:blipFill>
          <a:blip r:embed="rId7"/>
          <a:stretch/>
        </p:blipFill>
        <p:spPr>
          <a:xfrm>
            <a:off x="1434960" y="4343400"/>
            <a:ext cx="717552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iderazgo impacta en el cli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tilos de dirección/liderazgo –y su coherencia con la estrategia– son relevantes a la hora de explicar el indicador de clima organizacional (62%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rectivos de todo nivel juegan un rol fundamental en la construcción de “claridad organizacional”, porque son quienes comunican y ponen en prác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irección estratégica, los objetivos clave, la estructura, las políticas y las líneas de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7400" y="635328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Idíd.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lima impacta en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 consenso en la influencia del clima organizacional en los resultad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ones específicas realizadas por Hay/McBer* han mostra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indicador de clima pesa un 32% en el total de factores que influyen en los resultados de gest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a mejora del clima es significativa en el aumento de los beneficios de la empre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o de los factores considerados para modelar el clima –el denominado “claridad”– es especialmente relevante y explica parte importante del indicador de c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73880" y="6353280"/>
            <a:ext cx="37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Factbook de Recursos Humanos, Hay Group, Cap. II-3, pág. 62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ultura impact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strategia y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relevante en facilitar, retrasar o incluso impedir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considerada la palanca fundamental para atraer, motivar y retener el tal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mpresas que son exitosas en alinear la cultura, la estrategia y los sistemas de gestión logran resultados notablemente superiores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ol de liderazgo es modelar y alinear la cultura para lograr esos resultados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056240" y="6175440"/>
            <a:ext cx="468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John P. Kotter, “Cultura de empresa y rentabilidad”, Cap. 6, pág.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me llevo de la clase de ho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14240" y="16002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básicos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y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gru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ándon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nombre completo 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pareja me dice/decí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egué al mundo e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estado civil/familiar es 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comida que prefiero/detesto  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emás de mis estudios y mi familia, dedico tiemp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antes creía en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 ahora creo en  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entos que marcaron mi vida han si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ñez: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olescencia: ………………………………………………………………………… 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ultez: 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soy como …………………………………………………………  (animal, objeto, avatar, etc)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que 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7" descr=""/>
          <p:cNvPicPr/>
          <p:nvPr/>
        </p:nvPicPr>
        <p:blipFill>
          <a:blip r:embed="rId1"/>
          <a:srcRect l="0" t="0" r="17634" b="0"/>
          <a:stretch/>
        </p:blipFill>
        <p:spPr>
          <a:xfrm>
            <a:off x="-123840" y="1671480"/>
            <a:ext cx="77616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8" descr=""/>
          <p:cNvPicPr/>
          <p:nvPr/>
        </p:nvPicPr>
        <p:blipFill>
          <a:blip r:embed="rId2"/>
          <a:stretch/>
        </p:blipFill>
        <p:spPr>
          <a:xfrm>
            <a:off x="-123840" y="3676680"/>
            <a:ext cx="701640" cy="662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16" descr="SafetyRing.png"/>
          <p:cNvPicPr/>
          <p:nvPr/>
        </p:nvPicPr>
        <p:blipFill>
          <a:blip r:embed="rId3"/>
          <a:stretch/>
        </p:blipFill>
        <p:spPr>
          <a:xfrm>
            <a:off x="-36360" y="981000"/>
            <a:ext cx="614160" cy="74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17" descr="PaperClip.png"/>
          <p:cNvPicPr/>
          <p:nvPr/>
        </p:nvPicPr>
        <p:blipFill>
          <a:blip r:embed="rId4"/>
          <a:stretch/>
        </p:blipFill>
        <p:spPr>
          <a:xfrm>
            <a:off x="-36360" y="5454720"/>
            <a:ext cx="411120" cy="53964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29" descr="Clock.png"/>
          <p:cNvPicPr/>
          <p:nvPr/>
        </p:nvPicPr>
        <p:blipFill>
          <a:blip r:embed="rId5"/>
          <a:stretch/>
        </p:blipFill>
        <p:spPr>
          <a:xfrm>
            <a:off x="-36360" y="4297320"/>
            <a:ext cx="436320" cy="539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47" descr=""/>
          <p:cNvPicPr/>
          <p:nvPr/>
        </p:nvPicPr>
        <p:blipFill>
          <a:blip r:embed="rId6"/>
          <a:stretch/>
        </p:blipFill>
        <p:spPr>
          <a:xfrm>
            <a:off x="-84240" y="2109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50" descr=""/>
          <p:cNvPicPr/>
          <p:nvPr/>
        </p:nvPicPr>
        <p:blipFill>
          <a:blip r:embed="rId7"/>
          <a:srcRect l="17297" t="24255" r="0" b="19444"/>
          <a:stretch/>
        </p:blipFill>
        <p:spPr>
          <a:xfrm>
            <a:off x="-144360" y="4889520"/>
            <a:ext cx="830160" cy="5652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51" descr=""/>
          <p:cNvPicPr/>
          <p:nvPr/>
        </p:nvPicPr>
        <p:blipFill>
          <a:blip r:embed="rId8"/>
          <a:srcRect l="0" t="12670" r="0" b="16155"/>
          <a:stretch/>
        </p:blipFill>
        <p:spPr>
          <a:xfrm>
            <a:off x="-112680" y="2281320"/>
            <a:ext cx="690480" cy="600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55" descr=""/>
          <p:cNvPicPr/>
          <p:nvPr/>
        </p:nvPicPr>
        <p:blipFill>
          <a:blip r:embed="rId9"/>
          <a:stretch/>
        </p:blipFill>
        <p:spPr>
          <a:xfrm>
            <a:off x="-101520" y="2951280"/>
            <a:ext cx="701640" cy="70164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"/>
          <p:cNvPicPr/>
          <p:nvPr/>
        </p:nvPicPr>
        <p:blipFill>
          <a:blip r:embed="rId10"/>
          <a:stretch/>
        </p:blipFill>
        <p:spPr>
          <a:xfrm>
            <a:off x="-109440" y="59785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14" descr=""/>
          <p:cNvPicPr/>
          <p:nvPr/>
        </p:nvPicPr>
        <p:blipFill>
          <a:blip r:embed="rId11"/>
          <a:stretch/>
        </p:blipFill>
        <p:spPr>
          <a:xfrm>
            <a:off x="8707320" y="90180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0" descr="Umbrella.png"/>
          <p:cNvPicPr/>
          <p:nvPr/>
        </p:nvPicPr>
        <p:blipFill>
          <a:blip r:embed="rId12"/>
          <a:stretch/>
        </p:blipFill>
        <p:spPr>
          <a:xfrm>
            <a:off x="8650440" y="4110120"/>
            <a:ext cx="6141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45" descr=""/>
          <p:cNvPicPr/>
          <p:nvPr/>
        </p:nvPicPr>
        <p:blipFill>
          <a:blip r:embed="rId13"/>
          <a:stretch/>
        </p:blipFill>
        <p:spPr>
          <a:xfrm>
            <a:off x="8661240" y="135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46" descr=""/>
          <p:cNvPicPr/>
          <p:nvPr/>
        </p:nvPicPr>
        <p:blipFill>
          <a:blip r:embed="rId14"/>
          <a:stretch/>
        </p:blipFill>
        <p:spPr>
          <a:xfrm>
            <a:off x="8609040" y="6014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52" descr=""/>
          <p:cNvPicPr/>
          <p:nvPr/>
        </p:nvPicPr>
        <p:blipFill>
          <a:blip r:embed="rId15"/>
          <a:stretch/>
        </p:blipFill>
        <p:spPr>
          <a:xfrm>
            <a:off x="8661240" y="2035080"/>
            <a:ext cx="601920" cy="601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n 53" descr=""/>
          <p:cNvPicPr/>
          <p:nvPr/>
        </p:nvPicPr>
        <p:blipFill>
          <a:blip r:embed="rId16"/>
          <a:stretch/>
        </p:blipFill>
        <p:spPr>
          <a:xfrm>
            <a:off x="8616960" y="4640400"/>
            <a:ext cx="67788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4" descr=""/>
          <p:cNvPicPr/>
          <p:nvPr/>
        </p:nvPicPr>
        <p:blipFill>
          <a:blip r:embed="rId17"/>
          <a:srcRect l="47306" t="0" r="0" b="0"/>
          <a:stretch/>
        </p:blipFill>
        <p:spPr>
          <a:xfrm>
            <a:off x="8788320" y="3274920"/>
            <a:ext cx="507960" cy="80352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56" descr=""/>
          <p:cNvPicPr/>
          <p:nvPr/>
        </p:nvPicPr>
        <p:blipFill>
          <a:blip r:embed="rId18"/>
          <a:stretch/>
        </p:blipFill>
        <p:spPr>
          <a:xfrm>
            <a:off x="8647200" y="2658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52" descr=""/>
          <p:cNvPicPr/>
          <p:nvPr/>
        </p:nvPicPr>
        <p:blipFill>
          <a:blip r:embed="rId19"/>
          <a:stretch/>
        </p:blipFill>
        <p:spPr>
          <a:xfrm>
            <a:off x="8613720" y="1428840"/>
            <a:ext cx="682560" cy="534960"/>
          </a:xfrm>
          <a:prstGeom prst="rect">
            <a:avLst/>
          </a:prstGeom>
          <a:ln w="0">
            <a:noFill/>
          </a:ln>
        </p:spPr>
      </p:pic>
      <p:pic>
        <p:nvPicPr>
          <p:cNvPr id="238" name="Imagen 53" descr=""/>
          <p:cNvPicPr/>
          <p:nvPr/>
        </p:nvPicPr>
        <p:blipFill>
          <a:blip r:embed="rId20"/>
          <a:stretch/>
        </p:blipFill>
        <p:spPr>
          <a:xfrm rot="5400000">
            <a:off x="8601120" y="5299200"/>
            <a:ext cx="60624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aprendimo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524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mí me permiten reflexion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ti me permiten conoc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mos muy diferentes, y tenemos mucho e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afectan eventos y emociones simi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mos igual nombre a vive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creencias que camb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compartir lo que nos importa, construimos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go una estructura básica de conversación para establecer contacto y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 v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as tribus del norte de Natal, Sudáfrica, el saludo más común, equivalente a nuestro “hola”, es la expresió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awu b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nifica literalmente “te ve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iembros de la tribu responden diciendo: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ikkh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“estoy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rden del diálogo es important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no me hayas visto, no existo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como si, al verme, me dieras l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adroTexto 3"/>
          <p:cNvSpPr/>
          <p:nvPr/>
        </p:nvSpPr>
        <p:spPr>
          <a:xfrm>
            <a:off x="879840" y="6400800"/>
            <a:ext cx="24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La quinta disciplina”, Peter Senge, Gra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Lo que sabes de liderar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a partir de tu experi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ica a un líder re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que tu hayas segu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Cómo era/es esa persona?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Qué te hacía seguir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en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s respecto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80720" y="1295280"/>
            <a:ext cx="628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“carism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la razón, los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ítulo, rango, jerarqu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sgos personales de cará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berse, decirse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atoria, desp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deres 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0" y="16002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tienen segu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logran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bles, establece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se hacen respons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aprenden a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adroTexto 17"/>
          <p:cNvSpPr/>
          <p:nvPr/>
        </p:nvSpPr>
        <p:spPr>
          <a:xfrm>
            <a:off x="1219320" y="16002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uadroTexto 18"/>
          <p:cNvSpPr/>
          <p:nvPr/>
        </p:nvSpPr>
        <p:spPr>
          <a:xfrm>
            <a:off x="1219320" y="31240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que del curso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competencias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adroTexto 10"/>
          <p:cNvSpPr/>
          <p:nvPr/>
        </p:nvSpPr>
        <p:spPr>
          <a:xfrm>
            <a:off x="358128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uadroTexto 11"/>
          <p:cNvSpPr/>
          <p:nvPr/>
        </p:nvSpPr>
        <p:spPr>
          <a:xfrm>
            <a:off x="556272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uadroTexto 9"/>
          <p:cNvSpPr/>
          <p:nvPr/>
        </p:nvSpPr>
        <p:spPr>
          <a:xfrm>
            <a:off x="3772080" y="4267080"/>
            <a:ext cx="327636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entágono regular 16"/>
          <p:cNvSpPr/>
          <p:nvPr/>
        </p:nvSpPr>
        <p:spPr>
          <a:xfrm>
            <a:off x="2971800" y="16002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uadroTexto 13"/>
          <p:cNvSpPr/>
          <p:nvPr/>
        </p:nvSpPr>
        <p:spPr>
          <a:xfrm>
            <a:off x="4343400" y="1981080"/>
            <a:ext cx="1981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ón, rumb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o 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33Z</dcterms:created>
  <dc:creator>Veronica Virgilio</dc:creator>
  <dc:description/>
  <dc:language>en-US</dc:language>
  <cp:lastModifiedBy>Veronica Virgilio</cp:lastModifiedBy>
  <cp:lastPrinted>2011-10-24T15:16:35Z</cp:lastPrinted>
  <dcterms:modified xsi:type="dcterms:W3CDTF">2011-10-25T12:56:06Z</dcterms:modified>
  <cp:revision>83</cp:revision>
  <dc:subject/>
  <dc:title>Presentación de PowerPoint</dc:title>
</cp:coreProperties>
</file>