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9AAF-6749-473C-91A3-65B4FE8FB6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795-6EF4-43BE-999B-A0093034B0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94C-D303-4CBB-9A8F-65E3D7BC84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99C-3741-404F-B5C2-6244A819A3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07C6-26E7-485E-B8BD-C02250DF70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470-2BD7-4537-BBB7-FE0EFB76B7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9E2E-85F0-4913-AF4F-A6C9528687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95C-5E50-4A51-B00C-01C0E776C5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7712-9A0E-44F0-82B2-C5A91057BC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DC6-284F-4EBA-804F-4DDF602931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31B2-A358-46B1-8E01-3FD442FA4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D2A0-E749-4EC3-8A31-B81D2707E8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hombres libres, y ¿qué harán con esa libert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rrán un tiempo, al meno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y puedes tener LA oportunidad de decir a los ingleses que pueden tomar mi vida pero no mi liber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en discurso, ¿y ahora qué hacermo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vocación al enemigo y a los señores esoc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gue qu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bert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nga valor, si se vive c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gnid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Pone la dignidad como valor anterior, los pone en el momento de morir y les ofrece una oportunidad de tracender, en relación a la patria, tierra, soberanía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dentidad nac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 a las preguntas principales del sentido: quien soy, a qué pertenezco, adónde voy, que tiene valor para mí en la vi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er una visión --&gt; valores que dan sent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r autonomía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cio para construir la visión --&gt; provocación para mostrar posibs., genera ejemplo, cambia el EA del grupo desde la decepción al entusias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sma, parece el que ve la gente en WW mítico, y que que resulta ser un discurso claro y coherente, con sentido, valent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rece el mito de la jerarquía vs el liderazgo; la jerarquía de los jefes escoceses no les sirve para que los soldados obedezcan.  El acatamiento no genera capacidad de dar la vida. El compromiso personal sí lo puede gener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2AB9-D4A0-44A6-9C1A-D602EE0BAF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2B66-0A2B-4BC1-A02C-E8ACDEFA1B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5A25-C2F9-44DC-A4F5-376A2D0CF3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D511-A6AD-4D93-9E15-525A5F20FB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0EA-EBA2-4BB3-9AED-28520EF2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C80-DF9D-4FDA-B140-4FA5FB1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B4E-83C5-430A-BFC5-41790F33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85F-19B1-4FE4-ADDD-922DAE13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61A-1973-4A37-8A54-8AF70501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14F-98FF-41B0-BE1D-ABDD1A5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062-49E8-4ADC-9A09-FB9643AF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AFE-DC7D-46F4-884E-735E2BD5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5EA-175B-4F1C-895D-CB1D77D6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325-E998-40D0-B337-3124E24A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345-D0C3-47D8-9DE3-36CE84B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D54-BD97-4F63-BC4C-D9D616B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DCE4-D205-4569-915B-E876B42F4DDA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is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1335240"/>
          <a:ext cx="8364600" cy="49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5240"/>
                    <a:ext cx="836460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que elig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lecciona los 10 valores más importantes para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guías de conduc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componentes del modo de vida al que aspi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ellos, sólo puedes tener 5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hora sólo puedes tener 3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puedes quedarte con 1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flexión perso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sentiste al borrar valores de los escogi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Has tenido esa misma sensación, en la U,  en tu grupo de estudios, en tu famil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elecciones estratégicas de formas de pensar y actuar para conseguir que nos salgan bien las cosa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palabras clav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el éxito personal, organizativo  y empresar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034960" y="5638680"/>
            <a:ext cx="38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vador García, “La Dirección por Val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ipos de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228600" y="2043000"/>
            <a:ext cx="981396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ea1f0a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person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para ti l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ás importante en la vida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soci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quieres tu para el mund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mor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cómo crees que hay qu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ortarse con los demá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de competen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lo valioso que cre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cesario para ser competen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la vida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462600" y="1469880"/>
            <a:ext cx="5785920" cy="2644920"/>
            <a:chOff x="462600" y="1469880"/>
            <a:chExt cx="5785920" cy="2644920"/>
          </a:xfrm>
        </p:grpSpPr>
        <p:sp>
          <p:nvSpPr>
            <p:cNvPr id="81" name="Rectangle 11"/>
            <p:cNvSpPr/>
            <p:nvPr/>
          </p:nvSpPr>
          <p:spPr>
            <a:xfrm>
              <a:off x="838080" y="1469880"/>
              <a:ext cx="2845080" cy="511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fi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692280" y="3657600"/>
              <a:ext cx="5556240" cy="457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instrumentales u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AutoShape 15"/>
            <p:cNvCxnSpPr>
              <a:stCxn id="82" idx="1"/>
              <a:endCxn id="81" idx="1"/>
            </p:cNvCxnSpPr>
            <p:nvPr/>
          </p:nvCxnSpPr>
          <p:spPr>
            <a:xfrm flipH="1" rot="10800000">
              <a:off x="691200" y="1725480"/>
              <a:ext cx="146520" cy="2161080"/>
            </a:xfrm>
            <a:prstGeom prst="bentConnector3">
              <a:avLst>
                <a:gd name="adj1" fmla="val -156403"/>
              </a:avLst>
            </a:prstGeom>
            <a:ln w="28440">
              <a:solidFill>
                <a:srgbClr val="eeece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66960" y="1600200"/>
            <a:ext cx="643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erda el valor final que elegis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significado tiene para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los valores que elegis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es eliges como tus valores oper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trí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agina que son un grupo de estudio/trabajo, y que necesitan elegir un valor en común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 elig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se comportaría un grupo u organización que trabajara con ese val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no se comportarí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1364040" y="3489480"/>
            <a:ext cx="81324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2440" y="1676520"/>
            <a:ext cx="95940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2133720" y="2224080"/>
            <a:ext cx="4800600" cy="1357200"/>
          </a:xfrm>
          <a:prstGeom prst="line">
            <a:avLst/>
          </a:prstGeom>
          <a:ln w="38160">
            <a:solidFill>
              <a:srgbClr val="a920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05720" y="2362320"/>
            <a:ext cx="1523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361400" y="3048120"/>
            <a:ext cx="992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124080" y="249876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alores y met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Valores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cuando logre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Verdana"/>
              </a:rPr>
              <a:t>en el camino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a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tengo que hacer/cómo tengo que ser hoy para lograrl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781680" y="121932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de mis valor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ónde estam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,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 construir significado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la acción cotidia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oda organización depende d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existencia de significados e interpretaciones de la realidad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faciliten la acción coordinad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 comunicar visión y valores, el liderazgo influye y organiza el 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gnificado e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aber por qué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para qué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estilos y formas muy disímile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ideres toman la responsabilidad de comunicar los significad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orientan las acciones de las person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19240" y="137160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través de comunic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futuro da significado a mi pres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 significado a mi exist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grega valor a ot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va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n significado –contenido y profundidad–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mi acción cotid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lículas que hemos visto: “Invictus”, “Gandh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valores preconizan Gandhi/Mandel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acciones/prácticas se evidenci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un eje de conduct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dan significado a nuestra ac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98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5:04Z</dcterms:created>
  <dc:creator>Veronica Virgilio</dc:creator>
  <dc:description/>
  <dc:language>en-US</dc:language>
  <cp:lastModifiedBy>Veronica Virgilio</cp:lastModifiedBy>
  <cp:lastPrinted>2011-05-25T18:45:24Z</cp:lastPrinted>
  <dcterms:modified xsi:type="dcterms:W3CDTF">2011-11-22T20:10:48Z</dcterms:modified>
  <cp:revision>59</cp:revision>
  <dc:subject/>
  <dc:title>Los valores son elecciones estratégicas de formas de pensar y actuar para conseguir que nos salgan bien las cosas.  Los valores son palabras clave  para el éxito empresarial, organizativo y personal</dc:title>
</cp:coreProperties>
</file>