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93F8-D830-4472-883F-5F1619B839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0465-890A-48F5-B381-D1B622C59A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FDAF-EA5B-4151-82FD-A427F65C727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56B4-002A-4449-9371-3655584F22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6EC-CC61-469B-A97F-1F2A98DEAC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81E7-706E-44DD-AEB6-F83279DA13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EAB-82B1-46E7-8856-3AE97AD956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4D2C-757C-4E01-B43C-9B1779AB118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254F-05D4-42A2-83C8-71FC90FFE2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1794-E5C9-44FE-82CF-D4C8FF2459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E637-4CD9-41FE-9384-B58B2F145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84E9-4E68-437E-B128-933E7175C9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hombres libres, y ¿qué harán con esa libert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rrán un tiempo, al menos, p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y puedes tener LA oportunidad de decir a los ingleses que pueden tomar mi vida pero no mi liber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en discurso, ¿y ahora qué hacermo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ovocación al enemigo y a los señores esoc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gue que 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bert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nga valor, si se vive c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gnid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Pone la dignidad como valor anterior, los pone en el momento de morir y les ofrece una oportunidad de tracender, en relación a la patria, tierra, soberanía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dentidad nac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e a las preguntas principales del sentido: quien soy, a qué pertenezco, adónde voy, que tiene valor para mí en la vi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er una visión --&gt; valores que dan senti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r autonomía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cio para construir la visión --&gt; provocación para mostrar posibs., genera ejemplo, cambia el EA del grupo desde la decepción al entusias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isma, parece el que ve la gente en WW mítico, y que que resulta ser un discurso claro y coherente, con sentido, valent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rece el mito de la jerarquía vs el liderazgo; la jerarquía de los jefes escoceses no les sirve para que los soldados obedezcan.  El acatamiento no genera capacidad de dar la vida. El compromiso personal sí lo puede gener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73BF-54B3-495A-BB4B-A6374FDBC3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0E4A-856A-4ED9-AFBE-AC9C548923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CD50-16A9-4063-9A8F-C4FE3D4A47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1F1-91CC-4F31-8CF2-6A3D7874E0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56B-0D0F-4F12-9039-EF1A335B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749-B6D7-445E-9CAB-17ADA910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F1D-5347-423F-83A0-2B2109CD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375-B987-41F6-9657-83EA66B9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0DE-1AB9-4AF1-BFB1-92F7C7C1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2D1-38B1-4736-994A-D5EC83DF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60A-C30C-4246-B69D-905887C3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72A-7E27-4D44-8C03-2F210E3E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07D-EF5B-4EBA-8649-62A65E18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EA2-3EC8-4DAA-AFE6-FBA8433E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D1E-DDB1-410C-8D58-6C1559A9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0E5-5232-47CA-9EB3-A60B3063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7114-3FC5-4D78-969C-5FDC354BFEBB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is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9480" y="1335240"/>
          <a:ext cx="8364600" cy="49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5240"/>
                    <a:ext cx="836460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que elig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lecciona los 10 valores más importantes para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guías de conduc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componentes del modo de vida al que aspi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ellos, sólo puedes tener 5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hora sólo puedes tener 3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puedes quedarte con 1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flexión person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sentiste al borrar valores de los escogid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Has tenido esa misma sensación, en la U,  en tu grupo de estudios, en tu famil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elecciones estratégicas de formas de pensar y actuar para conseguir que nos salgan bien las cosa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palabras clav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el éxito personal, organizativo  y empresar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034960" y="5638680"/>
            <a:ext cx="38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vador García, “La Dirección por Valor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ipos de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-228600" y="2043000"/>
            <a:ext cx="981396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ea1f0a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person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para ti lo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ás importante en la vida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soci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quieres tu para el mund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mor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cómo crees que hay que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ortarse con los demá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de competen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lo valioso que cree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cesario para ser competent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 la vida?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462600" y="1469880"/>
            <a:ext cx="5785920" cy="2644920"/>
            <a:chOff x="462600" y="1469880"/>
            <a:chExt cx="5785920" cy="2644920"/>
          </a:xfrm>
        </p:grpSpPr>
        <p:sp>
          <p:nvSpPr>
            <p:cNvPr id="81" name="Rectangle 11"/>
            <p:cNvSpPr/>
            <p:nvPr/>
          </p:nvSpPr>
          <p:spPr>
            <a:xfrm>
              <a:off x="838080" y="1469880"/>
              <a:ext cx="2845080" cy="511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fi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2"/>
            <p:cNvSpPr/>
            <p:nvPr/>
          </p:nvSpPr>
          <p:spPr>
            <a:xfrm>
              <a:off x="692280" y="3657600"/>
              <a:ext cx="5556240" cy="457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instrumentales u oper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AutoShape 15"/>
            <p:cNvCxnSpPr>
              <a:stCxn id="82" idx="1"/>
              <a:endCxn id="81" idx="1"/>
            </p:cNvCxnSpPr>
            <p:nvPr/>
          </p:nvCxnSpPr>
          <p:spPr>
            <a:xfrm flipH="1" rot="10800000">
              <a:off x="691200" y="1725480"/>
              <a:ext cx="146520" cy="2161080"/>
            </a:xfrm>
            <a:prstGeom prst="bentConnector3">
              <a:avLst>
                <a:gd name="adj1" fmla="val -156403"/>
              </a:avLst>
            </a:prstGeom>
            <a:ln w="28440">
              <a:solidFill>
                <a:srgbClr val="eeece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66960" y="1600200"/>
            <a:ext cx="643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erda el valor final que elegis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significado tiene para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los valores que elegis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es eliges como tus valores oper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trí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agina que son un grupo de estudio/trabajo, y que necesitan elegir un valor en común,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 elig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se comportaría un grupo u organización que trabajara con ese valor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no se comportarí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1364040" y="3489480"/>
            <a:ext cx="81324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012440" y="1676520"/>
            <a:ext cx="95940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2133720" y="2224080"/>
            <a:ext cx="4800600" cy="1357200"/>
          </a:xfrm>
          <a:prstGeom prst="line">
            <a:avLst/>
          </a:prstGeom>
          <a:ln w="38160">
            <a:solidFill>
              <a:srgbClr val="a920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705720" y="2362320"/>
            <a:ext cx="1523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361400" y="3048120"/>
            <a:ext cx="992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124080" y="249876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alores y met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4343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Valores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cuando logre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Verdana"/>
              </a:rPr>
              <a:t>en el camino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a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tengo que hacer/cómo tengo que ser hoy para lograrl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781680" y="121932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de mis valor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ónde estam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,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 construir significado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 la acción cotidian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oda organización depende d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existencia de significados e interpretaciones de la realidad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faciliten la acción coordinad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 comunicar visión y valores, el liderazgo influye y organiza el 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gnificado e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aber por qué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para qué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estilos y formas muy disímile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ideres toman la responsabilidad de comunicar los significad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orientan las acciones de las person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19240" y="1371600"/>
            <a:ext cx="65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través de comunic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futuro da significado a mi pres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 significado a mi exist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grega valor a ot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val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n significado –contenido y profundidad–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mi acción cotid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lículas que hemos visto: “Invictus”, “Gandh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valores preconizan Gandhi/Mandel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acciones/prácticas se evidenci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un eje de conduct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dan significado a nuestra ac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98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5:04Z</dcterms:created>
  <dc:creator>Veronica Virgilio</dc:creator>
  <dc:description/>
  <dc:language>en-US</dc:language>
  <cp:lastModifiedBy>Veronica Virgilio</cp:lastModifiedBy>
  <cp:lastPrinted>2011-05-25T18:45:24Z</cp:lastPrinted>
  <dcterms:modified xsi:type="dcterms:W3CDTF">2011-11-22T20:10:48Z</dcterms:modified>
  <cp:revision>59</cp:revision>
  <dc:subject/>
  <dc:title>Los valores son elecciones estratégicas de formas de pensar y actuar para conseguir que nos salgan bien las cosas.  Los valores son palabras clave  para el éxito empresarial, organizativo y personal</dc:title>
</cp:coreProperties>
</file>