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BB1B-B655-4B4B-9BB3-A22E8F81EF1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6CC1-81D9-4866-9DC9-D2821A435ED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BBBD-4B3F-4B83-AA3B-A7B34E7003E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FA21-DF84-4123-82EA-8079093D3B1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A196-739E-4007-B3C2-F8649A60CC4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7B33-6993-4DB2-A19D-2E4AC6054A4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D8CF-FAEA-4A9A-BEE3-2ED87F8135E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E7E0-6397-4979-9CC3-6C9444F6B4E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1464-F72A-4D04-8C8F-BB6628B88E0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B72C-CCFF-49B2-AF55-788A0D975BD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589C-6DC1-4775-8195-15590B073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6810480" y="343080"/>
            <a:ext cx="1314360" cy="98568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219320" y="1428840"/>
            <a:ext cx="7416720" cy="49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B036-01CA-441E-93A0-7ED28B481C2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6810480" y="343080"/>
            <a:ext cx="1314360" cy="9856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1428840"/>
            <a:ext cx="7416720" cy="491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n hombres libres, y ¿qué harán con esa liberta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virrán un tiempo, al menos, p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y puedes tener LA oportunidad de decir a los ingleses que pueden tomar mi vida pero no mi libert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en discurso, ¿y ahora qué hacermo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your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provocación al enemigo y a los señores esoce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gue que la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iberta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enga valor, si se vive co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ignida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Pone la dignidad como valor anterior, los pone en el momento de morir y les ofrece una oportunidad de tracender, en relación a la patria, tierra, soberanía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identidad nacion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de a las preguntas principales del sentido: quien soy, a qué pertenezco, adónde voy, que tiene valor para mí en la vi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er una visión --&gt; valores que dan senti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r autonomía 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cio para construir la visión --&gt; provocación para mostrar posibs., genera ejemplo, cambia el EA del grupo desde la decepción al entusias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isma, parece el que ve la gente en WW mítico, y que que resulta ser un discurso claro y coherente, con sentido, valentí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arece el mito de la jerarquía vs el liderazgo; la jerarquía de los jefes escoceses no les sirve para que los soldados obedezcan.  El acatamiento no genera capacidad de dar la vida. El compromiso personal sí lo puede gener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8C5C-F6BD-4E65-B875-94B32FC527F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FBB69-F6B1-40CA-B12B-A7CE41060B9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6810480" y="343080"/>
            <a:ext cx="1314360" cy="9856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1428840"/>
            <a:ext cx="7416720" cy="49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4B0E-F2CA-4F0E-B22B-0E0B826EABB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6810480" y="343080"/>
            <a:ext cx="1314360" cy="9856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219320" y="1428840"/>
            <a:ext cx="7416720" cy="49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D1FA3-0906-4BF3-A557-1C6CBCC7D2D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57CB-8D3D-45DA-90FC-58D15C7D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6159-0432-4700-9C25-610E54FC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8407-75D5-4660-B195-64C6B576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264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5956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8572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264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5956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F783-770A-41A6-A572-313205B70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7674-879F-4138-984C-7FC4BEF6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8A36-F7A8-4286-A6D5-63EE20C1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7DE0-050C-4BD1-8B4D-77F1DA70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E2DB-A45D-48AE-B2D8-C33CB988D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CCE3-33BE-49AB-B2D9-071F7971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5F5E-B254-4089-AA69-7F9458A6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3262-E4DB-46B7-8E4F-F764EA2C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C72E-7E52-4513-8FAA-2E049220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B6508-59F1-4B8F-BCE6-B3801DCBFF7F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 comunicación crea significad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467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Mis valo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09480" y="1335240"/>
          <a:ext cx="8364600" cy="4989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35240"/>
                    <a:ext cx="836460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valores que elig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lecciona los 10 valores más importantes para 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o guías de conduc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mo componentes del modo de vida al que aspir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 ellos, sólo puedes tener 5 ¿cuáles borr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hora sólo puedes tener 3 ¿cuáles borr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ólo puedes quedarte con 1 ¿cuáles borr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eflexión personal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31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Qué sentiste al borrar valores de los escogid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Has tenido esa misma sensación, en la U,  en tu grupo de estudios, en tu famili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14475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valores son elecciones estratégicas de formas de pensar y actuar para conseguir que nos salgan bien las cosas.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valores son palabras clave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ara el éxito personal, organizativo  y empresarial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5034960" y="5638680"/>
            <a:ext cx="383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vador García, “La Dirección por Valore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Tipos de valo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-228600" y="2043000"/>
            <a:ext cx="9813960" cy="48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alores</a:t>
            </a:r>
            <a:r>
              <a:rPr b="1" lang="en-US" sz="2300" spc="-1" strike="noStrike">
                <a:solidFill>
                  <a:srgbClr val="ea1f0a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1f497d"/>
                </a:solidFill>
                <a:latin typeface="Arial"/>
              </a:rPr>
              <a:t>personale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¿qué es para ti lo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ás importante en la vida 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alores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1f497d"/>
                </a:solidFill>
                <a:latin typeface="Arial"/>
              </a:rPr>
              <a:t>ético-sociale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¿qué quieres tu para el mundo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alores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1f497d"/>
                </a:solidFill>
                <a:latin typeface="Arial"/>
              </a:rPr>
              <a:t>ético-morales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¿cómo crees que hay que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portarse con los demás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Valores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300" spc="-1" strike="noStrike">
                <a:solidFill>
                  <a:srgbClr val="1f497d"/>
                </a:solidFill>
                <a:latin typeface="Arial"/>
              </a:rPr>
              <a:t>de competencia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¿qué es lo valioso que crees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cesario para ser competente 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 la vida?</a:t>
            </a:r>
            <a:br>
              <a:rPr sz="2300"/>
            </a:b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16"/>
          <p:cNvGrpSpPr/>
          <p:nvPr/>
        </p:nvGrpSpPr>
        <p:grpSpPr>
          <a:xfrm>
            <a:off x="462600" y="1469880"/>
            <a:ext cx="5785920" cy="2644920"/>
            <a:chOff x="462600" y="1469880"/>
            <a:chExt cx="5785920" cy="2644920"/>
          </a:xfrm>
        </p:grpSpPr>
        <p:sp>
          <p:nvSpPr>
            <p:cNvPr id="81" name="Rectangle 11"/>
            <p:cNvSpPr/>
            <p:nvPr/>
          </p:nvSpPr>
          <p:spPr>
            <a:xfrm>
              <a:off x="838080" y="1469880"/>
              <a:ext cx="2845080" cy="511200"/>
            </a:xfrm>
            <a:prstGeom prst="rect">
              <a:avLst/>
            </a:prstGeom>
            <a:solidFill>
              <a:srgbClr val="ff87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Valores fin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2"/>
            <p:cNvSpPr/>
            <p:nvPr/>
          </p:nvSpPr>
          <p:spPr>
            <a:xfrm>
              <a:off x="692280" y="3657600"/>
              <a:ext cx="5556240" cy="457200"/>
            </a:xfrm>
            <a:prstGeom prst="rect">
              <a:avLst/>
            </a:prstGeom>
            <a:solidFill>
              <a:srgbClr val="ff87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Valores instrumentales u operativ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" name="AutoShape 15"/>
            <p:cNvCxnSpPr>
              <a:stCxn id="82" idx="1"/>
              <a:endCxn id="81" idx="1"/>
            </p:cNvCxnSpPr>
            <p:nvPr/>
          </p:nvCxnSpPr>
          <p:spPr>
            <a:xfrm flipH="1" rot="10800000">
              <a:off x="691200" y="1725480"/>
              <a:ext cx="146520" cy="2161080"/>
            </a:xfrm>
            <a:prstGeom prst="bentConnector3">
              <a:avLst>
                <a:gd name="adj1" fmla="val -156403"/>
              </a:avLst>
            </a:prstGeom>
            <a:ln w="28440">
              <a:solidFill>
                <a:srgbClr val="eeece1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jercici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866960" y="1600200"/>
            <a:ext cx="643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cuerda el valor final que elegis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significado tiene para ti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 los valores que elegiste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uáles eliges como tus valores operativo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jercici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29528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rabajo en trí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magina que son un grupo de estudio/trabajo, y que necesitan elegir un valor en común,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uál elige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ómo se comportaría un grupo u organización que trabajara con ese valor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ómo no se comportarí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6"/>
          <p:cNvSpPr/>
          <p:nvPr/>
        </p:nvSpPr>
        <p:spPr>
          <a:xfrm>
            <a:off x="1364040" y="3489480"/>
            <a:ext cx="813240" cy="580680"/>
          </a:xfrm>
          <a:prstGeom prst="rect">
            <a:avLst/>
          </a:prstGeom>
          <a:noFill/>
          <a:ln w="9360">
            <a:solidFill>
              <a:srgbClr val="d39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ado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7012440" y="1676520"/>
            <a:ext cx="959400" cy="580680"/>
          </a:xfrm>
          <a:prstGeom prst="rect">
            <a:avLst/>
          </a:prstGeom>
          <a:noFill/>
          <a:ln w="9360">
            <a:solidFill>
              <a:srgbClr val="d39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tado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ese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8"/>
          <p:cNvSpPr/>
          <p:nvPr/>
        </p:nvSpPr>
        <p:spPr>
          <a:xfrm flipV="1">
            <a:off x="2133720" y="2224080"/>
            <a:ext cx="4800600" cy="1357200"/>
          </a:xfrm>
          <a:prstGeom prst="line">
            <a:avLst/>
          </a:prstGeom>
          <a:ln w="38160">
            <a:solidFill>
              <a:srgbClr val="a9202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6705720" y="2362320"/>
            <a:ext cx="1523880" cy="5806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bjetivo-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result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4361400" y="3048120"/>
            <a:ext cx="992880" cy="5806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Objetivo-</a:t>
            </a:r>
            <a:br>
              <a:rPr sz="1600"/>
            </a:b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3124080" y="2498760"/>
            <a:ext cx="1371600" cy="337320"/>
          </a:xfrm>
          <a:prstGeom prst="rect">
            <a:avLst/>
          </a:prstGeom>
          <a:noFill/>
          <a:ln w="9360">
            <a:solidFill>
              <a:srgbClr val="d39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AL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alores y meta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4343400"/>
            <a:ext cx="76964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Valores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Cómo quiero ser cuando logre mis metas/sueñ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Cómo quiero ser </a:t>
            </a:r>
            <a:r>
              <a:rPr b="0" lang="es-ES_tradnl" sz="1600" spc="-1" strike="noStrike" u="sng">
                <a:solidFill>
                  <a:srgbClr val="000000"/>
                </a:solidFill>
                <a:uFillTx/>
                <a:latin typeface="Verdana"/>
              </a:rPr>
              <a:t>en el camino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a mis metas/sueñ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¿Qué tengo que hacer/cómo tengo que ser hoy para lograrlo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6781680" y="1219320"/>
            <a:ext cx="1371600" cy="337320"/>
          </a:xfrm>
          <a:prstGeom prst="rect">
            <a:avLst/>
          </a:prstGeom>
          <a:noFill/>
          <a:ln w="9360">
            <a:solidFill>
              <a:srgbClr val="d39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E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 comunicación de mis valore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crea significad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ónde estamos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as 4 competencias de los líde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09320" y="1523520"/>
            <a:ext cx="5448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la atención de los ot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el sentido/signifi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la confianz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me a mí mism@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stionar el sentido,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 construir significado,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n la acción cotidiana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Toda organización depende de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 existencia de significados e interpretaciones de la realidad,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que faciliten la acción coordinada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 comunicar visión y valores, el liderazgo influye y organiza el signifi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Significado es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saber por qué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y para qué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on estilos y formas muy disímiles,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lideres toman la responsabilidad de comunicar los significados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que orientan las acciones de las persona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stionar el significad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019240" y="1371600"/>
            <a:ext cx="6515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 través de comunicar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La vis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l futuro da significado a mi presen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La mis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a significado a mi existenc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grega valor a otr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Los val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an significado –contenido y profundidad– 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 mi acción cotidia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6562800" y="39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stionar el sentid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99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elículas que hemos visto: “Invictus”, “Gandhi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valores preconizan Gandhi/Mandel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En qué acciones/prácticas se evidencia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6562800" y="39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valores son un eje de conducta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que dan significado a nuestra acció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3989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2:45:04Z</dcterms:created>
  <dc:creator>Veronica Virgilio</dc:creator>
  <dc:description/>
  <dc:language>en-US</dc:language>
  <cp:lastModifiedBy>Veronica Virgilio</cp:lastModifiedBy>
  <cp:lastPrinted>2011-05-25T18:45:24Z</cp:lastPrinted>
  <dcterms:modified xsi:type="dcterms:W3CDTF">2011-11-22T20:10:48Z</dcterms:modified>
  <cp:revision>59</cp:revision>
  <dc:subject/>
  <dc:title>Los valores son elecciones estratégicas de formas de pensar y actuar para conseguir que nos salgan bien las cosas.  Los valores son palabras clave  para el éxito empresarial, organizativo y personal</dc:title>
</cp:coreProperties>
</file>