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2EF7-3732-4084-8FB7-FA68D5D0841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152F-7DBE-4153-99FC-DB68F287E6B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2F05-5F68-4723-AF75-51F5339E2FA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609F-4763-4F76-BBA7-C313E5630E7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D6F3-5060-4C50-94F2-5DFC61B3EDF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A549-890E-4D05-9C09-DC9804DAC52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7E7A-F48C-4180-AA56-0EB36963135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0690-1419-4B9F-9E14-2AE13E7805B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3687-3831-4B47-90ED-A84267236FA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5C16-D4FA-4C5E-9D2F-08425ECCDBE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D2D0-6EB1-443A-B8B4-092354F80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6810480" y="343080"/>
            <a:ext cx="1314360" cy="9856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219320" y="1428840"/>
            <a:ext cx="7416720" cy="49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039F-4C6D-41AA-87E5-7D1CAD9056C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6810480" y="343080"/>
            <a:ext cx="1314360" cy="9856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1428840"/>
            <a:ext cx="7416720" cy="491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n hombres libres, y ¿qué harán con esa liberta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virrán un tiempo, al menos, p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y puedes tener LA oportunidad de decir a los ingleses que pueden tomar mi vida pero no mi libert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en discurso, ¿y ahora qué hacermo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your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provocación al enemigo y a los señores esoce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gue que l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iberta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nga valor, si se vive c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ignida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Pone la dignidad como valor anterior, los pone en el momento de morir y les ofrece una oportunidad de tracender, en relación a la patria, tierra, soberanía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dentidad nac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e a las preguntas principales del sentido: quien soy, a qué pertenezco, adónde voy, que tiene valor para mí en la vi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er una visión --&gt; valores que dan senti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r autonomía 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cio para construir la visión --&gt; provocación para mostrar posibs., genera ejemplo, cambia el EA del grupo desde la decepción al entusias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isma, parece el que ve la gente en WW mítico, y que que resulta ser un discurso claro y coherente, con sentido, valentí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arece el mito de la jerarquía vs el liderazgo; la jerarquía de los jefes escoceses no les sirve para que los soldados obedezcan.  El acatamiento no genera capacidad de dar la vida. El compromiso personal sí lo puede gener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63B1-FDD7-4D27-9EE7-60BA68C4E6A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E83F-BC50-4F9D-A6DE-DA50D1C1E71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6810480" y="343080"/>
            <a:ext cx="1314360" cy="9856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1428840"/>
            <a:ext cx="7416720" cy="49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A6E9-DE70-44B8-A6F0-FFB3B8C82F7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810480" y="343080"/>
            <a:ext cx="1314360" cy="9856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219320" y="1428840"/>
            <a:ext cx="7416720" cy="49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4AAB-B30F-4E99-85D8-D9EBBA42223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F400-D01F-4ADF-A94B-2CD91467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F077-5E97-4459-9C61-748999E4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E6FB-2A3E-4BCB-BD79-31F3A576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FFD9-6E73-4D86-9E1C-448B84B1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D7A-2B94-41F3-940D-94BEAD2B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6BF-3528-4F2C-9CAE-69E696F5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AF7B-DB9E-418B-9BD1-F8B22C86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8C2-306C-4657-BA94-B3BF61C1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754-0621-410F-A54C-D2A32C32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4C03-192B-4B78-9311-E1166DD3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C29-1087-46EC-9343-3408F314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2FB-7D55-4D15-A0F0-A97BD5C6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57C2-44EB-43ED-96CA-1052719EE1E6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comunicación crea significad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is valo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09480" y="1335240"/>
          <a:ext cx="8364600" cy="498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35240"/>
                    <a:ext cx="836460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valores que elig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lecciona los 10 valores más importantes para 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o guías de conduc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o componentes del modo de vida al que aspi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 ellos, sólo puedes tener 5 ¿cuáles borr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hora sólo puedes tener 3 ¿cuáles borr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ólo puedes quedarte con 1 ¿cuáles borr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flexión persona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31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sentiste al borrar valores de los escogid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Has tenido esa misma sensación, en la U,  en tu grupo de estudios, en tu famil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valores son elecciones estratégicas de formas de pensar y actuar para conseguir que nos salgan bien las cosas.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valores son palabras clave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ara el éxito personal, organizativo  y empresarial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034960" y="5638680"/>
            <a:ext cx="38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vador García, “La Dirección por Valor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Tipos de valo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-228600" y="2043000"/>
            <a:ext cx="9813960" cy="48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ores</a:t>
            </a:r>
            <a:r>
              <a:rPr b="1" lang="en-US" sz="2300" spc="-1" strike="noStrike">
                <a:solidFill>
                  <a:srgbClr val="ea1f0a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1f497d"/>
                </a:solidFill>
                <a:latin typeface="Arial"/>
              </a:rPr>
              <a:t>personale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¿qué es para ti lo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ás importante en la vida 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ores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1f497d"/>
                </a:solidFill>
                <a:latin typeface="Arial"/>
              </a:rPr>
              <a:t>ético-sociale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¿qué quieres tu para el mund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ores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1f497d"/>
                </a:solidFill>
                <a:latin typeface="Arial"/>
              </a:rPr>
              <a:t>ético-morale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¿cómo crees que hay que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ortarse con los demá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ores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1f497d"/>
                </a:solidFill>
                <a:latin typeface="Arial"/>
              </a:rPr>
              <a:t>de competen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¿qué es lo valioso que crees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cesario para ser competente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 la vida?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16"/>
          <p:cNvGrpSpPr/>
          <p:nvPr/>
        </p:nvGrpSpPr>
        <p:grpSpPr>
          <a:xfrm>
            <a:off x="462600" y="1469880"/>
            <a:ext cx="5785920" cy="2644920"/>
            <a:chOff x="462600" y="1469880"/>
            <a:chExt cx="5785920" cy="2644920"/>
          </a:xfrm>
        </p:grpSpPr>
        <p:sp>
          <p:nvSpPr>
            <p:cNvPr id="81" name="Rectangle 11"/>
            <p:cNvSpPr/>
            <p:nvPr/>
          </p:nvSpPr>
          <p:spPr>
            <a:xfrm>
              <a:off x="838080" y="1469880"/>
              <a:ext cx="2845080" cy="511200"/>
            </a:xfrm>
            <a:prstGeom prst="rect">
              <a:avLst/>
            </a:prstGeom>
            <a:solidFill>
              <a:srgbClr val="ff87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alores fin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2"/>
            <p:cNvSpPr/>
            <p:nvPr/>
          </p:nvSpPr>
          <p:spPr>
            <a:xfrm>
              <a:off x="692280" y="3657600"/>
              <a:ext cx="5556240" cy="457200"/>
            </a:xfrm>
            <a:prstGeom prst="rect">
              <a:avLst/>
            </a:prstGeom>
            <a:solidFill>
              <a:srgbClr val="ff87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alores instrumentales u operativ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" name="AutoShape 15"/>
            <p:cNvCxnSpPr>
              <a:stCxn id="82" idx="1"/>
              <a:endCxn id="81" idx="1"/>
            </p:cNvCxnSpPr>
            <p:nvPr/>
          </p:nvCxnSpPr>
          <p:spPr>
            <a:xfrm flipH="1" rot="10800000">
              <a:off x="691200" y="1725480"/>
              <a:ext cx="146520" cy="2161080"/>
            </a:xfrm>
            <a:prstGeom prst="bentConnector3">
              <a:avLst>
                <a:gd name="adj1" fmla="val -156403"/>
              </a:avLst>
            </a:prstGeom>
            <a:ln w="28440">
              <a:solidFill>
                <a:srgbClr val="eeece1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jercici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66960" y="1600200"/>
            <a:ext cx="643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cuerda el valor final que elegis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significado tiene para t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 los valores que elegist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uáles eliges como tus valores operativ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jercici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en trí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agina que son un grupo de estudio/trabajo, y que necesitan elegir un valor en común,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uál elig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se comportaría un grupo u organización que trabajara con ese valor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no se comportarí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1364040" y="3489480"/>
            <a:ext cx="813240" cy="580680"/>
          </a:xfrm>
          <a:prstGeom prst="rect">
            <a:avLst/>
          </a:prstGeom>
          <a:noFill/>
          <a:ln w="9360">
            <a:solidFill>
              <a:srgbClr val="d39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do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7012440" y="1676520"/>
            <a:ext cx="959400" cy="580680"/>
          </a:xfrm>
          <a:prstGeom prst="rect">
            <a:avLst/>
          </a:prstGeom>
          <a:noFill/>
          <a:ln w="9360">
            <a:solidFill>
              <a:srgbClr val="d39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do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se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8"/>
          <p:cNvSpPr/>
          <p:nvPr/>
        </p:nvSpPr>
        <p:spPr>
          <a:xfrm flipV="1">
            <a:off x="2133720" y="2224080"/>
            <a:ext cx="4800600" cy="1357200"/>
          </a:xfrm>
          <a:prstGeom prst="line">
            <a:avLst/>
          </a:prstGeom>
          <a:ln w="38160">
            <a:solidFill>
              <a:srgbClr val="a9202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6705720" y="2362320"/>
            <a:ext cx="1523880" cy="580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bjetivo-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sul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4361400" y="3048120"/>
            <a:ext cx="992880" cy="580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bjetivo-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3124080" y="2498760"/>
            <a:ext cx="1371600" cy="337320"/>
          </a:xfrm>
          <a:prstGeom prst="rect">
            <a:avLst/>
          </a:prstGeom>
          <a:noFill/>
          <a:ln w="9360">
            <a:solidFill>
              <a:srgbClr val="d39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alores y meta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43434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Valores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ómo quiero ser cuando logre mis metas/sueñ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ómo quiero ser 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Verdana"/>
              </a:rPr>
              <a:t>en el camino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a mis metas/sueñ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¿Qué tengo que hacer/cómo tengo que ser hoy para lograrlo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6781680" y="1219320"/>
            <a:ext cx="1371600" cy="337320"/>
          </a:xfrm>
          <a:prstGeom prst="rect">
            <a:avLst/>
          </a:prstGeom>
          <a:noFill/>
          <a:ln w="9360">
            <a:solidFill>
              <a:srgbClr val="d39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comunicación de mis valore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crea significad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ónde estamo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s 4 competencias de los líde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5448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atención de los o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el sentido/signifi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me a mí mism@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stionar el sentido,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 construir significado,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 la acción cotidiana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Toda organización depende de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existencia de significados e interpretaciones de la realidad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e faciliten la acción coordinad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 comunicar visión y valores, el liderazgo influye y organiza el signifi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ignificado e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aber por qué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y para qué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n estilos y formas muy disímiles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lideres toman la responsabilidad de comunicar los significado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e orientan las acciones de las persona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stionar el significad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19240" y="1371600"/>
            <a:ext cx="651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 través de comunica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a vi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l futuro da significado a mi pres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a mi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a significado a mi existe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grega valor a otr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os val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an significado –contenido y profundidad–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 mi acción cotidia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562800" y="39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stionar el sentid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elículas que hemos visto: “Invictus”, “Gandhi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valores preconizan Gandhi/Mandel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n qué acciones/prácticas se evidencia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562800" y="39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valores son un eje de conducta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e dan significado a nuestra acció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3989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2:45:04Z</dcterms:created>
  <dc:creator>Veronica Virgilio</dc:creator>
  <dc:description/>
  <dc:language>en-US</dc:language>
  <cp:lastModifiedBy>Veronica Virgilio</cp:lastModifiedBy>
  <cp:lastPrinted>2011-05-25T18:45:24Z</cp:lastPrinted>
  <dcterms:modified xsi:type="dcterms:W3CDTF">2011-11-22T20:10:48Z</dcterms:modified>
  <cp:revision>59</cp:revision>
  <dc:subject/>
  <dc:title>Los valores son elecciones estratégicas de formas de pensar y actuar para conseguir que nos salgan bien las cosas.  Los valores son palabras clave  para el éxito empresarial, organizativo y personal</dc:title>
</cp:coreProperties>
</file>