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5693-AB91-471D-AE51-4C9C23DF6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85720" y="39643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5881-4F4F-4982-B66E-967E10944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857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83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A61B-365A-4D1B-BB46-C4E95D453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7264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5956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8572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7264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5956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047B-2CC2-4390-929B-79EE39B0E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D540-F4D9-4C80-A0B7-0FDCCEC9F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48FA-E693-42A2-B150-4DD514877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E40A-0346-416B-B121-6FC2BED9C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5A93-9F84-44C0-B134-A4942C163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4078-A51D-4E6F-AC33-46FC3D3B8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857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B761-A122-439C-99DA-E511E34B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83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6FB0-72EA-426D-A20C-8869241D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85720" y="39643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78AA-453B-4F6C-AE3D-F6B83827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CDCFF-750C-4055-9D6E-F06C31906D5B}" type="datetime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5CCAE-95A5-47A0-BE99-45D1BD8811FB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0 Imagen" descr="logo DCC FCFM-2.jpg"/>
          <p:cNvPicPr/>
          <p:nvPr/>
        </p:nvPicPr>
        <p:blipFill>
          <a:blip r:embed="rId2"/>
          <a:stretch/>
        </p:blipFill>
        <p:spPr>
          <a:xfrm>
            <a:off x="76320" y="76320"/>
            <a:ext cx="167148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24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Verdana"/>
              </a:rPr>
              <a:t>CC5601-1 Liderazgo</a:t>
            </a:r>
            <a:br>
              <a:rPr sz="13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Gestionarme a mi mism@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952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02020"/>
                </a:solidFill>
                <a:latin typeface="Verdana"/>
                <a:ea typeface="Verdana"/>
              </a:rPr>
              <a:t>Verónica Virgili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02020"/>
                </a:solidFill>
                <a:latin typeface="Verdana"/>
                <a:ea typeface="Verdana"/>
              </a:rPr>
              <a:t>vvirgilio@mac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reguntas básicas </a:t>
            </a:r>
            <a:br>
              <a:rPr sz="2800"/>
            </a:b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para identificar mis fortalezas, y mejorarla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057400" y="15238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¿Cuáles son mis puntos fuertes/débiles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¿Cómo aprendo mejor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¿Cómo rindo mejor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¿Cómo trabajo mejor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spcBef>
                <a:spcPts val="400"/>
              </a:spcBef>
              <a:buClr>
                <a:srgbClr val="da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n qué roles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spcBef>
                <a:spcPts val="400"/>
              </a:spcBef>
              <a:buClr>
                <a:srgbClr val="da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n qué tipo de organiza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spcBef>
                <a:spcPts val="400"/>
              </a:spcBef>
              <a:buClr>
                <a:srgbClr val="da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Con qué valores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spcBef>
                <a:spcPts val="400"/>
              </a:spcBef>
              <a:buClr>
                <a:srgbClr val="da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n qué ambientes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¿Cuál es mi lugar? (o cuál 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Verdana"/>
              </a:rPr>
              <a:t>no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¿Qué valor aporto?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spcBef>
                <a:spcPts val="400"/>
              </a:spcBef>
              <a:buClr>
                <a:srgbClr val="da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¿Qué debo aportar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spcBef>
                <a:spcPts val="400"/>
              </a:spcBef>
              <a:buClr>
                <a:srgbClr val="da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¿Cómo puedo hacer el mejor aporte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spcBef>
                <a:spcPts val="400"/>
              </a:spcBef>
              <a:buClr>
                <a:srgbClr val="da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¿Qué resultados harán la diferencia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¿Cómo gestiono mis relaciones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omo rindo mejor: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523520" y="16002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Soy lector u oyent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Como aprendo mejor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eyendo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Hacien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uchando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omando not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Oyéndome hablar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ribien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Ot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Actúo de acuerdo a estas respuesta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Como rindo mejor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52480" y="1447920"/>
            <a:ext cx="6477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Solo o con otro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En qué relaciones rindo mejor con los otro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ubordinado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Jef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ach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arte de un equip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ecisor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nsejer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En qué tipo de organización y ambient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rande o pequeñ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tructurada, planifica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Bajo tens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Con qué valore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Mis valores: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Éticos: ¿Qué persona quiero ver al mirarme al espejo en las mañana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Operativos: ¿Son coherentes con los de la organización en que me desempeño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¿Cuál es “mi lugar”?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O bien ¿a qué lugar no pertenezco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e acuerdo a mi rendimiento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e acuerdo a mis valo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¿Qué debo aportar, donde estoy?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904760" y="1600200"/>
            <a:ext cx="575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es coherente con mis puntos fuerte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cómo puedo hacer el mejor aport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qué resultados debo lograr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ara hacer una diferencia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Resumen ¿Quién soy?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219320" y="1905120"/>
          <a:ext cx="6858000" cy="406404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677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s puntos fuertes son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 manera en que mejor aprendo es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 manera en que trabajo mejor es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s valores son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 que aporto es…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 aporte es visible en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  <a:ea typeface="Verdana"/>
              </a:rPr>
              <a:t>Compartir en trío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800" spc="-1" strike="noStrike">
              <a:solidFill>
                <a:srgbClr val="20202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Obsérvate críticamente: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66680" y="15998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de qué te jactas “no saber”, “no ser bueno/a”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Rectangle 17"/>
          <p:cNvSpPr/>
          <p:nvPr/>
        </p:nvSpPr>
        <p:spPr>
          <a:xfrm>
            <a:off x="838080" y="2438280"/>
            <a:ext cx="3429000" cy="1143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Relacionarte con o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8"/>
          <p:cNvSpPr/>
          <p:nvPr/>
        </p:nvSpPr>
        <p:spPr>
          <a:xfrm>
            <a:off x="4800600" y="2438280"/>
            <a:ext cx="3429000" cy="1143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Resolver problemas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técnicos complej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20"/>
          <p:cNvSpPr/>
          <p:nvPr/>
        </p:nvSpPr>
        <p:spPr>
          <a:xfrm>
            <a:off x="838080" y="3581280"/>
            <a:ext cx="3429000" cy="1143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er estrate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21"/>
          <p:cNvSpPr/>
          <p:nvPr/>
        </p:nvSpPr>
        <p:spPr>
          <a:xfrm>
            <a:off x="4800600" y="3581280"/>
            <a:ext cx="3429000" cy="1143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er ejecu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15"/>
          <p:cNvSpPr/>
          <p:nvPr/>
        </p:nvSpPr>
        <p:spPr>
          <a:xfrm>
            <a:off x="4114800" y="2743200"/>
            <a:ext cx="838080" cy="609480"/>
          </a:xfrm>
          <a:prstGeom prst="leftRightArrow">
            <a:avLst>
              <a:gd name="adj1" fmla="val 50000"/>
              <a:gd name="adj2" fmla="val 27374"/>
            </a:avLst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16"/>
          <p:cNvSpPr/>
          <p:nvPr/>
        </p:nvSpPr>
        <p:spPr>
          <a:xfrm>
            <a:off x="4114800" y="3886200"/>
            <a:ext cx="838080" cy="609480"/>
          </a:xfrm>
          <a:prstGeom prst="leftRightArrow">
            <a:avLst>
              <a:gd name="adj1" fmla="val 50000"/>
              <a:gd name="adj2" fmla="val 27374"/>
            </a:avLst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0"/>
          <p:cNvSpPr/>
          <p:nvPr/>
        </p:nvSpPr>
        <p:spPr>
          <a:xfrm>
            <a:off x="838080" y="4724280"/>
            <a:ext cx="3429000" cy="1143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Polí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21"/>
          <p:cNvSpPr/>
          <p:nvPr/>
        </p:nvSpPr>
        <p:spPr>
          <a:xfrm>
            <a:off x="4800600" y="4724280"/>
            <a:ext cx="3429000" cy="1143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Teór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16"/>
          <p:cNvSpPr/>
          <p:nvPr/>
        </p:nvSpPr>
        <p:spPr>
          <a:xfrm>
            <a:off x="4114800" y="5029200"/>
            <a:ext cx="838080" cy="609480"/>
          </a:xfrm>
          <a:prstGeom prst="leftRightArrow">
            <a:avLst>
              <a:gd name="adj1" fmla="val 50000"/>
              <a:gd name="adj2" fmla="val 27374"/>
            </a:avLst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3: Observa qué te limita: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Qué hábitos limitan tus fortaleza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Qué “modales” limitan tus relacione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Qué incompetencias estás intentando superar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24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Yo soy mi principal recurso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800" spc="-1" strike="noStrike">
              <a:solidFill>
                <a:srgbClr val="202020"/>
              </a:solidFill>
              <a:latin typeface="Verdana"/>
              <a:ea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4: Gestiona tu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omunicación interpersona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486080" y="1600200"/>
            <a:ext cx="6667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u eres el/la responsable de tu comunica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u eres el/la responsable de tus relacion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Observa tu entorno: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676520" y="1600200"/>
            <a:ext cx="5981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Puedes caracterizar a las personas que te rodean/te interesan, de la misma manera como lo hiciste contigo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reguntas para la acción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75212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estás centrado en tus puntos fuerte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qué quieres hacer para fortalecerlo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hay ámbitos en los que eres arrogant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qué hábitos te son negativo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puedes mejorar tus “modales”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ara focalizarte en tus puntos fuertes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qué espacios debieras abandonar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_tradn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160" y="152388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09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as carreras exitosas no son planeada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09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09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Se desarrollan cuando las personas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stán preparadas para las oportunidade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_tradn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33160" y="152388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09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l primer secreto de la eficacia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s entender a las personas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con que trabajas,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para aprovechar sus fortalezas,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sus formas de trabajar, sus valores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  <a:ea typeface="Verdana"/>
              </a:rPr>
              <a:t>¿Qué te llevas de hoy?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800" spc="-1" strike="noStrike">
              <a:solidFill>
                <a:srgbClr val="20202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_tradn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33160" y="152388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09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09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 tienes ambición e inteligencia,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uedes llegar a la cima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 la profesión que escojas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09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n importar dónde comenzas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09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0952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eter Drucke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strategia: 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1: Concéntrate en tus fortaleza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485720" y="2285640"/>
            <a:ext cx="6172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Estás allí donde tus fortalezas pueden producir resultados diferenciale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2: Mejora tus fortaleza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485720" y="1600200"/>
            <a:ext cx="6438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En qué necesitas mejorar tus fortaleza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O completarla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Y/o adquirir otras nuevas, complementaria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¿Cómo identificar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us puntos fuertes?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486080" y="1600200"/>
            <a:ext cx="6667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nalizando retrospectivament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n cada decisión clave que tom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nota: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Qué esperas que ocurra en 6/12 mese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hequea: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que ocurrió luego de 6/12 mes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Identifica, en tu experiencia: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Line 29"/>
          <p:cNvSpPr/>
          <p:nvPr/>
        </p:nvSpPr>
        <p:spPr>
          <a:xfrm>
            <a:off x="762120" y="1955880"/>
            <a:ext cx="80010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30"/>
          <p:cNvSpPr/>
          <p:nvPr/>
        </p:nvSpPr>
        <p:spPr>
          <a:xfrm>
            <a:off x="762120" y="2473200"/>
            <a:ext cx="8001000" cy="42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34"/>
          <p:cNvSpPr/>
          <p:nvPr/>
        </p:nvSpPr>
        <p:spPr>
          <a:xfrm>
            <a:off x="762120" y="4543560"/>
            <a:ext cx="80010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37"/>
          <p:cNvSpPr/>
          <p:nvPr/>
        </p:nvSpPr>
        <p:spPr>
          <a:xfrm>
            <a:off x="762120" y="6095880"/>
            <a:ext cx="80010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Group 111"/>
          <p:cNvGrpSpPr/>
          <p:nvPr/>
        </p:nvGrpSpPr>
        <p:grpSpPr>
          <a:xfrm>
            <a:off x="762120" y="1955880"/>
            <a:ext cx="3123720" cy="4140000"/>
            <a:chOff x="762120" y="1955880"/>
            <a:chExt cx="3123720" cy="4140000"/>
          </a:xfrm>
        </p:grpSpPr>
        <p:sp>
          <p:nvSpPr>
            <p:cNvPr id="60" name="Rectangle 26"/>
            <p:cNvSpPr/>
            <p:nvPr/>
          </p:nvSpPr>
          <p:spPr>
            <a:xfrm>
              <a:off x="762120" y="5578560"/>
              <a:ext cx="3123720" cy="517320"/>
            </a:xfrm>
            <a:prstGeom prst="rect">
              <a:avLst/>
            </a:prstGeom>
            <a:noFill/>
            <a:ln w="93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Rectangle 23"/>
            <p:cNvSpPr/>
            <p:nvPr/>
          </p:nvSpPr>
          <p:spPr>
            <a:xfrm>
              <a:off x="762120" y="5060880"/>
              <a:ext cx="3123720" cy="517680"/>
            </a:xfrm>
            <a:prstGeom prst="rect">
              <a:avLst/>
            </a:prstGeom>
            <a:noFill/>
            <a:ln w="93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Rectangle 20"/>
            <p:cNvSpPr/>
            <p:nvPr/>
          </p:nvSpPr>
          <p:spPr>
            <a:xfrm>
              <a:off x="762120" y="4543560"/>
              <a:ext cx="31237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62120" y="4025880"/>
              <a:ext cx="31237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acas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762120" y="3508200"/>
              <a:ext cx="3123720" cy="517680"/>
            </a:xfrm>
            <a:prstGeom prst="rect">
              <a:avLst/>
            </a:prstGeom>
            <a:noFill/>
            <a:ln w="93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11"/>
            <p:cNvSpPr/>
            <p:nvPr/>
          </p:nvSpPr>
          <p:spPr>
            <a:xfrm>
              <a:off x="762120" y="2990880"/>
              <a:ext cx="3123720" cy="517320"/>
            </a:xfrm>
            <a:prstGeom prst="rect">
              <a:avLst/>
            </a:prstGeom>
            <a:noFill/>
            <a:ln w="93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8"/>
            <p:cNvSpPr/>
            <p:nvPr/>
          </p:nvSpPr>
          <p:spPr>
            <a:xfrm>
              <a:off x="762120" y="2473200"/>
              <a:ext cx="31237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5"/>
            <p:cNvSpPr/>
            <p:nvPr/>
          </p:nvSpPr>
          <p:spPr>
            <a:xfrm>
              <a:off x="762120" y="1955880"/>
              <a:ext cx="31237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Éxit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Line 38"/>
            <p:cNvSpPr/>
            <p:nvPr/>
          </p:nvSpPr>
          <p:spPr>
            <a:xfrm>
              <a:off x="762120" y="1955880"/>
              <a:ext cx="0" cy="4140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Line 39"/>
            <p:cNvSpPr/>
            <p:nvPr/>
          </p:nvSpPr>
          <p:spPr>
            <a:xfrm>
              <a:off x="3885840" y="1955880"/>
              <a:ext cx="0" cy="414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Text Box 117"/>
          <p:cNvSpPr/>
          <p:nvPr/>
        </p:nvSpPr>
        <p:spPr>
          <a:xfrm>
            <a:off x="395280" y="2517840"/>
            <a:ext cx="326880" cy="398880"/>
          </a:xfrm>
          <a:prstGeom prst="rect">
            <a:avLst/>
          </a:prstGeom>
          <a:gradFill rotWithShape="0">
            <a:gsLst>
              <a:gs pos="0">
                <a:srgbClr val="c6e7ee"/>
              </a:gs>
              <a:gs pos="100000">
                <a:srgbClr val="97b0b5"/>
              </a:gs>
            </a:gsLst>
            <a:lin ang="5400000"/>
          </a:gradFill>
          <a:ln w="9360">
            <a:solidFill>
              <a:srgbClr val="cce5e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18"/>
          <p:cNvSpPr/>
          <p:nvPr/>
        </p:nvSpPr>
        <p:spPr>
          <a:xfrm>
            <a:off x="395280" y="3027240"/>
            <a:ext cx="326880" cy="398880"/>
          </a:xfrm>
          <a:prstGeom prst="rect">
            <a:avLst/>
          </a:prstGeom>
          <a:gradFill rotWithShape="0">
            <a:gsLst>
              <a:gs pos="0">
                <a:srgbClr val="c6e7ee"/>
              </a:gs>
              <a:gs pos="100000">
                <a:srgbClr val="97b0b5"/>
              </a:gs>
            </a:gsLst>
            <a:lin ang="5400000"/>
          </a:gradFill>
          <a:ln w="9360">
            <a:solidFill>
              <a:srgbClr val="cce5e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19"/>
          <p:cNvSpPr/>
          <p:nvPr/>
        </p:nvSpPr>
        <p:spPr>
          <a:xfrm>
            <a:off x="395280" y="3560760"/>
            <a:ext cx="326880" cy="398880"/>
          </a:xfrm>
          <a:prstGeom prst="rect">
            <a:avLst/>
          </a:prstGeom>
          <a:gradFill rotWithShape="0">
            <a:gsLst>
              <a:gs pos="0">
                <a:srgbClr val="c6e7ee"/>
              </a:gs>
              <a:gs pos="100000">
                <a:srgbClr val="97b0b5"/>
              </a:gs>
            </a:gsLst>
            <a:lin ang="5400000"/>
          </a:gradFill>
          <a:ln w="9360">
            <a:solidFill>
              <a:srgbClr val="cce5e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20"/>
          <p:cNvSpPr/>
          <p:nvPr/>
        </p:nvSpPr>
        <p:spPr>
          <a:xfrm>
            <a:off x="405000" y="4595760"/>
            <a:ext cx="326880" cy="398880"/>
          </a:xfrm>
          <a:prstGeom prst="rect">
            <a:avLst/>
          </a:prstGeom>
          <a:gradFill rotWithShape="0">
            <a:gsLst>
              <a:gs pos="0">
                <a:srgbClr val="c6e7ee"/>
              </a:gs>
              <a:gs pos="100000">
                <a:srgbClr val="97b0b5"/>
              </a:gs>
            </a:gsLst>
            <a:lin ang="5400000"/>
          </a:gradFill>
          <a:ln w="9360">
            <a:solidFill>
              <a:srgbClr val="cce5e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21"/>
          <p:cNvSpPr/>
          <p:nvPr/>
        </p:nvSpPr>
        <p:spPr>
          <a:xfrm>
            <a:off x="405000" y="5105520"/>
            <a:ext cx="326880" cy="398880"/>
          </a:xfrm>
          <a:prstGeom prst="rect">
            <a:avLst/>
          </a:prstGeom>
          <a:gradFill rotWithShape="0">
            <a:gsLst>
              <a:gs pos="0">
                <a:srgbClr val="c6e7ee"/>
              </a:gs>
              <a:gs pos="100000">
                <a:srgbClr val="97b0b5"/>
              </a:gs>
            </a:gsLst>
            <a:lin ang="5400000"/>
          </a:gradFill>
          <a:ln w="9360">
            <a:solidFill>
              <a:srgbClr val="cce5e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22"/>
          <p:cNvSpPr/>
          <p:nvPr/>
        </p:nvSpPr>
        <p:spPr>
          <a:xfrm>
            <a:off x="405000" y="5638680"/>
            <a:ext cx="326880" cy="398880"/>
          </a:xfrm>
          <a:prstGeom prst="rect">
            <a:avLst/>
          </a:prstGeom>
          <a:gradFill rotWithShape="0">
            <a:gsLst>
              <a:gs pos="0">
                <a:srgbClr val="c6e7ee"/>
              </a:gs>
              <a:gs pos="100000">
                <a:srgbClr val="97b0b5"/>
              </a:gs>
            </a:gsLst>
            <a:lin ang="5400000"/>
          </a:gradFill>
          <a:ln w="9360">
            <a:solidFill>
              <a:srgbClr val="cce5e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5"/>
          <p:cNvSpPr/>
          <p:nvPr/>
        </p:nvSpPr>
        <p:spPr>
          <a:xfrm flipV="1">
            <a:off x="762120" y="2971440"/>
            <a:ext cx="8001000" cy="1908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6"/>
          <p:cNvSpPr/>
          <p:nvPr/>
        </p:nvSpPr>
        <p:spPr>
          <a:xfrm flipV="1">
            <a:off x="762120" y="3505320"/>
            <a:ext cx="8001000" cy="288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7"/>
          <p:cNvSpPr/>
          <p:nvPr/>
        </p:nvSpPr>
        <p:spPr>
          <a:xfrm>
            <a:off x="762120" y="4025880"/>
            <a:ext cx="8001000" cy="1260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9"/>
          <p:cNvSpPr/>
          <p:nvPr/>
        </p:nvSpPr>
        <p:spPr>
          <a:xfrm flipV="1">
            <a:off x="762120" y="5029200"/>
            <a:ext cx="8001000" cy="3168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10"/>
          <p:cNvSpPr/>
          <p:nvPr/>
        </p:nvSpPr>
        <p:spPr>
          <a:xfrm flipV="1">
            <a:off x="762120" y="5562720"/>
            <a:ext cx="8001000" cy="1584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28"/>
          <p:cNvSpPr/>
          <p:nvPr/>
        </p:nvSpPr>
        <p:spPr>
          <a:xfrm>
            <a:off x="3985560" y="2103480"/>
            <a:ext cx="221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Quería obtener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132"/>
          <p:cNvSpPr/>
          <p:nvPr/>
        </p:nvSpPr>
        <p:spPr>
          <a:xfrm>
            <a:off x="6400800" y="1981080"/>
            <a:ext cx="0" cy="4114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16"/>
          <p:cNvSpPr/>
          <p:nvPr/>
        </p:nvSpPr>
        <p:spPr>
          <a:xfrm>
            <a:off x="3886200" y="1936800"/>
            <a:ext cx="2502000" cy="420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29"/>
          <p:cNvSpPr/>
          <p:nvPr/>
        </p:nvSpPr>
        <p:spPr>
          <a:xfrm>
            <a:off x="6873480" y="205740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Obtuve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133"/>
          <p:cNvSpPr/>
          <p:nvPr/>
        </p:nvSpPr>
        <p:spPr>
          <a:xfrm>
            <a:off x="8674200" y="19810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34"/>
          <p:cNvSpPr/>
          <p:nvPr/>
        </p:nvSpPr>
        <p:spPr>
          <a:xfrm>
            <a:off x="6324480" y="1944720"/>
            <a:ext cx="2603520" cy="420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774676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774676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  <a:ea typeface="Verdana"/>
              </a:rPr>
              <a:t>Compartir en trío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800" spc="-1" strike="noStrike">
              <a:solidFill>
                <a:srgbClr val="20202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A partir de mi experiencia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¿Cuáles son mis puntos fuertes/débil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Line 3"/>
          <p:cNvSpPr/>
          <p:nvPr/>
        </p:nvSpPr>
        <p:spPr>
          <a:xfrm>
            <a:off x="1143000" y="1955880"/>
            <a:ext cx="68580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4"/>
          <p:cNvSpPr/>
          <p:nvPr/>
        </p:nvSpPr>
        <p:spPr>
          <a:xfrm>
            <a:off x="1143000" y="2473200"/>
            <a:ext cx="68580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5"/>
          <p:cNvSpPr/>
          <p:nvPr/>
        </p:nvSpPr>
        <p:spPr>
          <a:xfrm>
            <a:off x="1143000" y="2990880"/>
            <a:ext cx="6858000" cy="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6"/>
          <p:cNvSpPr/>
          <p:nvPr/>
        </p:nvSpPr>
        <p:spPr>
          <a:xfrm>
            <a:off x="1143000" y="3508200"/>
            <a:ext cx="6858000" cy="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7"/>
          <p:cNvSpPr/>
          <p:nvPr/>
        </p:nvSpPr>
        <p:spPr>
          <a:xfrm>
            <a:off x="1143000" y="4025880"/>
            <a:ext cx="6858000" cy="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8"/>
          <p:cNvSpPr/>
          <p:nvPr/>
        </p:nvSpPr>
        <p:spPr>
          <a:xfrm>
            <a:off x="1143000" y="4543560"/>
            <a:ext cx="68580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9"/>
          <p:cNvSpPr/>
          <p:nvPr/>
        </p:nvSpPr>
        <p:spPr>
          <a:xfrm>
            <a:off x="1143000" y="5060880"/>
            <a:ext cx="6858000" cy="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0"/>
          <p:cNvSpPr/>
          <p:nvPr/>
        </p:nvSpPr>
        <p:spPr>
          <a:xfrm>
            <a:off x="1143000" y="5578560"/>
            <a:ext cx="6858000" cy="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11"/>
          <p:cNvSpPr/>
          <p:nvPr/>
        </p:nvSpPr>
        <p:spPr>
          <a:xfrm>
            <a:off x="1143000" y="6095880"/>
            <a:ext cx="68580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3"/>
          <p:cNvSpPr/>
          <p:nvPr/>
        </p:nvSpPr>
        <p:spPr>
          <a:xfrm>
            <a:off x="776160" y="2517840"/>
            <a:ext cx="326880" cy="398880"/>
          </a:xfrm>
          <a:prstGeom prst="rect">
            <a:avLst/>
          </a:prstGeom>
          <a:gradFill rotWithShape="0">
            <a:gsLst>
              <a:gs pos="0">
                <a:srgbClr val="c6e7ee"/>
              </a:gs>
              <a:gs pos="100000">
                <a:srgbClr val="97b0b5"/>
              </a:gs>
            </a:gsLst>
            <a:lin ang="5400000"/>
          </a:gradFill>
          <a:ln w="9360">
            <a:solidFill>
              <a:srgbClr val="cce5e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4"/>
          <p:cNvSpPr/>
          <p:nvPr/>
        </p:nvSpPr>
        <p:spPr>
          <a:xfrm>
            <a:off x="776160" y="3027240"/>
            <a:ext cx="326880" cy="398880"/>
          </a:xfrm>
          <a:prstGeom prst="rect">
            <a:avLst/>
          </a:prstGeom>
          <a:gradFill rotWithShape="0">
            <a:gsLst>
              <a:gs pos="0">
                <a:srgbClr val="c6e7ee"/>
              </a:gs>
              <a:gs pos="100000">
                <a:srgbClr val="97b0b5"/>
              </a:gs>
            </a:gsLst>
            <a:lin ang="5400000"/>
          </a:gradFill>
          <a:ln w="9360">
            <a:solidFill>
              <a:srgbClr val="cce5e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45"/>
          <p:cNvSpPr/>
          <p:nvPr/>
        </p:nvSpPr>
        <p:spPr>
          <a:xfrm>
            <a:off x="776160" y="3560760"/>
            <a:ext cx="326880" cy="398880"/>
          </a:xfrm>
          <a:prstGeom prst="rect">
            <a:avLst/>
          </a:prstGeom>
          <a:gradFill rotWithShape="0">
            <a:gsLst>
              <a:gs pos="0">
                <a:srgbClr val="c6e7ee"/>
              </a:gs>
              <a:gs pos="100000">
                <a:srgbClr val="97b0b5"/>
              </a:gs>
            </a:gsLst>
            <a:lin ang="5400000"/>
          </a:gradFill>
          <a:ln w="9360">
            <a:solidFill>
              <a:srgbClr val="cce5e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46"/>
          <p:cNvSpPr/>
          <p:nvPr/>
        </p:nvSpPr>
        <p:spPr>
          <a:xfrm>
            <a:off x="785880" y="4595760"/>
            <a:ext cx="326880" cy="398880"/>
          </a:xfrm>
          <a:prstGeom prst="rect">
            <a:avLst/>
          </a:prstGeom>
          <a:gradFill rotWithShape="0">
            <a:gsLst>
              <a:gs pos="0">
                <a:srgbClr val="c6e7ee"/>
              </a:gs>
              <a:gs pos="100000">
                <a:srgbClr val="97b0b5"/>
              </a:gs>
            </a:gsLst>
            <a:lin ang="5400000"/>
          </a:gradFill>
          <a:ln w="9360">
            <a:solidFill>
              <a:srgbClr val="cce5e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47"/>
          <p:cNvSpPr/>
          <p:nvPr/>
        </p:nvSpPr>
        <p:spPr>
          <a:xfrm>
            <a:off x="785880" y="5105520"/>
            <a:ext cx="326880" cy="398880"/>
          </a:xfrm>
          <a:prstGeom prst="rect">
            <a:avLst/>
          </a:prstGeom>
          <a:gradFill rotWithShape="0">
            <a:gsLst>
              <a:gs pos="0">
                <a:srgbClr val="c6e7ee"/>
              </a:gs>
              <a:gs pos="100000">
                <a:srgbClr val="97b0b5"/>
              </a:gs>
            </a:gsLst>
            <a:lin ang="5400000"/>
          </a:gradFill>
          <a:ln w="9360">
            <a:solidFill>
              <a:srgbClr val="cce5e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8"/>
          <p:cNvSpPr/>
          <p:nvPr/>
        </p:nvSpPr>
        <p:spPr>
          <a:xfrm>
            <a:off x="785880" y="5638680"/>
            <a:ext cx="326880" cy="398880"/>
          </a:xfrm>
          <a:prstGeom prst="rect">
            <a:avLst/>
          </a:prstGeom>
          <a:gradFill rotWithShape="0">
            <a:gsLst>
              <a:gs pos="0">
                <a:srgbClr val="c6e7ee"/>
              </a:gs>
              <a:gs pos="100000">
                <a:srgbClr val="97b0b5"/>
              </a:gs>
            </a:gsLst>
            <a:lin ang="5400000"/>
          </a:gradFill>
          <a:ln w="9360">
            <a:solidFill>
              <a:srgbClr val="cce5e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9"/>
          <p:cNvSpPr/>
          <p:nvPr/>
        </p:nvSpPr>
        <p:spPr>
          <a:xfrm>
            <a:off x="1179720" y="2070000"/>
            <a:ext cx="175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Puntos fuer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50"/>
          <p:cNvSpPr/>
          <p:nvPr/>
        </p:nvSpPr>
        <p:spPr>
          <a:xfrm>
            <a:off x="1182960" y="4116240"/>
            <a:ext cx="176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Puntos déb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53"/>
          <p:cNvSpPr/>
          <p:nvPr/>
        </p:nvSpPr>
        <p:spPr>
          <a:xfrm>
            <a:off x="1143000" y="1955880"/>
            <a:ext cx="6858000" cy="4140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4:23:16Z</dcterms:created>
  <dc:creator>Veronica Virgilio</dc:creator>
  <dc:description/>
  <dc:language>en-US</dc:language>
  <cp:lastModifiedBy>Veronica Virgilio</cp:lastModifiedBy>
  <cp:lastPrinted>2011-11-14T14:55:24Z</cp:lastPrinted>
  <dcterms:modified xsi:type="dcterms:W3CDTF">2011-11-16T12:15:59Z</dcterms:modified>
  <cp:revision>46</cp:revision>
  <dc:subject/>
  <dc:title>Gestión de mi mismo (a)</dc:title>
</cp:coreProperties>
</file>