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A69A-2373-4FA6-AD4D-F8CA2A74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D56-C7EA-4205-8AF4-736A87E7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78D-F95F-4F7E-8FA5-B1044BE6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791-D3A2-40AF-8BDE-E94089B6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327-980C-4B0E-B2CE-B75AD85B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EAB-085A-41CE-983B-33C2E121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9125-E201-4848-BB97-B0B4E97F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301-89AE-401B-B5B7-AB951758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93A-E508-4E13-B806-7E4D371F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D64-89F1-41D5-894B-3B1BA93F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4A8-51B9-4717-828D-1AF99D91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1330-0039-42A3-88BB-848E58AC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C8B9-4E95-47B4-BE1A-4F4CC27C53CB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6397-1A96-4D29-96BB-039897D0F6C8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Verdana"/>
              </a:rPr>
              <a:t>CC5601-1 Liderazgo</a:t>
            </a:r>
            <a:br>
              <a:rPr sz="13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estionarme a mi mism@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02020"/>
                </a:solidFill>
                <a:latin typeface="Verdana"/>
                <a:ea typeface="Verdana"/>
              </a:rPr>
              <a:t>Verónica Virgili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02020"/>
                </a:solidFill>
                <a:latin typeface="Verdana"/>
                <a:ea typeface="Verdana"/>
              </a:rPr>
              <a:t>vvirgilio@mac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eguntas básicas </a:t>
            </a:r>
            <a:br>
              <a:rPr sz="2800"/>
            </a:b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ara identificar mis fortalezas, y mejorarla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057400" y="15238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uáles son mis puntos fuertes/débil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aprendo mejo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rindo mejo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trabajo mejo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qué rol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qué tipo de organiza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on qué valor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qué ambient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uál es mi lugar? (o cuál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Verdana"/>
              </a:rPr>
              <a:t>n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Qué valor aporto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Qué debo aportar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Cómo puedo hacer el mejor aporte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Qué resultados harán la diferencia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¿Cómo gestiono mis relacion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o rindo mejor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520" y="1600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Soy lector u oyen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omo aprendo mej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eyen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cien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uchan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omando no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yéndome hablar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ribien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t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Actúo de acuerdo a estas respuest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o rindo mejor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Solo o con otr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relaciones rindo mejor con los otr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ubordinad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Je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ach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te de un equi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ciso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nsej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tipo de organización y ambien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ande o pequeñ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ucturada, planific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Bajo tens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on qué valor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is valores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Éticos: ¿Qué persona quiero ver al mirarme al espejo en las mañan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perativos: ¿Son coherentes con los de la organización en que me desempeñ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¿Cuál es “mi lugar”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 bien ¿a qué lugar no pertenezc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acuerdo a mi rendimient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acuerdo a mis val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Qué debo aportar, donde estoy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904760" y="1600200"/>
            <a:ext cx="575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s coherente con mis puntos fuert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puedo hacer el mejor apor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resultados debo lograr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hacer una difer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Resumen ¿Quién soy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19320" y="1905120"/>
          <a:ext cx="6858000" cy="40640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s puntos fuertes so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manera en que mejor aprendo 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manera en que trabajo mejor es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s valores so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 que aporto es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 aporte es visible en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Compartir en trí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bsérvate críticamente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680" y="1599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de qué te jactas “no saber”, “no ser bueno/a”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838080" y="2438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lacionarte con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4800600" y="2438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solver problemas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écnicos comple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838080" y="3581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er estrate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4800600" y="3581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er ejecu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4114800" y="2743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6"/>
          <p:cNvSpPr/>
          <p:nvPr/>
        </p:nvSpPr>
        <p:spPr>
          <a:xfrm>
            <a:off x="4114800" y="3886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838080" y="4724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olí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1"/>
          <p:cNvSpPr/>
          <p:nvPr/>
        </p:nvSpPr>
        <p:spPr>
          <a:xfrm>
            <a:off x="4800600" y="4724280"/>
            <a:ext cx="3429000" cy="1143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ó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4114800" y="5029200"/>
            <a:ext cx="838080" cy="609480"/>
          </a:xfrm>
          <a:prstGeom prst="leftRightArrow">
            <a:avLst>
              <a:gd name="adj1" fmla="val 50000"/>
              <a:gd name="adj2" fmla="val 27374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3: Observa qué te limita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ábitos limitan tus fortalez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“modales” limitan tus relacion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incompetencias estás intentando super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Yo soy mi principal recurso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4: Gestiona tu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omunicación interpersona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486080" y="1600200"/>
            <a:ext cx="666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u eres el/la responsable de tu comunica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u eres el/la responsable de tus rela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bserva tu entorno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76520" y="1600200"/>
            <a:ext cx="598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Puedes caracterizar a las personas que te rodean/te interesan, de la misma manera como lo hiciste contig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reguntas para la acció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5212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stás centrado en tus puntos fuert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quieres hacer para fortalecerl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hay ámbitos en los que eres arrogant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ábitos te son negativ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puedes mejorar tus “modales”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focalizarte en tus puntos fuertes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espacios debieras abandon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160" y="15238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carreras exitosas no son planead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e desarrollan cuando las persona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án preparadas para las oportunidad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160" y="15238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l primer secreto de la eficaci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entender a las persona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n que trabaja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ara aprovechar sus fortaleza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us formas de trabajar, sus valores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¿Qué te llevas de hoy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160" y="15238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 tienes ambición e inteligencia,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uedes llegar a la cima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 la profesión que escoja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importar dónde comenzas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095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ter Druck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strategia: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1: Concéntrate en tus fortalez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485720" y="2285640"/>
            <a:ext cx="6172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stás allí donde tus fortalezas pueden producir resultados diferencial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2: Mejora tus fortaleza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85720" y="1600200"/>
            <a:ext cx="6438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necesitas mejorar tus fortalez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O completarl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Y/o adquirir otras nuevas, complementari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¿Cómo identifica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us puntos fuertes?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86080" y="1600200"/>
            <a:ext cx="666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alizando retrospectivame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cada decisión clave que tom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ota: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esperas que ocurra en 6/12 mes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hequea: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que ocurrió luego de 6/12 mes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Identifica, en tu experiencia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29"/>
          <p:cNvSpPr/>
          <p:nvPr/>
        </p:nvSpPr>
        <p:spPr>
          <a:xfrm>
            <a:off x="762120" y="1955880"/>
            <a:ext cx="8001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0"/>
          <p:cNvSpPr/>
          <p:nvPr/>
        </p:nvSpPr>
        <p:spPr>
          <a:xfrm>
            <a:off x="762120" y="2473200"/>
            <a:ext cx="8001000" cy="42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4"/>
          <p:cNvSpPr/>
          <p:nvPr/>
        </p:nvSpPr>
        <p:spPr>
          <a:xfrm>
            <a:off x="762120" y="4543560"/>
            <a:ext cx="8001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37"/>
          <p:cNvSpPr/>
          <p:nvPr/>
        </p:nvSpPr>
        <p:spPr>
          <a:xfrm>
            <a:off x="762120" y="6095880"/>
            <a:ext cx="8001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Group 111"/>
          <p:cNvGrpSpPr/>
          <p:nvPr/>
        </p:nvGrpSpPr>
        <p:grpSpPr>
          <a:xfrm>
            <a:off x="762120" y="1955880"/>
            <a:ext cx="3123720" cy="4140000"/>
            <a:chOff x="762120" y="1955880"/>
            <a:chExt cx="3123720" cy="4140000"/>
          </a:xfrm>
        </p:grpSpPr>
        <p:sp>
          <p:nvSpPr>
            <p:cNvPr id="60" name="Rectangle 26"/>
            <p:cNvSpPr/>
            <p:nvPr/>
          </p:nvSpPr>
          <p:spPr>
            <a:xfrm>
              <a:off x="762120" y="5578560"/>
              <a:ext cx="3123720" cy="51732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23"/>
            <p:cNvSpPr/>
            <p:nvPr/>
          </p:nvSpPr>
          <p:spPr>
            <a:xfrm>
              <a:off x="762120" y="5060880"/>
              <a:ext cx="3123720" cy="51768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20"/>
            <p:cNvSpPr/>
            <p:nvPr/>
          </p:nvSpPr>
          <p:spPr>
            <a:xfrm>
              <a:off x="762120" y="4543560"/>
              <a:ext cx="3123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62120" y="4025880"/>
              <a:ext cx="3123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ca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762120" y="3508200"/>
              <a:ext cx="3123720" cy="51768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1"/>
            <p:cNvSpPr/>
            <p:nvPr/>
          </p:nvSpPr>
          <p:spPr>
            <a:xfrm>
              <a:off x="762120" y="2990880"/>
              <a:ext cx="3123720" cy="517320"/>
            </a:xfrm>
            <a:prstGeom prst="rect">
              <a:avLst/>
            </a:prstGeom>
            <a:noFill/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8"/>
            <p:cNvSpPr/>
            <p:nvPr/>
          </p:nvSpPr>
          <p:spPr>
            <a:xfrm>
              <a:off x="762120" y="2473200"/>
              <a:ext cx="31237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5"/>
            <p:cNvSpPr/>
            <p:nvPr/>
          </p:nvSpPr>
          <p:spPr>
            <a:xfrm>
              <a:off x="762120" y="1955880"/>
              <a:ext cx="31237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Éx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38"/>
            <p:cNvSpPr/>
            <p:nvPr/>
          </p:nvSpPr>
          <p:spPr>
            <a:xfrm>
              <a:off x="762120" y="1955880"/>
              <a:ext cx="0" cy="4140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39"/>
            <p:cNvSpPr/>
            <p:nvPr/>
          </p:nvSpPr>
          <p:spPr>
            <a:xfrm>
              <a:off x="3885840" y="1955880"/>
              <a:ext cx="0" cy="414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Text Box 117"/>
          <p:cNvSpPr/>
          <p:nvPr/>
        </p:nvSpPr>
        <p:spPr>
          <a:xfrm>
            <a:off x="395280" y="25178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8"/>
          <p:cNvSpPr/>
          <p:nvPr/>
        </p:nvSpPr>
        <p:spPr>
          <a:xfrm>
            <a:off x="395280" y="30272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19"/>
          <p:cNvSpPr/>
          <p:nvPr/>
        </p:nvSpPr>
        <p:spPr>
          <a:xfrm>
            <a:off x="395280" y="3560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20"/>
          <p:cNvSpPr/>
          <p:nvPr/>
        </p:nvSpPr>
        <p:spPr>
          <a:xfrm>
            <a:off x="405000" y="4595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1"/>
          <p:cNvSpPr/>
          <p:nvPr/>
        </p:nvSpPr>
        <p:spPr>
          <a:xfrm>
            <a:off x="405000" y="510552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2"/>
          <p:cNvSpPr/>
          <p:nvPr/>
        </p:nvSpPr>
        <p:spPr>
          <a:xfrm>
            <a:off x="405000" y="563868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5"/>
          <p:cNvSpPr/>
          <p:nvPr/>
        </p:nvSpPr>
        <p:spPr>
          <a:xfrm flipV="1">
            <a:off x="762120" y="2971440"/>
            <a:ext cx="8001000" cy="190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6"/>
          <p:cNvSpPr/>
          <p:nvPr/>
        </p:nvSpPr>
        <p:spPr>
          <a:xfrm flipV="1">
            <a:off x="762120" y="3505320"/>
            <a:ext cx="8001000" cy="28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7"/>
          <p:cNvSpPr/>
          <p:nvPr/>
        </p:nvSpPr>
        <p:spPr>
          <a:xfrm>
            <a:off x="762120" y="4025880"/>
            <a:ext cx="8001000" cy="126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762120" y="5029200"/>
            <a:ext cx="8001000" cy="3168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762120" y="5562720"/>
            <a:ext cx="8001000" cy="1584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8"/>
          <p:cNvSpPr/>
          <p:nvPr/>
        </p:nvSpPr>
        <p:spPr>
          <a:xfrm>
            <a:off x="3985560" y="2103480"/>
            <a:ext cx="22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Quería obten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32"/>
          <p:cNvSpPr/>
          <p:nvPr/>
        </p:nvSpPr>
        <p:spPr>
          <a:xfrm>
            <a:off x="6400800" y="1981080"/>
            <a:ext cx="0" cy="4114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16"/>
          <p:cNvSpPr/>
          <p:nvPr/>
        </p:nvSpPr>
        <p:spPr>
          <a:xfrm>
            <a:off x="3886200" y="1936800"/>
            <a:ext cx="2502000" cy="42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9"/>
          <p:cNvSpPr/>
          <p:nvPr/>
        </p:nvSpPr>
        <p:spPr>
          <a:xfrm>
            <a:off x="6873480" y="20574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Obtuv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33"/>
          <p:cNvSpPr/>
          <p:nvPr/>
        </p:nvSpPr>
        <p:spPr>
          <a:xfrm>
            <a:off x="8674200" y="19810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4"/>
          <p:cNvSpPr/>
          <p:nvPr/>
        </p:nvSpPr>
        <p:spPr>
          <a:xfrm>
            <a:off x="6324480" y="1944720"/>
            <a:ext cx="2603520" cy="420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74676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774676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Compartir en trí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800" spc="-1" strike="noStrike">
              <a:solidFill>
                <a:srgbClr val="20202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 partir de mi experiencia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¿Cuáles son mis puntos fuertes/débil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3"/>
          <p:cNvSpPr/>
          <p:nvPr/>
        </p:nvSpPr>
        <p:spPr>
          <a:xfrm>
            <a:off x="1143000" y="195588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"/>
          <p:cNvSpPr/>
          <p:nvPr/>
        </p:nvSpPr>
        <p:spPr>
          <a:xfrm>
            <a:off x="1143000" y="247320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143000" y="299088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>
            <a:off x="1143000" y="350820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1143000" y="402588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>
            <a:off x="1143000" y="454356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1143000" y="506088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1143000" y="5578560"/>
            <a:ext cx="6858000" cy="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1143000" y="6095880"/>
            <a:ext cx="68580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3"/>
          <p:cNvSpPr/>
          <p:nvPr/>
        </p:nvSpPr>
        <p:spPr>
          <a:xfrm>
            <a:off x="776160" y="25178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4"/>
          <p:cNvSpPr/>
          <p:nvPr/>
        </p:nvSpPr>
        <p:spPr>
          <a:xfrm>
            <a:off x="776160" y="302724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5"/>
          <p:cNvSpPr/>
          <p:nvPr/>
        </p:nvSpPr>
        <p:spPr>
          <a:xfrm>
            <a:off x="776160" y="3560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6"/>
          <p:cNvSpPr/>
          <p:nvPr/>
        </p:nvSpPr>
        <p:spPr>
          <a:xfrm>
            <a:off x="785880" y="459576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7"/>
          <p:cNvSpPr/>
          <p:nvPr/>
        </p:nvSpPr>
        <p:spPr>
          <a:xfrm>
            <a:off x="785880" y="510552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8"/>
          <p:cNvSpPr/>
          <p:nvPr/>
        </p:nvSpPr>
        <p:spPr>
          <a:xfrm>
            <a:off x="785880" y="5638680"/>
            <a:ext cx="326880" cy="398880"/>
          </a:xfrm>
          <a:prstGeom prst="rect">
            <a:avLst/>
          </a:prstGeom>
          <a:gradFill rotWithShape="0">
            <a:gsLst>
              <a:gs pos="0">
                <a:srgbClr val="c6e7ee"/>
              </a:gs>
              <a:gs pos="100000">
                <a:srgbClr val="97b0b5"/>
              </a:gs>
            </a:gsLst>
            <a:lin ang="5400000"/>
          </a:gradFill>
          <a:ln w="9360">
            <a:solidFill>
              <a:srgbClr val="cce5ea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1179720" y="2070000"/>
            <a:ext cx="17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untos fue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0"/>
          <p:cNvSpPr/>
          <p:nvPr/>
        </p:nvSpPr>
        <p:spPr>
          <a:xfrm>
            <a:off x="1182960" y="411624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untos déb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3"/>
          <p:cNvSpPr/>
          <p:nvPr/>
        </p:nvSpPr>
        <p:spPr>
          <a:xfrm>
            <a:off x="1143000" y="1955880"/>
            <a:ext cx="6858000" cy="4140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4:23:16Z</dcterms:created>
  <dc:creator>Veronica Virgilio</dc:creator>
  <dc:description/>
  <dc:language>en-US</dc:language>
  <cp:lastModifiedBy>Veronica Virgilio</cp:lastModifiedBy>
  <cp:lastPrinted>2011-11-14T14:55:24Z</cp:lastPrinted>
  <dcterms:modified xsi:type="dcterms:W3CDTF">2011-11-16T12:15:59Z</dcterms:modified>
  <cp:revision>46</cp:revision>
  <dc:subject/>
  <dc:title>Gestión de mi mismo (a)</dc:title>
</cp:coreProperties>
</file>