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0DA-1B25-46DE-AC5B-D5F622CC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08E-EB7A-48E2-AD8D-21B91332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A22-0655-452B-A9FF-36949F1D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729-991F-48D1-999D-26ED7C7C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FC2-9E0F-4D06-B51D-1E3385F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446-8E13-49CF-99F0-9729B14E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2B5-5F74-47FA-821C-7929996B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48D-54D0-433D-9CCC-CA87A118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8DC-3087-4692-8186-5B05D8F8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E63-E469-4432-A20A-99E4CD7C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408-A3C5-4850-9A7C-5A0A51B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FB8-426A-4E6F-BEA1-AF01511D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F769-AD6D-4609-9ADF-74A489D34E3E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6DE-30D9-4357-B1F4-0603FD5EE80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C5601-1 Liderazgo</a:t>
            </a:r>
            <a:br>
              <a:rPr sz="13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estionarme a mi mism@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erónica Virgil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virgilio@mac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básicas 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ara identificar mis fortalezas, y mejorarla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es son mis puntos fuertes/débi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apre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ri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trabaj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tipo de organ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n qué val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ambient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 es mi lugar? (o cuál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n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Qué valor apor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debo aporta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resultados harán la diferencia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gestiono mis relacion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5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y lector u oy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mo aprendo me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ye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c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uch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omando 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yéndome habl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rib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Actúo de acuerdo a estas respuest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lo o con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relaciones rindo mejor con los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ordina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J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ac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te de un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cis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j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tipo de organización y ambi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nde o pequeñ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da, planifi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ajo ten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n qué valor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is valores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Éticos: ¿Qué persona quiero ver al mirarme al espejo en las mañan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tivos: ¿Son coherentes con los de la organización en que me desempeñ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uál es “mi lugar”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 bien ¿a qué lugar no pertenez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 rendimien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s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debo aportar, donde est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4760" y="1600200"/>
            <a:ext cx="575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 coherente con mi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resultados debo logr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hacer una difer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umen ¿Quién s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90512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puntos fuert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mejor aprendo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trabajo mejor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valor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 que aporto 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 aporte es visible 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érvate críticament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de qué te jactas “no saber”, “no ser bueno/a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3808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lacionarte con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solver probl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écnico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83808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stra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80060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jec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4114800" y="2743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4114800" y="3886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83808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480060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1148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3: Observa qué te limit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limitan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“modales” limitan tus relacio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incompetencias estás intentando super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Yo soy mi principal recurs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4: Gestiona t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unicación interperson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 comunic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s rel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erva tu entorno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520" y="1600200"/>
            <a:ext cx="59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caracterizar a las personas que te rodean/te interesan, de la misma manera como lo hiciste cont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para la a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centrado en tu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quieres hacer para fortalec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hay ámbitos en los que eres arroga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te son neg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mejorar tus “modales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focalizarte en tus puntos fuert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acios debieras abando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carreras exitosas no son plane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desarrollan cuando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reparadas para las oportunida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primer secreto de la efica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ntender a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que trabaj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aprovechar sus fortalez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us formas de trabajar, sus valor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te llevas de h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tienes ambición e inteligencia,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s llegar a la cim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la profesión que escoj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importar dónde comenzas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ter Druck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: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1: Concéntrate en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85720" y="2285640"/>
            <a:ext cx="6172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allí donde tus fortalezas pueden producir resultados diferencia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2: Mejora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85720" y="1600200"/>
            <a:ext cx="64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necesitas mejorar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O completarl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Y/o adquirir otras nuevas, complementari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ómo identifica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s puntos fuertes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alizando retrospec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da decisión clave que to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ot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eras que ocurra en 6/12 me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eque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 ocurrió luego de 6/12 me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dentifica, en tu experienci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762120" y="195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762120" y="2473200"/>
            <a:ext cx="800100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762120" y="454356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762120" y="609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11"/>
          <p:cNvGrpSpPr/>
          <p:nvPr/>
        </p:nvGrpSpPr>
        <p:grpSpPr>
          <a:xfrm>
            <a:off x="762120" y="1955880"/>
            <a:ext cx="3123720" cy="4140000"/>
            <a:chOff x="762120" y="1955880"/>
            <a:chExt cx="3123720" cy="4140000"/>
          </a:xfrm>
        </p:grpSpPr>
        <p:sp>
          <p:nvSpPr>
            <p:cNvPr id="60" name="Rectangle 26"/>
            <p:cNvSpPr/>
            <p:nvPr/>
          </p:nvSpPr>
          <p:spPr>
            <a:xfrm>
              <a:off x="762120" y="557856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762120" y="506088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762120" y="454356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62120" y="402588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ca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62120" y="350820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762120" y="299088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247320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762120" y="195588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x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62120" y="1955880"/>
              <a:ext cx="0" cy="4140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>
              <a:off x="3885840" y="1955880"/>
              <a:ext cx="0" cy="41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17"/>
          <p:cNvSpPr/>
          <p:nvPr/>
        </p:nvSpPr>
        <p:spPr>
          <a:xfrm>
            <a:off x="39528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8"/>
          <p:cNvSpPr/>
          <p:nvPr/>
        </p:nvSpPr>
        <p:spPr>
          <a:xfrm>
            <a:off x="39528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9"/>
          <p:cNvSpPr/>
          <p:nvPr/>
        </p:nvSpPr>
        <p:spPr>
          <a:xfrm>
            <a:off x="39528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0"/>
          <p:cNvSpPr/>
          <p:nvPr/>
        </p:nvSpPr>
        <p:spPr>
          <a:xfrm>
            <a:off x="40500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1"/>
          <p:cNvSpPr/>
          <p:nvPr/>
        </p:nvSpPr>
        <p:spPr>
          <a:xfrm>
            <a:off x="40500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2"/>
          <p:cNvSpPr/>
          <p:nvPr/>
        </p:nvSpPr>
        <p:spPr>
          <a:xfrm>
            <a:off x="40500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762120" y="2971440"/>
            <a:ext cx="8001000" cy="190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62120" y="3505320"/>
            <a:ext cx="8001000" cy="28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62120" y="4025880"/>
            <a:ext cx="8001000" cy="126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762120" y="5029200"/>
            <a:ext cx="8001000" cy="316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762120" y="5562720"/>
            <a:ext cx="8001000" cy="158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8"/>
          <p:cNvSpPr/>
          <p:nvPr/>
        </p:nvSpPr>
        <p:spPr>
          <a:xfrm>
            <a:off x="3985560" y="210348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ría obten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2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6"/>
          <p:cNvSpPr/>
          <p:nvPr/>
        </p:nvSpPr>
        <p:spPr>
          <a:xfrm>
            <a:off x="3886200" y="1936800"/>
            <a:ext cx="250200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9"/>
          <p:cNvSpPr/>
          <p:nvPr/>
        </p:nvSpPr>
        <p:spPr>
          <a:xfrm>
            <a:off x="6873480" y="2057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btuv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33"/>
          <p:cNvSpPr/>
          <p:nvPr/>
        </p:nvSpPr>
        <p:spPr>
          <a:xfrm>
            <a:off x="867420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4"/>
          <p:cNvSpPr/>
          <p:nvPr/>
        </p:nvSpPr>
        <p:spPr>
          <a:xfrm>
            <a:off x="6324480" y="1944720"/>
            <a:ext cx="260352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 partir de mi experienci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Cuáles son mis puntos fuertes/débi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3"/>
          <p:cNvSpPr/>
          <p:nvPr/>
        </p:nvSpPr>
        <p:spPr>
          <a:xfrm>
            <a:off x="1143000" y="195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43000" y="247320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299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143000" y="350820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143000" y="4025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43000" y="454356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143000" y="506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143000" y="557856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143000" y="609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77616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77616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77616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78588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78588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78588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1179720" y="20700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1182960" y="411624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é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1143000" y="1955880"/>
            <a:ext cx="6858000" cy="4140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6Z</dcterms:created>
  <dc:creator>Veronica Virgilio</dc:creator>
  <dc:description/>
  <dc:language>en-US</dc:language>
  <cp:lastModifiedBy>Veronica Virgilio</cp:lastModifiedBy>
  <cp:lastPrinted>2011-11-14T14:55:24Z</cp:lastPrinted>
  <dcterms:modified xsi:type="dcterms:W3CDTF">2011-11-16T12:15:59Z</dcterms:modified>
  <cp:revision>46</cp:revision>
  <dc:subject/>
  <dc:title>Gestión de mi mismo (a)</dc:title>
</cp:coreProperties>
</file>