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F117-10AB-4514-B538-A8C4F8851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0C30-D110-47B2-B7C8-0789F3BD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6924-DA56-42D3-8ED6-EB2BF11B0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264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5956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8572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264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5956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2E82-FBD9-40A6-8DB9-C6DFFD3B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539D-2F33-42EB-A489-12CB0646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A8E6-C227-4596-A64D-D211AF4F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1C40-3D27-4DB6-93EB-7A3D00EC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F2C4-7A69-4349-9B09-EF61F380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7F2C-6CB1-4DBF-9944-99054E17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CA3E-ACBB-49B3-A02D-E5B0857F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1C2F-3A09-4CA1-909D-556161EF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AF4C-D91E-49BB-A846-492A2A81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EB53-02D0-4DB2-8DEB-0269A2307AB7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8AFD-FEE2-4112-BAEE-46E9A3CA675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CC5601-1 Liderazgo</a:t>
            </a:r>
            <a:br>
              <a:rPr sz="13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Gestionarme a mi mism@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02020"/>
                </a:solidFill>
                <a:latin typeface="Verdana"/>
                <a:ea typeface="Verdana"/>
              </a:rPr>
              <a:t>Verónica Virgili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02020"/>
                </a:solidFill>
                <a:latin typeface="Verdana"/>
                <a:ea typeface="Verdana"/>
              </a:rPr>
              <a:t>vvirgilio@mac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reguntas básicas </a:t>
            </a:r>
            <a:br>
              <a:rPr sz="2800"/>
            </a:b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para identificar mis fortalezas, y mejorarla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057400" y="15238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¿Cuáles son mis puntos fuertes/débile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¿Cómo aprendo mejor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¿Cómo rindo mejor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¿Cómo trabajo mejor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qué role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qué tipo de organiz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Con qué valore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qué ambiente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¿Cuál es mi lugar? (o cuál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Verdana"/>
              </a:rPr>
              <a:t>n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¿Qué valor aporto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¿Qué debo aportar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¿Cómo puedo hacer el mejor aporte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¿Qué resultados harán la diferencia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¿Cómo gestiono mis relacione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mo rindo mejor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23520" y="16002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Soy lector u oyent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omo aprendo mejo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eyendo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acien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uchando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omando no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Oyéndome hablar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ribien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Ot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Actúo de acuerdo a estas respuest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mo rindo mejor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52480" y="144792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Solo o con otr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En qué relaciones rindo mejor con los otr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ubordinado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Je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ach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te de un equi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cisor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nseje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En qué tipo de organización y ambient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rande o pequeñ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ructurada, planific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Bajo tens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on qué valor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Mis valores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Éticos: ¿Qué persona quiero ver al mirarme al espejo en las mañan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Operativos: ¿Son coherentes con los de la organización en que me desempeñ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¿Cuál es “mi lugar”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O bien ¿a qué lugar no pertenezc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 acuerdo a mi rendimient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 acuerdo a mis val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debo aportar, donde estoy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904760" y="1600200"/>
            <a:ext cx="575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es coherente con mis puntos fuert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ómo puedo hacer el mejor aport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resultados debo lograr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hacer una diferenci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umen ¿Quién soy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19320" y="1905120"/>
          <a:ext cx="6858000" cy="406404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677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s puntos fuertes son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manera en que mejor aprendo es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manera en que trabajo mejor es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s valores son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 que aporto es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 aporte es visible en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Verdana"/>
              </a:rPr>
              <a:t>Compartir en trí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800" spc="-1" strike="noStrike">
              <a:solidFill>
                <a:srgbClr val="20202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bsérvate críticamente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6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de qué te jactas “no saber”, “no ser bueno/a”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838080" y="2438280"/>
            <a:ext cx="34290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Relacionarte con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4800600" y="2438280"/>
            <a:ext cx="34290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Resolver problemas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écnicos comple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838080" y="3581280"/>
            <a:ext cx="34290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er estrat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1"/>
          <p:cNvSpPr/>
          <p:nvPr/>
        </p:nvSpPr>
        <p:spPr>
          <a:xfrm>
            <a:off x="4800600" y="3581280"/>
            <a:ext cx="34290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er ejecu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5"/>
          <p:cNvSpPr/>
          <p:nvPr/>
        </p:nvSpPr>
        <p:spPr>
          <a:xfrm>
            <a:off x="4114800" y="2743200"/>
            <a:ext cx="838080" cy="609480"/>
          </a:xfrm>
          <a:prstGeom prst="leftRightArrow">
            <a:avLst>
              <a:gd name="adj1" fmla="val 50000"/>
              <a:gd name="adj2" fmla="val 27374"/>
            </a:avLst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6"/>
          <p:cNvSpPr/>
          <p:nvPr/>
        </p:nvSpPr>
        <p:spPr>
          <a:xfrm>
            <a:off x="4114800" y="3886200"/>
            <a:ext cx="838080" cy="609480"/>
          </a:xfrm>
          <a:prstGeom prst="leftRightArrow">
            <a:avLst>
              <a:gd name="adj1" fmla="val 50000"/>
              <a:gd name="adj2" fmla="val 27374"/>
            </a:avLst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0"/>
          <p:cNvSpPr/>
          <p:nvPr/>
        </p:nvSpPr>
        <p:spPr>
          <a:xfrm>
            <a:off x="838080" y="4724280"/>
            <a:ext cx="34290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olí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1"/>
          <p:cNvSpPr/>
          <p:nvPr/>
        </p:nvSpPr>
        <p:spPr>
          <a:xfrm>
            <a:off x="4800600" y="4724280"/>
            <a:ext cx="34290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eó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6"/>
          <p:cNvSpPr/>
          <p:nvPr/>
        </p:nvSpPr>
        <p:spPr>
          <a:xfrm>
            <a:off x="4114800" y="5029200"/>
            <a:ext cx="838080" cy="609480"/>
          </a:xfrm>
          <a:prstGeom prst="leftRightArrow">
            <a:avLst>
              <a:gd name="adj1" fmla="val 50000"/>
              <a:gd name="adj2" fmla="val 27374"/>
            </a:avLst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3: Observa qué te limita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hábitos limitan tus fortalez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“modales” limitan tus relacion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incompetencias estás intentando supera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Yo soy mi principal recurs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800" spc="-1" strike="noStrike">
              <a:solidFill>
                <a:srgbClr val="202020"/>
              </a:solidFill>
              <a:latin typeface="Verdana"/>
              <a:ea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4: Gestiona tu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municación interpersona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486080" y="1600200"/>
            <a:ext cx="6667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u eres el/la responsable de tu comunic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u eres el/la responsable de tus rela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bserva tu entorno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676520" y="1600200"/>
            <a:ext cx="5981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Puedes caracterizar a las personas que te rodean/te interesan, de la misma manera como lo hiciste contig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reguntas para la ac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5212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estás centrado en tus puntos fuert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quieres hacer para fortalecerl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hay ámbitos en los que eres arrogant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hábitos te son negativ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puedes mejorar tus “modales”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focalizarte en tus puntos fuertes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espacios debieras abandona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160" y="15238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s carreras exitosas no son planead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Se desarrollan cuando las personas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tán preparadas para las oportunidad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3160" y="15238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l primer secreto de la eficacia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 entender a las personas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n que trabajas,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ara aprovechar sus fortalezas,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sus formas de trabajar, sus valores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Verdana"/>
              </a:rPr>
              <a:t>¿Qué te llevas de hoy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800" spc="-1" strike="noStrike">
              <a:solidFill>
                <a:srgbClr val="20202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3160" y="15238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 tienes ambición e inteligencia,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uedes llegar a la cima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 la profesión que escoja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 importar dónde comenzas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095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ter Druck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trategia: 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1: Concéntrate en tus fortaleza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485720" y="2285640"/>
            <a:ext cx="6172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Estás allí donde tus fortalezas pueden producir resultados diferencial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2: Mejora tus fortaleza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85720" y="1600200"/>
            <a:ext cx="6438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En qué necesitas mejorar tus fortalez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O completarl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Y/o adquirir otras nuevas, complementari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¿Cómo identifica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us puntos fuertes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486080" y="1600200"/>
            <a:ext cx="6667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nalizando retrospectivamen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cada decisión clave que tom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nota: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esperas que ocurra en 6/12 mes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hequea: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que ocurrió luego de 6/12 mes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dentifica, en tu experiencia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Line 29"/>
          <p:cNvSpPr/>
          <p:nvPr/>
        </p:nvSpPr>
        <p:spPr>
          <a:xfrm>
            <a:off x="762120" y="1955880"/>
            <a:ext cx="8001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30"/>
          <p:cNvSpPr/>
          <p:nvPr/>
        </p:nvSpPr>
        <p:spPr>
          <a:xfrm>
            <a:off x="762120" y="2473200"/>
            <a:ext cx="8001000" cy="42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34"/>
          <p:cNvSpPr/>
          <p:nvPr/>
        </p:nvSpPr>
        <p:spPr>
          <a:xfrm>
            <a:off x="762120" y="4543560"/>
            <a:ext cx="8001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37"/>
          <p:cNvSpPr/>
          <p:nvPr/>
        </p:nvSpPr>
        <p:spPr>
          <a:xfrm>
            <a:off x="762120" y="6095880"/>
            <a:ext cx="8001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Group 111"/>
          <p:cNvGrpSpPr/>
          <p:nvPr/>
        </p:nvGrpSpPr>
        <p:grpSpPr>
          <a:xfrm>
            <a:off x="762120" y="1955880"/>
            <a:ext cx="3123720" cy="4140000"/>
            <a:chOff x="762120" y="1955880"/>
            <a:chExt cx="3123720" cy="4140000"/>
          </a:xfrm>
        </p:grpSpPr>
        <p:sp>
          <p:nvSpPr>
            <p:cNvPr id="60" name="Rectangle 26"/>
            <p:cNvSpPr/>
            <p:nvPr/>
          </p:nvSpPr>
          <p:spPr>
            <a:xfrm>
              <a:off x="762120" y="5578560"/>
              <a:ext cx="3123720" cy="517320"/>
            </a:xfrm>
            <a:prstGeom prst="rect">
              <a:avLst/>
            </a:prstGeom>
            <a:noFill/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23"/>
            <p:cNvSpPr/>
            <p:nvPr/>
          </p:nvSpPr>
          <p:spPr>
            <a:xfrm>
              <a:off x="762120" y="5060880"/>
              <a:ext cx="3123720" cy="517680"/>
            </a:xfrm>
            <a:prstGeom prst="rect">
              <a:avLst/>
            </a:prstGeom>
            <a:noFill/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20"/>
            <p:cNvSpPr/>
            <p:nvPr/>
          </p:nvSpPr>
          <p:spPr>
            <a:xfrm>
              <a:off x="762120" y="4543560"/>
              <a:ext cx="31237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62120" y="4025880"/>
              <a:ext cx="31237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cas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762120" y="3508200"/>
              <a:ext cx="3123720" cy="517680"/>
            </a:xfrm>
            <a:prstGeom prst="rect">
              <a:avLst/>
            </a:prstGeom>
            <a:noFill/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1"/>
            <p:cNvSpPr/>
            <p:nvPr/>
          </p:nvSpPr>
          <p:spPr>
            <a:xfrm>
              <a:off x="762120" y="2990880"/>
              <a:ext cx="3123720" cy="517320"/>
            </a:xfrm>
            <a:prstGeom prst="rect">
              <a:avLst/>
            </a:prstGeom>
            <a:noFill/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8"/>
            <p:cNvSpPr/>
            <p:nvPr/>
          </p:nvSpPr>
          <p:spPr>
            <a:xfrm>
              <a:off x="762120" y="2473200"/>
              <a:ext cx="31237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5"/>
            <p:cNvSpPr/>
            <p:nvPr/>
          </p:nvSpPr>
          <p:spPr>
            <a:xfrm>
              <a:off x="762120" y="1955880"/>
              <a:ext cx="31237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Éxi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38"/>
            <p:cNvSpPr/>
            <p:nvPr/>
          </p:nvSpPr>
          <p:spPr>
            <a:xfrm>
              <a:off x="762120" y="1955880"/>
              <a:ext cx="0" cy="4140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39"/>
            <p:cNvSpPr/>
            <p:nvPr/>
          </p:nvSpPr>
          <p:spPr>
            <a:xfrm>
              <a:off x="3885840" y="1955880"/>
              <a:ext cx="0" cy="414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Text Box 117"/>
          <p:cNvSpPr/>
          <p:nvPr/>
        </p:nvSpPr>
        <p:spPr>
          <a:xfrm>
            <a:off x="395280" y="251784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18"/>
          <p:cNvSpPr/>
          <p:nvPr/>
        </p:nvSpPr>
        <p:spPr>
          <a:xfrm>
            <a:off x="395280" y="302724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19"/>
          <p:cNvSpPr/>
          <p:nvPr/>
        </p:nvSpPr>
        <p:spPr>
          <a:xfrm>
            <a:off x="395280" y="356076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20"/>
          <p:cNvSpPr/>
          <p:nvPr/>
        </p:nvSpPr>
        <p:spPr>
          <a:xfrm>
            <a:off x="405000" y="459576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21"/>
          <p:cNvSpPr/>
          <p:nvPr/>
        </p:nvSpPr>
        <p:spPr>
          <a:xfrm>
            <a:off x="405000" y="510552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22"/>
          <p:cNvSpPr/>
          <p:nvPr/>
        </p:nvSpPr>
        <p:spPr>
          <a:xfrm>
            <a:off x="405000" y="563868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5"/>
          <p:cNvSpPr/>
          <p:nvPr/>
        </p:nvSpPr>
        <p:spPr>
          <a:xfrm flipV="1">
            <a:off x="762120" y="2971440"/>
            <a:ext cx="8001000" cy="1908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6"/>
          <p:cNvSpPr/>
          <p:nvPr/>
        </p:nvSpPr>
        <p:spPr>
          <a:xfrm flipV="1">
            <a:off x="762120" y="3505320"/>
            <a:ext cx="8001000" cy="288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7"/>
          <p:cNvSpPr/>
          <p:nvPr/>
        </p:nvSpPr>
        <p:spPr>
          <a:xfrm>
            <a:off x="762120" y="4025880"/>
            <a:ext cx="8001000" cy="126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"/>
          <p:cNvSpPr/>
          <p:nvPr/>
        </p:nvSpPr>
        <p:spPr>
          <a:xfrm flipV="1">
            <a:off x="762120" y="5029200"/>
            <a:ext cx="8001000" cy="3168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0"/>
          <p:cNvSpPr/>
          <p:nvPr/>
        </p:nvSpPr>
        <p:spPr>
          <a:xfrm flipV="1">
            <a:off x="762120" y="5562720"/>
            <a:ext cx="8001000" cy="1584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28"/>
          <p:cNvSpPr/>
          <p:nvPr/>
        </p:nvSpPr>
        <p:spPr>
          <a:xfrm>
            <a:off x="3985560" y="2103480"/>
            <a:ext cx="22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Quería obten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32"/>
          <p:cNvSpPr/>
          <p:nvPr/>
        </p:nvSpPr>
        <p:spPr>
          <a:xfrm>
            <a:off x="6400800" y="1981080"/>
            <a:ext cx="0" cy="4114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16"/>
          <p:cNvSpPr/>
          <p:nvPr/>
        </p:nvSpPr>
        <p:spPr>
          <a:xfrm>
            <a:off x="3886200" y="1936800"/>
            <a:ext cx="2502000" cy="420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29"/>
          <p:cNvSpPr/>
          <p:nvPr/>
        </p:nvSpPr>
        <p:spPr>
          <a:xfrm>
            <a:off x="6873480" y="20574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Obtuv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33"/>
          <p:cNvSpPr/>
          <p:nvPr/>
        </p:nvSpPr>
        <p:spPr>
          <a:xfrm>
            <a:off x="8674200" y="19810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34"/>
          <p:cNvSpPr/>
          <p:nvPr/>
        </p:nvSpPr>
        <p:spPr>
          <a:xfrm>
            <a:off x="6324480" y="1944720"/>
            <a:ext cx="2603520" cy="420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74676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774676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Verdana"/>
              </a:rPr>
              <a:t>Compartir en trí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800" spc="-1" strike="noStrike">
              <a:solidFill>
                <a:srgbClr val="20202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A partir de mi experienci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Cuáles son mis puntos fuertes/débi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Line 3"/>
          <p:cNvSpPr/>
          <p:nvPr/>
        </p:nvSpPr>
        <p:spPr>
          <a:xfrm>
            <a:off x="1143000" y="1955880"/>
            <a:ext cx="6858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4"/>
          <p:cNvSpPr/>
          <p:nvPr/>
        </p:nvSpPr>
        <p:spPr>
          <a:xfrm>
            <a:off x="1143000" y="2473200"/>
            <a:ext cx="6858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5"/>
          <p:cNvSpPr/>
          <p:nvPr/>
        </p:nvSpPr>
        <p:spPr>
          <a:xfrm>
            <a:off x="1143000" y="2990880"/>
            <a:ext cx="6858000" cy="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6"/>
          <p:cNvSpPr/>
          <p:nvPr/>
        </p:nvSpPr>
        <p:spPr>
          <a:xfrm>
            <a:off x="1143000" y="3508200"/>
            <a:ext cx="6858000" cy="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7"/>
          <p:cNvSpPr/>
          <p:nvPr/>
        </p:nvSpPr>
        <p:spPr>
          <a:xfrm>
            <a:off x="1143000" y="4025880"/>
            <a:ext cx="6858000" cy="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143000" y="4543560"/>
            <a:ext cx="6858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9"/>
          <p:cNvSpPr/>
          <p:nvPr/>
        </p:nvSpPr>
        <p:spPr>
          <a:xfrm>
            <a:off x="1143000" y="5060880"/>
            <a:ext cx="6858000" cy="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1143000" y="5578560"/>
            <a:ext cx="6858000" cy="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1143000" y="6095880"/>
            <a:ext cx="6858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3"/>
          <p:cNvSpPr/>
          <p:nvPr/>
        </p:nvSpPr>
        <p:spPr>
          <a:xfrm>
            <a:off x="776160" y="251784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4"/>
          <p:cNvSpPr/>
          <p:nvPr/>
        </p:nvSpPr>
        <p:spPr>
          <a:xfrm>
            <a:off x="776160" y="302724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5"/>
          <p:cNvSpPr/>
          <p:nvPr/>
        </p:nvSpPr>
        <p:spPr>
          <a:xfrm>
            <a:off x="776160" y="356076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6"/>
          <p:cNvSpPr/>
          <p:nvPr/>
        </p:nvSpPr>
        <p:spPr>
          <a:xfrm>
            <a:off x="785880" y="459576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7"/>
          <p:cNvSpPr/>
          <p:nvPr/>
        </p:nvSpPr>
        <p:spPr>
          <a:xfrm>
            <a:off x="785880" y="510552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8"/>
          <p:cNvSpPr/>
          <p:nvPr/>
        </p:nvSpPr>
        <p:spPr>
          <a:xfrm>
            <a:off x="785880" y="563868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9"/>
          <p:cNvSpPr/>
          <p:nvPr/>
        </p:nvSpPr>
        <p:spPr>
          <a:xfrm>
            <a:off x="1179720" y="2070000"/>
            <a:ext cx="175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untos fuer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0"/>
          <p:cNvSpPr/>
          <p:nvPr/>
        </p:nvSpPr>
        <p:spPr>
          <a:xfrm>
            <a:off x="1182960" y="4116240"/>
            <a:ext cx="17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untos déb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3"/>
          <p:cNvSpPr/>
          <p:nvPr/>
        </p:nvSpPr>
        <p:spPr>
          <a:xfrm>
            <a:off x="1143000" y="1955880"/>
            <a:ext cx="6858000" cy="4140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4:23:16Z</dcterms:created>
  <dc:creator>Veronica Virgilio</dc:creator>
  <dc:description/>
  <dc:language>en-US</dc:language>
  <cp:lastModifiedBy>Veronica Virgilio</cp:lastModifiedBy>
  <cp:lastPrinted>2011-11-14T14:55:24Z</cp:lastPrinted>
  <dcterms:modified xsi:type="dcterms:W3CDTF">2011-11-16T12:15:59Z</dcterms:modified>
  <cp:revision>46</cp:revision>
  <dc:subject/>
  <dc:title>Gestión de mi mismo (a)</dc:title>
</cp:coreProperties>
</file>