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4723920" y="456840"/>
            <a:ext cx="175284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5960-7F68-4EA0-AAC8-41532582D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C4EE-B666-4B10-AF84-C8B394AAA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325D-7594-47FE-B2C4-E02749E35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026-7D56-43C0-B05C-92AEACF15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7166-6130-434E-A5F3-4D29F559B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BC2B-228D-4A0C-B7A5-EBE87A03A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BBA-8F8B-4B7F-8369-A599273A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B0E-E854-4F88-8DF4-0680A6CB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A3A-7C75-41D1-9A87-1D09C4AF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CE4-BDAF-40E9-8F91-7B33CCF7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9C2-1E8C-44D5-BF58-BA430795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4A9-620E-4178-8798-7B7B61A5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1DF-760A-459C-AF4E-AACEA5B4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5A5-23CF-407C-A7DA-22C2AC52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DFF-168C-465B-8CA5-618DF050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E00-2A81-42CC-B9DA-22685C41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718-F741-4FA7-9BBC-B513E945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67C-6488-410B-8777-A9EA7D94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9EA4-A544-489E-87DA-F569EA2AD70A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CA48-C7F1-4A3E-AD87-FA3A2EFE63C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rategias para desarrollar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CC-U. de Chi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601-1 Lideraz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f. Verónica Virgili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Gandhi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¿cómo Gandhi</a:t>
            </a:r>
            <a:br>
              <a:rPr sz="2000"/>
            </a:b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construye sentido comparti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Qué te llevas de hoy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2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quello que puedes hac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ueñas que puedes hac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audacia tiene genio, poder y mag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 a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e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áctica 1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fue la experi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fue lo más difícil/fáci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aprendiste de tu grupo? ¿Y de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te evalú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arás diferente la próxima vez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individ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grupos para compartir experi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sentación de cada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é hacen la Gestión y el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 la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 y presupuesta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r y dotar de 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ar la gestión y resolver probl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7960" y="1294920"/>
            <a:ext cx="433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l Lideraz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jar una ori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r visiones y estrateg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sirven a clientes, accionistas y emple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unicando un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endo creíble (por historia,  coherenc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r autonom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r e inspi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tisfacer necesidades de logro, pertenencia, reconocimiento, autoestima, autogestión, valores en a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: El puñ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y 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7 de noviembre  del año 20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be, describe tu vida actual, en tiempo pres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tir en dupl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Cuenta tu visión de futuro, hazla atractiva para tu compañ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Pregunta a tu compañero lo que te parezca necesario para comprender su visión/proyec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visión, una historia de tu futuro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a visión de futur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ura la aten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71800" y="2057400"/>
            <a:ext cx="4686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fo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atrap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ergi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íderes son los individuos más orientados a resultados del mundo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los resultados atraen la atención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mbién captura la atenció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1447920"/>
            <a:ext cx="65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ner atención, interesarse por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noce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resar/conectar con las propias emo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ceptar lo mal hecho, lo medio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17:53Z</dcterms:created>
  <dc:creator>VERONICA VIRGILIO</dc:creator>
  <dc:description/>
  <dc:language>en-US</dc:language>
  <cp:lastModifiedBy>mmm mmm</cp:lastModifiedBy>
  <cp:lastPrinted>2011-11-07T14:34:41Z</cp:lastPrinted>
  <dcterms:modified xsi:type="dcterms:W3CDTF">2011-11-08T03:12:01Z</dcterms:modified>
  <cp:revision>105</cp:revision>
  <dc:subject/>
  <dc:title>No Slide Title</dc:title>
</cp:coreProperties>
</file>