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4723920" y="456840"/>
            <a:ext cx="175284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81B1-7C0B-4B67-99A4-BF92E5DD6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63BD-48C8-4191-BC8D-FC01E28D0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AEC9-E2A7-44CA-9A58-5614CB36F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843F-BCD5-4025-9A21-013F413D8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F3C2-5392-4809-B1C9-85022C1C1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077C-B2C8-47EE-B5F2-1A7DCE427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2D6-8638-4F1A-89DF-EA02BE7C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10B-CC48-411D-8540-9B651611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A20-80D4-4B9A-86C4-5FDF39B6A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85E-0348-43EC-BF1E-4B719924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148B-CB52-4D99-AC2E-E84656B6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242-6101-4DE2-8F2B-AE701FB7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A4E-5A11-4207-83EC-DD307F32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73C-A38F-4BE9-AEAC-790A3DF7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43A-73C0-4B58-9457-27B12531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0788-3A0C-492D-8C2B-19F4C6F2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6FEA-86E1-4730-8F4C-AEB2D63E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18C-0B27-4F77-B3F0-D713502F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1BAC-67F4-45DD-9D06-295183F67713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E658-D465-4E5B-9A41-660712FA989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rategias para desarrollar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CC-U. de Ch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601-1 Lideraz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f. Verónica Virgili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Gandh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¿cómo Gandhi</a:t>
            </a:r>
            <a:br>
              <a:rPr sz="2000"/>
            </a:b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construye sentido comparti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Qué te llevas de hoy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2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quello que puedes ha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eñas que puedes hac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audacia tiene genio, poder y mag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 a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áctica 1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fue la experi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fue lo más difícil/fác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aprendiste de tu grupo? ¿Y de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te evalú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arás diferente la próxima vez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individ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grupos para compartir experi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entación de cada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é hacen la Gestión y el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 la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 y presupuesta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r y dotar de 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ar la gestión y resolver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94920"/>
            <a:ext cx="433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l Lideraz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jar una ori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r visiones y estrateg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irven a clientes, accionistas y emple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unicando un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endo creíble (por historia,  cohere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 autonom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r e inspi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tisfacer necesidades de logro, pertenencia, reconocimiento, autoestima, autogestión, valores en a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: El puñ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7 de noviembre  del año 20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be, describe tu vida actual, en tiempo pres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r en dupl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Cuenta tu visión de futuro, hazla atractiva para tu compañ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regunta a tu compañero lo que te parezca necesario para comprender su visión/proy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visión, una historia de tu futuro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a visión de futur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ura la aten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057400"/>
            <a:ext cx="4686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fo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atra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ergi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íderes son los individuos más orientados a resultados del mundo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los resultados atraen la atención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mbién captura la atenció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447920"/>
            <a:ext cx="65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ner atención, interesarse por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oce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resar/conectar con las propias emo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eptar lo mal hecho, lo medio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17:53Z</dcterms:created>
  <dc:creator>VERONICA VIRGILIO</dc:creator>
  <dc:description/>
  <dc:language>en-US</dc:language>
  <cp:lastModifiedBy>mmm mmm</cp:lastModifiedBy>
  <cp:lastPrinted>2011-11-07T14:34:41Z</cp:lastPrinted>
  <dcterms:modified xsi:type="dcterms:W3CDTF">2011-11-08T03:12:01Z</dcterms:modified>
  <cp:revision>105</cp:revision>
  <dc:subject/>
  <dc:title>No Slide Title</dc:title>
</cp:coreProperties>
</file>