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4723920" y="456840"/>
            <a:ext cx="1752840" cy="131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E09D-564E-4DD6-BFB6-DD84F571E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93D4-1D1C-4769-8125-919F2091F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BC0B-A906-476F-A397-9F9675F73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135C-CBF9-46C5-83D0-0DADD5A777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4D23-94CB-4D3E-AE49-AD65855E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89E0-09E4-4417-96F6-B9356DC97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4724280" y="457200"/>
            <a:ext cx="1752840" cy="1314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5562720" cy="656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DE67-AD63-4A1F-90A1-BB4066CC3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E50-6F08-4A87-A5A7-50E85DE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E8A-70F7-4A6D-A1ED-76F585DA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264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59560" y="160020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8572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264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59560" y="3964320"/>
            <a:ext cx="198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1AD-22ED-4FA5-9F3F-CD9FCD90E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DEE6-3DC0-40F4-804A-F23A5544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0883-56E6-4384-B834-CF70B2EE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7E81-74C4-445D-9DA7-5E55214C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8F5-F443-48DC-BEE1-A4838DD3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60B-8737-4885-82BB-2A84473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1042-7081-4C0B-B351-A901A55D7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8320" y="396432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DEA-E4A0-4A0E-9A1D-ABB8B39D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857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3011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85720" y="3964320"/>
            <a:ext cx="6172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035-8C5F-4D28-A783-DBD07C99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8572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AA2B9-6C22-43D2-BB6F-CE0F74796278}" type="datetime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19B0-21C0-4D67-A785-2D6176638244}" type="slidenum">
              <a:rPr b="0" lang="es-E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0 Imagen" descr="logo DCC FCFM-2.jpg"/>
          <p:cNvPicPr/>
          <p:nvPr/>
        </p:nvPicPr>
        <p:blipFill>
          <a:blip r:embed="rId2"/>
          <a:stretch/>
        </p:blipFill>
        <p:spPr>
          <a:xfrm>
            <a:off x="76320" y="76320"/>
            <a:ext cx="167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rategias para desarrollar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CC-U. de Chi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601-1 Lideraz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f. Verónica Virgilio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  <a:ea typeface="Verdana"/>
              </a:rPr>
              <a:t>Gandhi”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¿cómo Gandhi</a:t>
            </a:r>
            <a:br>
              <a:rPr sz="2000"/>
            </a:br>
            <a:r>
              <a:rPr b="0" lang="es-ES_tradnl" sz="2000" spc="-1" strike="noStrike">
                <a:solidFill>
                  <a:srgbClr val="898989"/>
                </a:solidFill>
                <a:latin typeface="Arial"/>
              </a:rPr>
              <a:t>construye sentido comparti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6562800" y="39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¿Qué te llevas de hoy?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52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quello que puedes hac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 sueñas que puedes hacer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audacia tiene genio, poder y mag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iénzalo aho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et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Práctica 1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98108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fue la experiencia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fue lo más difícil/fácil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aprendiste de tu grupo? ¿Y de ti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Cómo te evalúa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¿Qué harás diferente la próxima vez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individ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Trabajo en grupos para compartir experi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esentación de cada grup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s 4 competencias de los líder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09320" y="1523520"/>
            <a:ext cx="5448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atención de los o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el sentido/significad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 la confian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stionarme a mí mism@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Qué hacen la Gestión y el Liderazg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9492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 la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r y presupuestar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ganizar y dotar de pers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olar la gestión y resolver problem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7960" y="1294920"/>
            <a:ext cx="433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reas del Lideraz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jar una orien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r visiones y estrategi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Que sirven a clientes, accionistas y emplead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linea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municando una vi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iendo creíble (por historia,  coherenci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ar autonomí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tivar e inspi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tisfacer necesidades de logro, pertenencia, reconocimiento, autoestima, autogestión, valores en a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jercicio: El puño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52120" y="16002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y 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7 de noviembre  del año 202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ibe, describe tu vida actual, en tiempo present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tir en dupl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: Cuenta tu visión de futuro, hazla atractiva para tu compañ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da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: Pregunta a tu compañero lo que te parezca necesario para comprender su visión/proyecto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visión, una historia de tu futuro</a:t>
            </a:r>
            <a:endParaRPr b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a visión de futur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tura la atenció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971800" y="2057400"/>
            <a:ext cx="46864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fo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atrap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visión energi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os líderes son los individuos más orientados a resultados del mundo,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y los resultados atraen la atención.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ambién captura la atención: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85720" y="1447920"/>
            <a:ext cx="65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ner atención, interesarse por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onocer a las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resar/conectar con las propias emo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aceptar lo mal hecho, lo medioc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7T14:17:53Z</dcterms:created>
  <dc:creator>VERONICA VIRGILIO</dc:creator>
  <dc:description/>
  <dc:language>en-US</dc:language>
  <cp:lastModifiedBy>mmm mmm</cp:lastModifiedBy>
  <cp:lastPrinted>2011-11-07T14:34:41Z</cp:lastPrinted>
  <dcterms:modified xsi:type="dcterms:W3CDTF">2011-11-08T03:12:01Z</dcterms:modified>
  <cp:revision>105</cp:revision>
  <dc:subject/>
  <dc:title>No Slide Title</dc:title>
</cp:coreProperties>
</file>