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4723920" y="456840"/>
            <a:ext cx="1752840" cy="131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555F-BEE1-4E8C-9193-4E03B7702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5997-B99F-4789-AD3C-70B04AF5B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6246-6CEF-41FE-97D7-C352ADDC8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383B-3AA9-4C6D-A623-508F33A41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90C7-2253-4AE7-A2A1-00A0AA5C4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22B1-5A13-4CC1-A96A-142B2ECB9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83B-A978-4A0A-A7D1-C74B7ACB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019-7359-4D4C-AADE-DC69B964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494-D2C7-48BE-AE29-52CD0D87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438-4B23-4E9C-8ABC-6C13A47B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6F0D-C6AA-46FF-B1C6-3195F032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603-58FC-43AC-A285-995E8EE3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96E-52D5-4DA0-BC6B-E1E53ACB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8C0-E80F-4F8B-BEB1-251F566B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6CC-96E9-4FF1-BBF3-CE560540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706-1D30-40DB-88DC-0AD61D0A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BD6-C9F3-4D9D-9F2B-5ED31DAD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943-4AE7-4E66-B7F8-D02DA0F8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9C82-A8F7-49DF-AA4F-8A0CFE0CF39F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2D18-50DA-4F21-8D95-0FD29C86963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rategias para desarrollar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CC-U. de Chi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601-1 Lideraz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f. Verónica Virgili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Gandhi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¿cómo Gandhi</a:t>
            </a:r>
            <a:br>
              <a:rPr sz="2000"/>
            </a:b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construye sentido compartid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¿Qué te llevas de hoy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52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quello que puedes hac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sueñas que puedes hace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audacia tiene genio, poder y mag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 a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e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áctica 1: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810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fue la experi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fue lo más difícil/fáci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aprendiste de tu grupo? ¿Y de 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te evalú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arás diferente la próxima vez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individ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en grupos para compartir experi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sentación de cada gru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s 4 competencias de los líde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448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atención de los 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el sentido/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me a mí mism@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é hacen la Gestión y el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 la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r y presupuestar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r y dotar de pers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olar la gestión y resolver probl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7960" y="1294920"/>
            <a:ext cx="433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l Lideraz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jar una orien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r visiones y estrategi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sirven a clientes, accionistas y emple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unicando una 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endo creíble (por historia,  coherenci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r autonom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r e inspi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tisfacer necesidades de logro, pertenencia, reconocimiento, autoestima, autogestión, valores en a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: El puñ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5212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y 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7 de noviembre  del año 202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ibe, describe tu vida actual, en tiempo pres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tir en dupla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Cuenta tu visión de futuro, hazla atractiva para tu compañ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 Pregunta a tu compañero lo que te parezca necesario para comprender su visión/proyect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visión, una historia de tu futuro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a visión de futur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tura la atenci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71800" y="2057400"/>
            <a:ext cx="4686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fo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atrap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ergi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líderes son los individuos más orientados a resultados del mundo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los resultados atraen la atención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mbién captura la atenció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1447920"/>
            <a:ext cx="65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ner atención, interesarse por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noce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resar/conectar con las propias emo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ceptar lo mal hecho, lo medioc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4:17:53Z</dcterms:created>
  <dc:creator>VERONICA VIRGILIO</dc:creator>
  <dc:description/>
  <dc:language>en-US</dc:language>
  <cp:lastModifiedBy>mmm mmm</cp:lastModifiedBy>
  <cp:lastPrinted>2011-11-07T14:34:41Z</cp:lastPrinted>
  <dcterms:modified xsi:type="dcterms:W3CDTF">2011-11-08T03:12:01Z</dcterms:modified>
  <cp:revision>105</cp:revision>
  <dc:subject/>
  <dc:title>No Slide Title</dc:title>
</cp:coreProperties>
</file>