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8B283-8B50-45ED-BFD4-14639144BCA1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DBD66-ADCB-4B7E-B327-5FAA02DE558F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CA752-6115-4179-AA40-E6C874F0A83B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329E3-4FCC-46BC-8CC7-A5915D9B8F1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BF321-97BB-45F7-B6F3-BF056F4CDDA6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9D992-6582-41C1-BE59-86F57D8A5E0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1924A-5BF6-44B5-856F-A2618AE26E4B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6C1-2E46-4E43-8AB9-B6F3A46A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58E-D79B-44E6-9D10-298881B3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486-62CC-40C2-93F8-5C322B43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537-70EA-4BFA-9FAA-5AEC4D3F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ECA-BAC9-4B01-B346-CB927AB3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483-E7FC-4B77-A916-D49BB2AD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2F8-CB3C-4A83-9854-563E971B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1CA-2207-4532-BE13-EDE63A45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EF1-42AB-48FC-8ACF-190AEA89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D781-B771-4E27-BE42-228CCBC5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EE9-3B63-4519-94F4-E0D4A5E5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CD7-FE94-4A46-B161-DB2015F9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DBF72-E1BD-4A3B-93FF-360B4B292E68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38474-7B68-4B7C-9C45-5FEAAB2C28B3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lícula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ictus, Clint East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erest, Rodrigo Jord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dhi, Richard Attenb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lly Elliot, Stephen Dal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ros de fuego, Hugh Hud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azón Valiente, Mel Gib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uadroTexto 17"/>
          <p:cNvSpPr/>
          <p:nvPr/>
        </p:nvSpPr>
        <p:spPr>
          <a:xfrm>
            <a:off x="720720" y="25146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adroTexto 18"/>
          <p:cNvSpPr/>
          <p:nvPr/>
        </p:nvSpPr>
        <p:spPr>
          <a:xfrm>
            <a:off x="720720" y="40384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quema de contenidos del curs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10"/>
          <p:cNvSpPr/>
          <p:nvPr/>
        </p:nvSpPr>
        <p:spPr>
          <a:xfrm>
            <a:off x="308304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adroTexto 11"/>
          <p:cNvSpPr/>
          <p:nvPr/>
        </p:nvSpPr>
        <p:spPr>
          <a:xfrm>
            <a:off x="506412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adroTexto 9"/>
          <p:cNvSpPr/>
          <p:nvPr/>
        </p:nvSpPr>
        <p:spPr>
          <a:xfrm>
            <a:off x="3273480" y="5181480"/>
            <a:ext cx="327672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entágono regular 16"/>
          <p:cNvSpPr/>
          <p:nvPr/>
        </p:nvSpPr>
        <p:spPr>
          <a:xfrm>
            <a:off x="2473200" y="25146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adroTexto 22"/>
          <p:cNvSpPr/>
          <p:nvPr/>
        </p:nvSpPr>
        <p:spPr>
          <a:xfrm>
            <a:off x="2656440" y="182880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d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Agrupar 20"/>
          <p:cNvGrpSpPr/>
          <p:nvPr/>
        </p:nvGrpSpPr>
        <p:grpSpPr>
          <a:xfrm>
            <a:off x="3150360" y="2155680"/>
            <a:ext cx="2561400" cy="1730520"/>
            <a:chOff x="3150360" y="2155680"/>
            <a:chExt cx="2561400" cy="1730520"/>
          </a:xfrm>
        </p:grpSpPr>
        <p:sp>
          <p:nvSpPr>
            <p:cNvPr id="60" name="CuadroTexto 13"/>
            <p:cNvSpPr/>
            <p:nvPr/>
          </p:nvSpPr>
          <p:spPr>
            <a:xfrm>
              <a:off x="4111560" y="3048120"/>
              <a:ext cx="160020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b6d9"/>
                </a:gs>
                <a:gs pos="100000">
                  <a:srgbClr val="ffffff"/>
                </a:gs>
              </a:gsLst>
              <a:lin ang="16020000"/>
            </a:gradFill>
            <a:ln w="9360">
              <a:solidFill>
                <a:srgbClr val="bfbfb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Visión, rumbo,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foco en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Imagen 15" descr="ArrowUp.png"/>
            <p:cNvPicPr/>
            <p:nvPr/>
          </p:nvPicPr>
          <p:blipFill>
            <a:blip r:embed="rId1"/>
            <a:stretch/>
          </p:blipFill>
          <p:spPr>
            <a:xfrm rot="8177400">
              <a:off x="3333240" y="2277360"/>
              <a:ext cx="67392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18960" y="1294920"/>
            <a:ext cx="651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prender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sarrollar 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racticar nuevas conductas y maneras de mir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Mediante reflexión personal y grupal, 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acticar semanal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señando a otros lo aprendido en cla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formar tu reflexión y auto observ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cibir 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guir practicando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Agrupar 6"/>
          <p:cNvGrpSpPr/>
          <p:nvPr/>
        </p:nvGrpSpPr>
        <p:grpSpPr>
          <a:xfrm>
            <a:off x="7276680" y="4405320"/>
            <a:ext cx="1143360" cy="1193400"/>
            <a:chOff x="7276680" y="4405320"/>
            <a:chExt cx="1143360" cy="1193400"/>
          </a:xfrm>
        </p:grpSpPr>
        <p:sp>
          <p:nvSpPr>
            <p:cNvPr id="68" name="Flecha circular 3"/>
            <p:cNvSpPr/>
            <p:nvPr/>
          </p:nvSpPr>
          <p:spPr>
            <a:xfrm>
              <a:off x="7277040" y="440532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lecha circular 4"/>
            <p:cNvSpPr/>
            <p:nvPr/>
          </p:nvSpPr>
          <p:spPr>
            <a:xfrm flipH="1" flipV="1">
              <a:off x="7276320" y="455688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de las cl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524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inicial: desconectar/conec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lexión grupal de torno a pr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ación de 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s prácticos/experiencia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áctica de presen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ctividades a realiz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7652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se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clases en jueves, de 14 a 16.45 h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lleres de día complet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taller de 9 a 18 hrs., sábado 29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áctica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prácticas a realizar e informar en la se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94920" y="12952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sitos de aprob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80% asistencia a clases/tall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de 7 prácticas realizadas e informadas en l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ic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idad de los informes entregad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cipación en cla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951280" y="57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to infor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magen 3" descr="Formato informes CC5610.pdf"/>
          <p:cNvPicPr/>
          <p:nvPr/>
        </p:nvPicPr>
        <p:blipFill>
          <a:blip r:embed="rId1"/>
          <a:srcRect l="6012" t="5215" r="3187" b="0"/>
          <a:stretch/>
        </p:blipFill>
        <p:spPr>
          <a:xfrm>
            <a:off x="2438280" y="914400"/>
            <a:ext cx="4343400" cy="5867280"/>
          </a:xfrm>
          <a:prstGeom prst="rect">
            <a:avLst/>
          </a:prstGeom>
          <a:ln w="324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tore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85720" y="1600200"/>
            <a:ext cx="689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Warren Bennis, “Líde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ed Kofman, “Meta manag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niel Goleman, “La inteligencia emocional”, “El líder resonan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oseph O´Connor, “Coaching y PNL”, “PNL para directivos”,  “Introducción al pensamiento sistém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ny Buzan, “La inteligencia del líder”, “La inteligencia soci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rvard Business Review, artíc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00Z</dcterms:created>
  <dc:creator>vvirgilio</dc:creator>
  <dc:description/>
  <dc:language>en-US</dc:language>
  <cp:lastModifiedBy>Veronica Virgilio</cp:lastModifiedBy>
  <dcterms:modified xsi:type="dcterms:W3CDTF">2011-10-25T12:53:45Z</dcterms:modified>
  <cp:revision>22</cp:revision>
  <dc:subject/>
  <dc:title>Diapositiva 1</dc:title>
</cp:coreProperties>
</file>