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E3D74-0B5C-4433-91CA-B77DB21B4AC1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650BE-1B16-454F-866D-C3720CB0A2AB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8808B-043C-4746-8899-9FCD9C1373D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C5865-B3A9-491F-9873-87E3D163FAE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E4FFC-A08F-4CF9-99EA-F238E805C591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DD207-4D66-42BA-A08D-99C11D04FFF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A8424-81BE-4223-B47D-90D1C768B598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B1A-E63F-4765-99B8-DA28CDE1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37D-FD42-445B-9E88-3E2320FD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07EC-F98C-41E5-8D90-1D6644FA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32F-8B08-4E2F-A745-B1FD0D39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F48-6F71-4184-A4B2-4508EC2E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856-81F6-4C34-84CA-E32701B0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3D81-CEB8-4BF0-A61F-04909191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702-511D-4578-BE64-CC7DFF63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539-0926-4589-A7F5-9A973004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49FA-DBAB-4327-B0BC-0DF0B750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7C9-F818-4270-93BD-42D4FB20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997-49B8-4FBB-A6FE-8D8F4643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530B0-C0F6-495D-B157-61A7ABE1D46B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5182C-4094-44A8-A927-2EDDD9C494E1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virgilio@m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vvirgilio@m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1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vvirgilio@ma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lículas de refe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ictus, Clint East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erest, Rodrigo Jord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dhi, Richard Attenbo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lly Elliot, Stephen Dal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ros de fuego, Hugh Hud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azón Valiente, Mel Gib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1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vvirgilio@ma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uadroTexto 17"/>
          <p:cNvSpPr/>
          <p:nvPr/>
        </p:nvSpPr>
        <p:spPr>
          <a:xfrm>
            <a:off x="720720" y="2514600"/>
            <a:ext cx="6746760" cy="1447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Arial Black"/>
                <a:ea typeface="Arial Black"/>
              </a:rPr>
              <a:t>Lo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adroTexto 18"/>
          <p:cNvSpPr/>
          <p:nvPr/>
        </p:nvSpPr>
        <p:spPr>
          <a:xfrm>
            <a:off x="720720" y="4038480"/>
            <a:ext cx="6746760" cy="2438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7f7f7f"/>
                </a:solidFill>
                <a:latin typeface="Arial Black"/>
                <a:ea typeface="Arial Black"/>
              </a:rPr>
              <a:t>Lo pro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quema de contenidos del curs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Texto 10"/>
          <p:cNvSpPr/>
          <p:nvPr/>
        </p:nvSpPr>
        <p:spPr>
          <a:xfrm>
            <a:off x="3083040" y="39625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r signific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 l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adroTexto 11"/>
          <p:cNvSpPr/>
          <p:nvPr/>
        </p:nvSpPr>
        <p:spPr>
          <a:xfrm>
            <a:off x="5064120" y="39625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struir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fianz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n mi, en ot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adroTexto 9"/>
          <p:cNvSpPr/>
          <p:nvPr/>
        </p:nvSpPr>
        <p:spPr>
          <a:xfrm>
            <a:off x="3273480" y="5181480"/>
            <a:ext cx="327672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estionarme 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mi mism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entágono regular 16"/>
          <p:cNvSpPr/>
          <p:nvPr/>
        </p:nvSpPr>
        <p:spPr>
          <a:xfrm>
            <a:off x="2473200" y="2514600"/>
            <a:ext cx="4876920" cy="396252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adroTexto 22"/>
          <p:cNvSpPr/>
          <p:nvPr/>
        </p:nvSpPr>
        <p:spPr>
          <a:xfrm>
            <a:off x="2656440" y="182880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de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Agrupar 20"/>
          <p:cNvGrpSpPr/>
          <p:nvPr/>
        </p:nvGrpSpPr>
        <p:grpSpPr>
          <a:xfrm>
            <a:off x="3150360" y="2155680"/>
            <a:ext cx="2561400" cy="1730520"/>
            <a:chOff x="3150360" y="2155680"/>
            <a:chExt cx="2561400" cy="1730520"/>
          </a:xfrm>
        </p:grpSpPr>
        <p:sp>
          <p:nvSpPr>
            <p:cNvPr id="60" name="CuadroTexto 13"/>
            <p:cNvSpPr/>
            <p:nvPr/>
          </p:nvSpPr>
          <p:spPr>
            <a:xfrm>
              <a:off x="4111560" y="3048120"/>
              <a:ext cx="160020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b6d9"/>
                </a:gs>
                <a:gs pos="100000">
                  <a:srgbClr val="ffffff"/>
                </a:gs>
              </a:gsLst>
              <a:lin ang="16020000"/>
            </a:gradFill>
            <a:ln w="9360">
              <a:solidFill>
                <a:srgbClr val="bfbfb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Visión, rumbo,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foco en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Imagen 15" descr="ArrowUp.png"/>
            <p:cNvPicPr/>
            <p:nvPr/>
          </p:nvPicPr>
          <p:blipFill>
            <a:blip r:embed="rId1"/>
            <a:stretch/>
          </p:blipFill>
          <p:spPr>
            <a:xfrm rot="8177400">
              <a:off x="3333240" y="2277360"/>
              <a:ext cx="67392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entágono regular 3"/>
          <p:cNvSpPr/>
          <p:nvPr/>
        </p:nvSpPr>
        <p:spPr>
          <a:xfrm>
            <a:off x="1828800" y="1447920"/>
            <a:ext cx="5715000" cy="434340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etencias a desarrol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90560" y="23619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etencias emociona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atenció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el significad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me a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18960" y="1294920"/>
            <a:ext cx="651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prender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sarrollar 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racticar nuevas conductas y maneras de mir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Mediante reflexión personal y grupal, 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acticar semanal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señando a otros lo aprendido en clas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formar tu reflexión y auto observ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cibir retroaliment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guir practicando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Agrupar 6"/>
          <p:cNvGrpSpPr/>
          <p:nvPr/>
        </p:nvGrpSpPr>
        <p:grpSpPr>
          <a:xfrm>
            <a:off x="7276680" y="4405320"/>
            <a:ext cx="1143360" cy="1193400"/>
            <a:chOff x="7276680" y="4405320"/>
            <a:chExt cx="1143360" cy="1193400"/>
          </a:xfrm>
        </p:grpSpPr>
        <p:sp>
          <p:nvSpPr>
            <p:cNvPr id="68" name="Flecha circular 3"/>
            <p:cNvSpPr/>
            <p:nvPr/>
          </p:nvSpPr>
          <p:spPr>
            <a:xfrm>
              <a:off x="7277040" y="4405320"/>
              <a:ext cx="1143000" cy="10414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lecha circular 4"/>
            <p:cNvSpPr/>
            <p:nvPr/>
          </p:nvSpPr>
          <p:spPr>
            <a:xfrm flipH="1" flipV="1">
              <a:off x="7276320" y="4556880"/>
              <a:ext cx="1143000" cy="10414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 de las cl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524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 inicial: desconectar/conec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lexión grupal de torno a prác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ación de 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s prácticos/experiencia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áctica de presen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ctividades a realiz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7652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ses sem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 clases en jueves, de 14 a 16.45 h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lleres de día complet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taller de 9 a 18 hrs., sábado 29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ácticas sem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 prácticas a realizar e informar en la se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roba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94920" y="12952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sitos de aprob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80% asistencia a clases/tall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de 7 prácticas realizadas e informadas en l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fic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idad de los informes entregado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ticipación en cla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951280" y="57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to infor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magen 3" descr="Formato informes CC5610.pdf"/>
          <p:cNvPicPr/>
          <p:nvPr/>
        </p:nvPicPr>
        <p:blipFill>
          <a:blip r:embed="rId1"/>
          <a:srcRect l="6012" t="5215" r="3187" b="0"/>
          <a:stretch/>
        </p:blipFill>
        <p:spPr>
          <a:xfrm>
            <a:off x="2438280" y="914400"/>
            <a:ext cx="4343400" cy="5867280"/>
          </a:xfrm>
          <a:prstGeom prst="rect">
            <a:avLst/>
          </a:prstGeom>
          <a:ln w="324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tores de refe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85720" y="1600200"/>
            <a:ext cx="689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Warren Bennis, “Líde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red Kofman, “Meta manag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niel Goleman, “La inteligencia emocional”, “El líder resonan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oseph O´Connor, “Coaching y PNL”, “PNL para directivos”,  “Introducción al pensamiento sistémi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ny Buzan, “La inteligencia del líder”, “La inteligencia soci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rvard Business Review, artíc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44:00Z</dcterms:created>
  <dc:creator>vvirgilio</dc:creator>
  <dc:description/>
  <dc:language>en-US</dc:language>
  <cp:lastModifiedBy>Veronica Virgilio</cp:lastModifiedBy>
  <dcterms:modified xsi:type="dcterms:W3CDTF">2011-10-25T12:53:45Z</dcterms:modified>
  <cp:revision>22</cp:revision>
  <dc:subject/>
  <dc:title>Diapositiva 1</dc:title>
</cp:coreProperties>
</file>