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7EF3A-6846-4EFC-B9B4-390279541E31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DE2CA-70FE-4D8E-A4F7-E508A46AC8B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5CA5A-0193-41F0-98C3-5882F2E8E1F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06FC6-AE51-4712-95B9-1FBAE57E162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527FD-EBD7-48E7-A2D4-F96625B313E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A5C15-2004-45BD-9728-190C85AEDFD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C8B53-15E0-41D2-BDE4-68AF79ADD8A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D18-C213-490F-A55F-0C901A2E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68F-BFEF-4D8D-85BB-D58D5453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994-C034-47D4-AF40-E70A1FAB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61A-F547-4C85-B603-73147844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73A-03C3-46D3-8C3F-2DA268B5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040-AFF2-458E-A334-B0E59EB0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495-EF1A-4261-AF7D-1EB01E15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7C9-133A-4C96-91D8-EFDEAF2E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F11-234D-4360-B852-65D68785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FBF-DA15-4AA9-9A2D-6D7218A9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ABB-A91D-44A0-ACE9-624CFC68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CB9-D5C1-4BA4-9EFD-A8B542C0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2B69C-A42A-4237-A3A4-CF3C6FC41C47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5FA12-59DF-4B16-9C80-736E44FCDD8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ícula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ictus, Clint East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rest, Rodrigo Jord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dhi, Richard Atten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ly Elliot, Stephen Dal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ros de fuego, Hugh Hu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azón Valiente, Mel Gi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adroTexto 17"/>
          <p:cNvSpPr/>
          <p:nvPr/>
        </p:nvSpPr>
        <p:spPr>
          <a:xfrm>
            <a:off x="720720" y="25146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Texto 18"/>
          <p:cNvSpPr/>
          <p:nvPr/>
        </p:nvSpPr>
        <p:spPr>
          <a:xfrm>
            <a:off x="720720" y="40384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ma de contenidos del cur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10"/>
          <p:cNvSpPr/>
          <p:nvPr/>
        </p:nvSpPr>
        <p:spPr>
          <a:xfrm>
            <a:off x="308304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11"/>
          <p:cNvSpPr/>
          <p:nvPr/>
        </p:nvSpPr>
        <p:spPr>
          <a:xfrm>
            <a:off x="506412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Texto 9"/>
          <p:cNvSpPr/>
          <p:nvPr/>
        </p:nvSpPr>
        <p:spPr>
          <a:xfrm>
            <a:off x="3273480" y="5181480"/>
            <a:ext cx="32767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ágono regular 16"/>
          <p:cNvSpPr/>
          <p:nvPr/>
        </p:nvSpPr>
        <p:spPr>
          <a:xfrm>
            <a:off x="2473200" y="25146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22"/>
          <p:cNvSpPr/>
          <p:nvPr/>
        </p:nvSpPr>
        <p:spPr>
          <a:xfrm>
            <a:off x="2656440" y="182880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Agrupar 20"/>
          <p:cNvGrpSpPr/>
          <p:nvPr/>
        </p:nvGrpSpPr>
        <p:grpSpPr>
          <a:xfrm>
            <a:off x="3150360" y="2155680"/>
            <a:ext cx="2561400" cy="1730520"/>
            <a:chOff x="3150360" y="2155680"/>
            <a:chExt cx="2561400" cy="1730520"/>
          </a:xfrm>
        </p:grpSpPr>
        <p:sp>
          <p:nvSpPr>
            <p:cNvPr id="60" name="CuadroTexto 13"/>
            <p:cNvSpPr/>
            <p:nvPr/>
          </p:nvSpPr>
          <p:spPr>
            <a:xfrm>
              <a:off x="4111560" y="3048120"/>
              <a:ext cx="1600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6d9"/>
                </a:gs>
                <a:gs pos="100000">
                  <a:srgbClr val="ffffff"/>
                </a:gs>
              </a:gsLst>
              <a:lin ang="16020000"/>
            </a:gradFill>
            <a:ln w="9360">
              <a:solidFill>
                <a:srgbClr val="bfbfb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sión, rumbo,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foco en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Imagen 15" descr="ArrowUp.png"/>
            <p:cNvPicPr/>
            <p:nvPr/>
          </p:nvPicPr>
          <p:blipFill>
            <a:blip r:embed="rId1"/>
            <a:stretch/>
          </p:blipFill>
          <p:spPr>
            <a:xfrm rot="8177400">
              <a:off x="3333240" y="2277360"/>
              <a:ext cx="673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8960" y="1294920"/>
            <a:ext cx="65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sarrollar 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racticar nuevas conductas y maneras de mir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ediante reflexión personal y grupal,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acticar seman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señando a otros lo aprendido en cl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formar tu reflexión y auto observ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cibir 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guir practicando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grupar 6"/>
          <p:cNvGrpSpPr/>
          <p:nvPr/>
        </p:nvGrpSpPr>
        <p:grpSpPr>
          <a:xfrm>
            <a:off x="7276680" y="4405320"/>
            <a:ext cx="1143360" cy="1193400"/>
            <a:chOff x="7276680" y="4405320"/>
            <a:chExt cx="1143360" cy="1193400"/>
          </a:xfrm>
        </p:grpSpPr>
        <p:sp>
          <p:nvSpPr>
            <p:cNvPr id="68" name="Flecha circular 3"/>
            <p:cNvSpPr/>
            <p:nvPr/>
          </p:nvSpPr>
          <p:spPr>
            <a:xfrm>
              <a:off x="7277040" y="440532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lecha circular 4"/>
            <p:cNvSpPr/>
            <p:nvPr/>
          </p:nvSpPr>
          <p:spPr>
            <a:xfrm flipH="1" flipV="1">
              <a:off x="7276320" y="455688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las cl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4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inicial: desconectar/con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lexión grupal de torno a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ción de 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prácticos/experienci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 de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76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clases en jueves, de 14 a 16.45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leres de día comple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taller de 9 a 18 hrs., sábado 29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áctica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prácticas a realizar e informar en la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4920" y="12952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 de aprob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0% asistencia a clases/tall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de 7 prácticas realizadas e informadas en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dad de los informes entregad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ción en cl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951280" y="57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to infor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n 3" descr="Formato informes CC5610.pdf"/>
          <p:cNvPicPr/>
          <p:nvPr/>
        </p:nvPicPr>
        <p:blipFill>
          <a:blip r:embed="rId1"/>
          <a:srcRect l="6012" t="5215" r="3187" b="0"/>
          <a:stretch/>
        </p:blipFill>
        <p:spPr>
          <a:xfrm>
            <a:off x="2438280" y="914400"/>
            <a:ext cx="4343400" cy="5867280"/>
          </a:xfrm>
          <a:prstGeom prst="rect">
            <a:avLst/>
          </a:prstGeom>
          <a:ln w="324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tore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85720" y="1600200"/>
            <a:ext cx="68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arren Bennis, “Líde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ed Kofman, “Meta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niel Goleman, “La inteligencia emocional”, “El líder resona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oseph O´Connor, “Coaching y PNL”, “PNL para directivos”,  “Introducción al pensamiento sistém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ny Buzan, “La inteligencia del líder”, “La inteligencia soc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vard Business Review, art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00Z</dcterms:created>
  <dc:creator>vvirgilio</dc:creator>
  <dc:description/>
  <dc:language>en-US</dc:language>
  <cp:lastModifiedBy>Veronica Virgilio</cp:lastModifiedBy>
  <dcterms:modified xsi:type="dcterms:W3CDTF">2011-10-25T12:53:45Z</dcterms:modified>
  <cp:revision>22</cp:revision>
  <dc:subject/>
  <dc:title>Diapositiva 1</dc:title>
</cp:coreProperties>
</file>