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41DF4D-1FF8-4889-8294-127A8C5DFF9F}" type="datetime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76DD3F-45AC-49EB-B934-E0C9090664A3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03BFFD-EB6B-4752-91AD-6526CE77B41A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177F01-0343-40FA-A5A5-BAD2387A2F10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468385-A12C-4752-AC1A-33355D847568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DDC1F3-1327-44A4-A467-5B9F19C32DA1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2AAEE4-3945-465F-B007-08053A3784D3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5564-83AB-4AF1-97A2-E257299BF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85720" y="160020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85720" y="396432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842F-A850-4EA5-B642-15A19B2E2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85720" y="16002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85720" y="39643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8320" y="39643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6257-74C1-48E1-8669-E5E0AA135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85720" y="16002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72640" y="16002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59560" y="16002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85720" y="396432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72640" y="396432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59560" y="396432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C5A8-F64A-4465-AE53-7CDB7713F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85720" y="16002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2717-5401-4959-8ED1-7BE55DCE9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85720" y="16002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DE06-4A83-422E-82D2-A798BF60D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85720" y="16002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3CAB-9FB2-4973-92C0-7813F1AB7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4031-D074-4B92-BB8C-421115727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14040" y="60912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952A-50B1-4FB9-B2C7-481A4B29E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85720" y="16002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85720" y="39643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F906-83BC-4926-9DA6-30683EABB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85720" y="16002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8320" y="39643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85F1-C4A1-43CE-93DA-4B1AE947A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85720" y="16002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85720" y="396432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5ECF-2714-483C-B6C0-8A8C2301A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85720" y="16002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37D8C4-0232-4AF8-B158-0196D691AF2B}" type="datetime">
              <a:rPr b="0" lang="es-ES_tradnl" sz="1200" spc="-1" strike="noStrike">
                <a:solidFill>
                  <a:srgbClr val="898989"/>
                </a:solidFill>
                <a:latin typeface="Arial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74A824-7D98-4EF5-8400-4D4A0E3AD7D5}" type="slidenum">
              <a:rPr b="0" lang="es-ES_trad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0 Imagen" descr="logo DCC FCFM-2.jpg"/>
          <p:cNvPicPr/>
          <p:nvPr/>
        </p:nvPicPr>
        <p:blipFill>
          <a:blip r:embed="rId2"/>
          <a:stretch/>
        </p:blipFill>
        <p:spPr>
          <a:xfrm>
            <a:off x="76320" y="76320"/>
            <a:ext cx="1671480" cy="542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vvirgilio@mac.com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mailto:vvirgilio@mac.com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78040" y="2133360"/>
            <a:ext cx="5587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niversidad de Chile – CC 560-1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Liderazgo </a:t>
            </a:r>
            <a:br>
              <a:rPr sz="2100"/>
            </a:br>
            <a:br>
              <a:rPr sz="2100"/>
            </a:br>
            <a:br>
              <a:rPr sz="1200"/>
            </a:b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2678040" y="3581280"/>
            <a:ext cx="37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Verónica Virgilio</a:t>
            </a:r>
            <a:br>
              <a:rPr sz="1400"/>
            </a:br>
            <a:r>
              <a:rPr b="0" lang="en-US" sz="1100" spc="-1" strike="noStrike" u="sng">
                <a:solidFill>
                  <a:srgbClr val="0000ff"/>
                </a:solidFill>
                <a:uFillTx/>
                <a:latin typeface="Verdana"/>
                <a:hlinkClick r:id="rId1"/>
              </a:rPr>
              <a:t>vvirgilio@mac.co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lículas de referenci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485720" y="16002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victus, Clint Eastw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verest, Rodrigo Jordá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Gandhi, Richard Attenborou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Billy Elliot, Stephen Dald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arros de fuego, Hugh Hud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razón Valiente, Mel Gib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78040" y="2133360"/>
            <a:ext cx="5587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niversidad de Chile – CC 560-1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Liderazgo </a:t>
            </a:r>
            <a:br>
              <a:rPr sz="2100"/>
            </a:br>
            <a:br>
              <a:rPr sz="2100"/>
            </a:br>
            <a:br>
              <a:rPr sz="1200"/>
            </a:b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2678040" y="3581280"/>
            <a:ext cx="37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Verónica Virgilio</a:t>
            </a:r>
            <a:br>
              <a:rPr sz="1400"/>
            </a:br>
            <a:r>
              <a:rPr b="0" lang="en-US" sz="1100" spc="-1" strike="noStrike" u="sng">
                <a:solidFill>
                  <a:srgbClr val="0000ff"/>
                </a:solidFill>
                <a:uFillTx/>
                <a:latin typeface="Verdana"/>
                <a:hlinkClick r:id="rId1"/>
              </a:rPr>
              <a:t>vvirgilio@mac.co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CuadroTexto 17"/>
          <p:cNvSpPr/>
          <p:nvPr/>
        </p:nvSpPr>
        <p:spPr>
          <a:xfrm>
            <a:off x="720720" y="2514600"/>
            <a:ext cx="6746760" cy="144792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948a54"/>
                </a:solidFill>
                <a:latin typeface="Arial Black"/>
                <a:ea typeface="Arial Black"/>
              </a:rPr>
              <a:t>Lo vi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CuadroTexto 18"/>
          <p:cNvSpPr/>
          <p:nvPr/>
        </p:nvSpPr>
        <p:spPr>
          <a:xfrm>
            <a:off x="720720" y="4038480"/>
            <a:ext cx="6746760" cy="243864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7f7f7f"/>
                </a:solidFill>
                <a:latin typeface="Arial Black"/>
                <a:ea typeface="Arial Black"/>
              </a:rPr>
              <a:t>Lo profun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quema de contenidos del curs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CuadroTexto 10"/>
          <p:cNvSpPr/>
          <p:nvPr/>
        </p:nvSpPr>
        <p:spPr>
          <a:xfrm>
            <a:off x="3083040" y="3962520"/>
            <a:ext cx="160020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b6d9"/>
              </a:gs>
              <a:gs pos="100000">
                <a:srgbClr val="ffffff"/>
              </a:gs>
            </a:gsLst>
            <a:lin ang="16020000"/>
          </a:gradFill>
          <a:ln w="9360">
            <a:solidFill>
              <a:srgbClr val="bfbfbf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Dar significado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a la a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CuadroTexto 11"/>
          <p:cNvSpPr/>
          <p:nvPr/>
        </p:nvSpPr>
        <p:spPr>
          <a:xfrm>
            <a:off x="5064120" y="3962520"/>
            <a:ext cx="160020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b6d9"/>
              </a:gs>
              <a:gs pos="100000">
                <a:srgbClr val="ffffff"/>
              </a:gs>
            </a:gsLst>
            <a:lin ang="16020000"/>
          </a:gradFill>
          <a:ln w="9360">
            <a:solidFill>
              <a:srgbClr val="bfbfbf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Construir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confianza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en mi, en otro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CuadroTexto 9"/>
          <p:cNvSpPr/>
          <p:nvPr/>
        </p:nvSpPr>
        <p:spPr>
          <a:xfrm>
            <a:off x="3273480" y="5181480"/>
            <a:ext cx="3276720" cy="1067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b6d9"/>
              </a:gs>
              <a:gs pos="100000">
                <a:srgbClr val="ffffff"/>
              </a:gs>
            </a:gsLst>
            <a:lin ang="16020000"/>
          </a:gradFill>
          <a:ln w="9360">
            <a:solidFill>
              <a:srgbClr val="bfbfbf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Gestionarme a 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mi mism@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entágono regular 16"/>
          <p:cNvSpPr/>
          <p:nvPr/>
        </p:nvSpPr>
        <p:spPr>
          <a:xfrm>
            <a:off x="2473200" y="2514600"/>
            <a:ext cx="4876920" cy="3962520"/>
          </a:xfrm>
          <a:prstGeom prst="pentagon">
            <a:avLst/>
          </a:prstGeom>
          <a:noFill/>
          <a:ln w="7632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CuadroTexto 22"/>
          <p:cNvSpPr/>
          <p:nvPr/>
        </p:nvSpPr>
        <p:spPr>
          <a:xfrm>
            <a:off x="2656440" y="1828800"/>
            <a:ext cx="92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ider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Agrupar 20"/>
          <p:cNvGrpSpPr/>
          <p:nvPr/>
        </p:nvGrpSpPr>
        <p:grpSpPr>
          <a:xfrm>
            <a:off x="3150360" y="2155680"/>
            <a:ext cx="2561400" cy="1730520"/>
            <a:chOff x="3150360" y="2155680"/>
            <a:chExt cx="2561400" cy="1730520"/>
          </a:xfrm>
        </p:grpSpPr>
        <p:sp>
          <p:nvSpPr>
            <p:cNvPr id="60" name="CuadroTexto 13"/>
            <p:cNvSpPr/>
            <p:nvPr/>
          </p:nvSpPr>
          <p:spPr>
            <a:xfrm>
              <a:off x="4111560" y="3048120"/>
              <a:ext cx="1600200" cy="838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5b6d9"/>
                </a:gs>
                <a:gs pos="100000">
                  <a:srgbClr val="ffffff"/>
                </a:gs>
              </a:gsLst>
              <a:lin ang="16020000"/>
            </a:gradFill>
            <a:ln w="9360">
              <a:solidFill>
                <a:srgbClr val="bfbfbf"/>
              </a:solidFill>
              <a:miter/>
            </a:ln>
            <a:effectLst>
              <a:outerShdw dist="20160" dir="5400000" blurRad="0" rotWithShape="0">
                <a:srgbClr val="80808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alibri"/>
                </a:rPr>
                <a:t>Visión, rumbo,</a:t>
              </a:r>
              <a:br>
                <a:rPr sz="1800"/>
              </a:br>
              <a:r>
                <a:rPr b="0" lang="es-ES_tradnl" sz="1800" spc="-1" strike="noStrike">
                  <a:solidFill>
                    <a:srgbClr val="000000"/>
                  </a:solidFill>
                  <a:latin typeface="Calibri"/>
                </a:rPr>
                <a:t>foco en</a:t>
              </a:r>
              <a:br>
                <a:rPr sz="1800"/>
              </a:br>
              <a:r>
                <a:rPr b="0" lang="es-ES_tradnl" sz="1800" spc="-1" strike="noStrike">
                  <a:solidFill>
                    <a:srgbClr val="000000"/>
                  </a:solidFill>
                  <a:latin typeface="Calibri"/>
                </a:rPr>
                <a:t>resulta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" name="Imagen 15" descr="ArrowUp.png"/>
            <p:cNvPicPr/>
            <p:nvPr/>
          </p:nvPicPr>
          <p:blipFill>
            <a:blip r:embed="rId1"/>
            <a:stretch/>
          </p:blipFill>
          <p:spPr>
            <a:xfrm rot="8177400">
              <a:off x="3333240" y="2277360"/>
              <a:ext cx="673920" cy="800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entágono regular 3"/>
          <p:cNvSpPr/>
          <p:nvPr/>
        </p:nvSpPr>
        <p:spPr>
          <a:xfrm>
            <a:off x="1828800" y="1447920"/>
            <a:ext cx="5715000" cy="4343400"/>
          </a:xfrm>
          <a:prstGeom prst="pentagon">
            <a:avLst/>
          </a:prstGeom>
          <a:noFill/>
          <a:ln w="7632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ompetencias a desarrolla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2590560" y="2361960"/>
            <a:ext cx="42670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spcAft>
                <a:spcPts val="601"/>
              </a:spcAft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mpetencias emocionales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l Liderazg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spcAft>
                <a:spcPts val="601"/>
              </a:spcAft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Gestionar la atención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 través de la vis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spcAft>
                <a:spcPts val="601"/>
              </a:spcAft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Gestionar el significado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 través de la comunic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spcAft>
                <a:spcPts val="601"/>
              </a:spcAft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Gestionar la confian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spcAft>
                <a:spcPts val="601"/>
              </a:spcAft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Gestionarme a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spcAft>
                <a:spcPts val="601"/>
              </a:spcAft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Méto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218960" y="1294920"/>
            <a:ext cx="6514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Aprender </a:t>
            </a:r>
            <a:r>
              <a:rPr b="0" lang="es-ES_tradnl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 desarrollar competenci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Practicar nuevas conductas y maneras de mira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Mediante reflexión personal y grupal, y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Retroalimentació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Practicar semanalmen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Enseñando a otros lo aprendido en clas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Informar tu reflexión y auto observació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Recibir retroalimentació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Seguir practicando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Agrupar 6"/>
          <p:cNvGrpSpPr/>
          <p:nvPr/>
        </p:nvGrpSpPr>
        <p:grpSpPr>
          <a:xfrm>
            <a:off x="7276680" y="4405320"/>
            <a:ext cx="1143360" cy="1193400"/>
            <a:chOff x="7276680" y="4405320"/>
            <a:chExt cx="1143360" cy="1193400"/>
          </a:xfrm>
        </p:grpSpPr>
        <p:sp>
          <p:nvSpPr>
            <p:cNvPr id="68" name="Flecha circular 3"/>
            <p:cNvSpPr/>
            <p:nvPr/>
          </p:nvSpPr>
          <p:spPr>
            <a:xfrm>
              <a:off x="7277040" y="4405320"/>
              <a:ext cx="1143000" cy="1041480"/>
            </a:xfrm>
            <a:prstGeom prst="pi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lecha circular 4"/>
            <p:cNvSpPr/>
            <p:nvPr/>
          </p:nvSpPr>
          <p:spPr>
            <a:xfrm flipH="1" flipV="1">
              <a:off x="7276320" y="4556880"/>
              <a:ext cx="1143000" cy="1041480"/>
            </a:xfrm>
            <a:prstGeom prst="pi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structura de las clas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752480" y="1600200"/>
            <a:ext cx="640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jercicio inicial: desconectar/conect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flexión grupal de torno a práct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esentación de te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jercicios prácticos/experiencia pers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áctica de present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Actividades a realiza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676520" y="1600200"/>
            <a:ext cx="640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lases seman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7 clases en jueves, de 14 a 16.45 h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alleres de día completo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1 taller de 9 a 18 hrs., sábado 29 o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rácticas seman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7 prácticas a realizar e informar en la sema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probació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294920" y="1295280"/>
            <a:ext cx="7086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equisitos de aprobació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80% asistencia a clases/talle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6 de 7 prácticas realizadas e informadas en la sem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alificació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alidad de los informes entregados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70%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articipación en clase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30%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2951280" y="579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Formato inform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Imagen 3" descr="Formato informes CC5610.pdf"/>
          <p:cNvPicPr/>
          <p:nvPr/>
        </p:nvPicPr>
        <p:blipFill>
          <a:blip r:embed="rId1"/>
          <a:srcRect l="6012" t="5215" r="3187" b="0"/>
          <a:stretch/>
        </p:blipFill>
        <p:spPr>
          <a:xfrm>
            <a:off x="2438280" y="914400"/>
            <a:ext cx="4343400" cy="5867280"/>
          </a:xfrm>
          <a:prstGeom prst="rect">
            <a:avLst/>
          </a:prstGeom>
          <a:ln w="324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Autores de referenci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1485720" y="1600200"/>
            <a:ext cx="689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1199"/>
              </a:spcAft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Warren Bennis, “Lídere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1199"/>
              </a:spcAft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Fred Kofman, “Meta management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1199"/>
              </a:spcAft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aniel Goleman, “La inteligencia emocional”, “El líder resonant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1199"/>
              </a:spcAft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Joseph O´Connor, “Coaching y PNL”, “PNL para directivos”,  “Introducción al pensamiento sistémico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1199"/>
              </a:spcAft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ony Buzan, “La inteligencia del líder”, “La inteligencia social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1199"/>
              </a:spcAft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Harvard Business Review, artícul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1199"/>
              </a:spcAft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5T12:44:00Z</dcterms:created>
  <dc:creator>vvirgilio</dc:creator>
  <dc:description/>
  <dc:language>en-US</dc:language>
  <cp:lastModifiedBy>Veronica Virgilio</cp:lastModifiedBy>
  <dcterms:modified xsi:type="dcterms:W3CDTF">2011-10-25T12:53:45Z</dcterms:modified>
  <cp:revision>22</cp:revision>
  <dc:subject/>
  <dc:title>Diapositiva 1</dc:title>
</cp:coreProperties>
</file>