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24389-8737-472B-A2BD-5D3FD9847E55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BAAFD-F316-44EC-AD4B-4B9343A0361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76BC5-6E81-4B44-883E-463183E07A9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BEB4E-02A7-4EC3-851E-C677251B6E0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D3A68-219B-4830-A27F-492B38F8C30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DFB5E-134B-4DD8-B26B-7887E902ADD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B4695-EE5A-4960-8C62-B5973432C8D4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133-A46B-467A-82F1-FE00DCA3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34B-45D1-4A65-82DB-D8736B2A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EBE-C5A8-4FC5-BD00-CCF64346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EAB-5EF4-49EC-84AB-154A08BC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A32-C0AE-4A5F-A410-B6535C58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1C3-EA9E-464F-B871-B9CC48E4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F69-C500-455D-B423-0D589AF1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62B-4747-4D78-B2BC-6B7A8B0A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273-B186-46EA-87B3-8D047D48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931-CC33-47FE-AC6B-D36A000F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2F3-715D-473F-93F5-DCEF9D0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BAF-F0CA-427C-B813-EAC28A8E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4E1A3-7CBD-479F-AE7A-D7A753BAFC7F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DE718-EE9B-4910-96B1-C78FAEAC2BC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ícula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ictus, Clint East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rest, Rodrigo Jord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dhi, Richard Atten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lly Elliot, Stephen Dal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ros de fuego, Hugh Hu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azón Valiente, Mel Gib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uadroTexto 17"/>
          <p:cNvSpPr/>
          <p:nvPr/>
        </p:nvSpPr>
        <p:spPr>
          <a:xfrm>
            <a:off x="720720" y="25146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adroTexto 18"/>
          <p:cNvSpPr/>
          <p:nvPr/>
        </p:nvSpPr>
        <p:spPr>
          <a:xfrm>
            <a:off x="720720" y="40384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quema de contenidos del cur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10"/>
          <p:cNvSpPr/>
          <p:nvPr/>
        </p:nvSpPr>
        <p:spPr>
          <a:xfrm>
            <a:off x="308304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Texto 11"/>
          <p:cNvSpPr/>
          <p:nvPr/>
        </p:nvSpPr>
        <p:spPr>
          <a:xfrm>
            <a:off x="506412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adroTexto 9"/>
          <p:cNvSpPr/>
          <p:nvPr/>
        </p:nvSpPr>
        <p:spPr>
          <a:xfrm>
            <a:off x="3273480" y="5181480"/>
            <a:ext cx="327672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entágono regular 16"/>
          <p:cNvSpPr/>
          <p:nvPr/>
        </p:nvSpPr>
        <p:spPr>
          <a:xfrm>
            <a:off x="2473200" y="25146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22"/>
          <p:cNvSpPr/>
          <p:nvPr/>
        </p:nvSpPr>
        <p:spPr>
          <a:xfrm>
            <a:off x="2656440" y="182880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d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Agrupar 20"/>
          <p:cNvGrpSpPr/>
          <p:nvPr/>
        </p:nvGrpSpPr>
        <p:grpSpPr>
          <a:xfrm>
            <a:off x="3150360" y="2155680"/>
            <a:ext cx="2561400" cy="1730520"/>
            <a:chOff x="3150360" y="2155680"/>
            <a:chExt cx="2561400" cy="1730520"/>
          </a:xfrm>
        </p:grpSpPr>
        <p:sp>
          <p:nvSpPr>
            <p:cNvPr id="60" name="CuadroTexto 13"/>
            <p:cNvSpPr/>
            <p:nvPr/>
          </p:nvSpPr>
          <p:spPr>
            <a:xfrm>
              <a:off x="4111560" y="3048120"/>
              <a:ext cx="16002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b6d9"/>
                </a:gs>
                <a:gs pos="100000">
                  <a:srgbClr val="ffffff"/>
                </a:gs>
              </a:gsLst>
              <a:lin ang="16020000"/>
            </a:gradFill>
            <a:ln w="9360">
              <a:solidFill>
                <a:srgbClr val="bfbfb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Visión, rumbo,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foco en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Imagen 15" descr="ArrowUp.png"/>
            <p:cNvPicPr/>
            <p:nvPr/>
          </p:nvPicPr>
          <p:blipFill>
            <a:blip r:embed="rId1"/>
            <a:stretch/>
          </p:blipFill>
          <p:spPr>
            <a:xfrm rot="8177400">
              <a:off x="3333240" y="2277360"/>
              <a:ext cx="67392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18960" y="1294920"/>
            <a:ext cx="651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prender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sarrollar 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racticar nuevas conductas y maneras de mir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Mediante reflexión personal y grupal, 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acticar semanal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señando a otros lo aprendido en cl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formar tu reflexión y auto observ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cibir 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guir practicando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Agrupar 6"/>
          <p:cNvGrpSpPr/>
          <p:nvPr/>
        </p:nvGrpSpPr>
        <p:grpSpPr>
          <a:xfrm>
            <a:off x="7276680" y="4405320"/>
            <a:ext cx="1143360" cy="1193400"/>
            <a:chOff x="7276680" y="4405320"/>
            <a:chExt cx="1143360" cy="1193400"/>
          </a:xfrm>
        </p:grpSpPr>
        <p:sp>
          <p:nvSpPr>
            <p:cNvPr id="68" name="Flecha circular 3"/>
            <p:cNvSpPr/>
            <p:nvPr/>
          </p:nvSpPr>
          <p:spPr>
            <a:xfrm>
              <a:off x="7277040" y="440532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lecha circular 4"/>
            <p:cNvSpPr/>
            <p:nvPr/>
          </p:nvSpPr>
          <p:spPr>
            <a:xfrm flipH="1" flipV="1">
              <a:off x="7276320" y="455688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de las cl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524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inicial: desconectar/conec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lexión grupal de torno a 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ación de 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prácticos/experienci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áctica de 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7652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clases en jueves, de 14 a 16.45 h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lleres de día complet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taller de 9 a 18 hrs., sábado 29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áctica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prácticas a realizar e informar en la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94920" y="12952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 de aprob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0% asistencia a clases/tall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de 7 prácticas realizadas e informadas en l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dad de los informes entregad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ción en cla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951280" y="57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to infor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agen 3" descr="Formato informes CC5610.pdf"/>
          <p:cNvPicPr/>
          <p:nvPr/>
        </p:nvPicPr>
        <p:blipFill>
          <a:blip r:embed="rId1"/>
          <a:srcRect l="6012" t="5215" r="3187" b="0"/>
          <a:stretch/>
        </p:blipFill>
        <p:spPr>
          <a:xfrm>
            <a:off x="2438280" y="914400"/>
            <a:ext cx="4343400" cy="5867280"/>
          </a:xfrm>
          <a:prstGeom prst="rect">
            <a:avLst/>
          </a:prstGeom>
          <a:ln w="324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tore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85720" y="1600200"/>
            <a:ext cx="689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arren Bennis, “Líde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ed Kofman, “Meta man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niel Goleman, “La inteligencia emocional”, “El líder resonan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oseph O´Connor, “Coaching y PNL”, “PNL para directivos”,  “Introducción al pensamiento sistém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ny Buzan, “La inteligencia del líder”, “La inteligencia soci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vard Business Review, artí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00Z</dcterms:created>
  <dc:creator>vvirgilio</dc:creator>
  <dc:description/>
  <dc:language>en-US</dc:language>
  <cp:lastModifiedBy>Veronica Virgilio</cp:lastModifiedBy>
  <dcterms:modified xsi:type="dcterms:W3CDTF">2011-10-25T12:53:45Z</dcterms:modified>
  <cp:revision>22</cp:revision>
  <dc:subject/>
  <dc:title>Diapositiva 1</dc:title>
</cp:coreProperties>
</file>