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4E6137-EBB6-4439-AEF2-56EA9F56CFB7}" type="datetime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2D8F41-BF19-43B2-8EF2-9BE0DC2F498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5B6F4-98F5-4541-BF6B-23EA49D3825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11A5E4-9979-403A-8DD0-E046BBAF0A25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83AF5-BA64-4D6C-AEF9-1C4035F9A368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953F1-2B3F-4D50-9F2D-8680A0723E53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240F3-ACCE-45B3-ACA7-F1F3B931DF57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29CC-CFE4-4E73-A369-CEED3CEA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48B1-F6B4-44AD-ACE0-25CEA609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B31-866F-4C8A-A5B3-0D0DE329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E43-2999-4076-8950-71B3A00C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7254-7DB8-465A-A77A-F4B80EE3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D13-B1F0-438E-AEDB-641EE986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BBD-3B11-4023-81C3-674707E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7A5-13D5-4928-9B4B-9374ACE7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53A-773E-4819-9F29-E5FD20C3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01D-7AAB-4075-B44C-0D5B4679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E44E-C756-4CEE-BAA7-5ADB3ED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43B-E44F-4D47-8110-3EE6A972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8283F-1928-4AF9-9349-FBD236814F55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FC8F4-CB02-441D-9FEC-D055A7FA36C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vvirgilio@ma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lícula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ictus, Clint East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erest, Rodrigo Jord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dhi, Richard Attenbo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lly Elliot, Stephen Dal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ros de fuego, Hugh Hud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azón Valiente, Mel Gib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1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vvirgilio@mac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uadroTexto 17"/>
          <p:cNvSpPr/>
          <p:nvPr/>
        </p:nvSpPr>
        <p:spPr>
          <a:xfrm>
            <a:off x="720720" y="25146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adroTexto 18"/>
          <p:cNvSpPr/>
          <p:nvPr/>
        </p:nvSpPr>
        <p:spPr>
          <a:xfrm>
            <a:off x="720720" y="40384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quema de contenidos del curs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adroTexto 10"/>
          <p:cNvSpPr/>
          <p:nvPr/>
        </p:nvSpPr>
        <p:spPr>
          <a:xfrm>
            <a:off x="308304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adroTexto 11"/>
          <p:cNvSpPr/>
          <p:nvPr/>
        </p:nvSpPr>
        <p:spPr>
          <a:xfrm>
            <a:off x="5064120" y="39625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adroTexto 9"/>
          <p:cNvSpPr/>
          <p:nvPr/>
        </p:nvSpPr>
        <p:spPr>
          <a:xfrm>
            <a:off x="3273480" y="5181480"/>
            <a:ext cx="327672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ágono regular 16"/>
          <p:cNvSpPr/>
          <p:nvPr/>
        </p:nvSpPr>
        <p:spPr>
          <a:xfrm>
            <a:off x="2473200" y="25146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22"/>
          <p:cNvSpPr/>
          <p:nvPr/>
        </p:nvSpPr>
        <p:spPr>
          <a:xfrm>
            <a:off x="2656440" y="182880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Agrupar 20"/>
          <p:cNvGrpSpPr/>
          <p:nvPr/>
        </p:nvGrpSpPr>
        <p:grpSpPr>
          <a:xfrm>
            <a:off x="3150360" y="2155680"/>
            <a:ext cx="2561400" cy="1730520"/>
            <a:chOff x="3150360" y="2155680"/>
            <a:chExt cx="2561400" cy="1730520"/>
          </a:xfrm>
        </p:grpSpPr>
        <p:sp>
          <p:nvSpPr>
            <p:cNvPr id="60" name="CuadroTexto 13"/>
            <p:cNvSpPr/>
            <p:nvPr/>
          </p:nvSpPr>
          <p:spPr>
            <a:xfrm>
              <a:off x="4111560" y="3048120"/>
              <a:ext cx="1600200" cy="8380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5b6d9"/>
                </a:gs>
                <a:gs pos="100000">
                  <a:srgbClr val="ffffff"/>
                </a:gs>
              </a:gsLst>
              <a:lin ang="16020000"/>
            </a:gradFill>
            <a:ln w="9360">
              <a:solidFill>
                <a:srgbClr val="bfbfb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Visión, rumbo,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foco en</a:t>
              </a: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Calibri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Imagen 15" descr="ArrowUp.png"/>
            <p:cNvPicPr/>
            <p:nvPr/>
          </p:nvPicPr>
          <p:blipFill>
            <a:blip r:embed="rId1"/>
            <a:stretch/>
          </p:blipFill>
          <p:spPr>
            <a:xfrm rot="8177400">
              <a:off x="3333240" y="2277360"/>
              <a:ext cx="673920" cy="800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18960" y="1294920"/>
            <a:ext cx="6514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render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sarrollar competenci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Practicar nuevas conductas y maneras de mira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Mediante reflexión personal y grupal, 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acticar semanalm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señando a otros lo aprendido en cl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formar tu reflexión y auto observ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cibir retroalimentació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guir practicando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grupar 6"/>
          <p:cNvGrpSpPr/>
          <p:nvPr/>
        </p:nvGrpSpPr>
        <p:grpSpPr>
          <a:xfrm>
            <a:off x="7276680" y="4405320"/>
            <a:ext cx="1143360" cy="1193400"/>
            <a:chOff x="7276680" y="4405320"/>
            <a:chExt cx="1143360" cy="1193400"/>
          </a:xfrm>
        </p:grpSpPr>
        <p:sp>
          <p:nvSpPr>
            <p:cNvPr id="68" name="Flecha circular 3"/>
            <p:cNvSpPr/>
            <p:nvPr/>
          </p:nvSpPr>
          <p:spPr>
            <a:xfrm>
              <a:off x="7277040" y="440532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lecha circular 4"/>
            <p:cNvSpPr/>
            <p:nvPr/>
          </p:nvSpPr>
          <p:spPr>
            <a:xfrm flipH="1" flipV="1">
              <a:off x="7276320" y="4556880"/>
              <a:ext cx="1143000" cy="1041480"/>
            </a:xfrm>
            <a:prstGeom prst="pi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uctura de las cl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5248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inicial: desconectar/conec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lexión grupal de torno a prác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ación de 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prácticos/experiencia pers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áctica de presen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ctividades a realiz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76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lase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clases en jueves, de 14 a 16.45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lleres de día complet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taller de 9 a 18 hrs., sábado 29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ácticas sema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7 prácticas a realizar e informar en la sem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roba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294920" y="12952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quisitos de aprob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80% asistencia a clases/tall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 de 7 prácticas realizadas e informadas en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fic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lidad de los informes entregados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7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ticipación en cl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951280" y="57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to infor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3" descr="Formato informes CC5610.pdf"/>
          <p:cNvPicPr/>
          <p:nvPr/>
        </p:nvPicPr>
        <p:blipFill>
          <a:blip r:embed="rId1"/>
          <a:srcRect l="6012" t="5215" r="3187" b="0"/>
          <a:stretch/>
        </p:blipFill>
        <p:spPr>
          <a:xfrm>
            <a:off x="2438280" y="914400"/>
            <a:ext cx="4343400" cy="5867280"/>
          </a:xfrm>
          <a:prstGeom prst="rect">
            <a:avLst/>
          </a:prstGeom>
          <a:ln w="324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utores de refer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85720" y="1600200"/>
            <a:ext cx="689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Warren Bennis, “Líder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red Kofman, “Meta managemen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niel Goleman, “La inteligencia emocional”, “El líder resonant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Joseph O´Connor, “Coaching y PNL”, “PNL para directivos”,  “Introducción al pensamiento sistémi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ny Buzan, “La inteligencia del líder”, “La inteligencia soci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rvard Business Review, artícu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00Z</dcterms:created>
  <dc:creator>vvirgilio</dc:creator>
  <dc:description/>
  <dc:language>en-US</dc:language>
  <cp:lastModifiedBy>Veronica Virgilio</cp:lastModifiedBy>
  <dcterms:modified xsi:type="dcterms:W3CDTF">2011-10-25T12:53:45Z</dcterms:modified>
  <cp:revision>22</cp:revision>
  <dc:subject/>
  <dc:title>Diapositiva 1</dc:title>
</cp:coreProperties>
</file>