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C996-8314-4D6D-8537-A3A8215CC9A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CCFE-DA5B-49B3-A2D8-26280E14FEA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06E6-4A0F-4475-AFD1-A87853BCF8F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xisten diversos estilos de liderazgo, esquematizados de esta manera por Goleman y Hay Group. Los líderes que obtienen mejores resultados son aquellos capaces de utilizar diversos estilos, eligiendo el más adecuado al contexto y la situ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Ver Goleman, “Liderazgo que obtiene resultados”, HBR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Marcador de número de diapositiva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C02F-AFA0-427A-A380-573511DDDDF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AC15-1CC9-42FC-8ABA-26983F27C50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32A4-A02F-42E3-8B32-D42C10E84D1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58840" y="682560"/>
            <a:ext cx="4548240" cy="34117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20720"/>
            <a:ext cx="5029200" cy="417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DC53-C047-4367-AC3D-E7875307A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900E-621E-44FF-8472-B4737AE2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77B4-40F5-4B80-A8AA-A2682A5A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7264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5956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7264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5956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9091-8F82-4ECF-B796-116E7E849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8B33-B208-4D65-BA1C-159A08E2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264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5956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8572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264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5956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FCEF-4CF6-4379-8818-76FCB3D1D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1681-30FC-40A3-B401-03F68133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6D12-BDAA-4184-9FD4-9F0BC49A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CAFA-F0BE-4F4F-B704-83EF7BB1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B19C-60E3-466B-9F1B-D25ACCC7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91EC-3F95-40B8-9EDF-9D7A4FD1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0C05-905D-494D-BD22-EA21E014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142B-13AD-4B22-916C-4138642E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0798-941F-4308-89E8-C26DAC58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9AEE-83B6-4554-A59D-478BABC1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9576-DF21-4218-BE65-D7C9CB08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C761-F92B-4A7D-B77F-01720C34A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7264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65956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48572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7264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65956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0577-85D7-4CE8-B3AA-BC6D1C757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6671F-CEC2-4FB3-825B-14B14D605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E9AFA-291F-4276-A74F-1A31A3AA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A6457-4E97-47D1-B868-84C35A7B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8267-F8E9-4A51-A5DE-0DBFF4A8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216F7-798F-43C6-AF47-B2EB57BB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9D1F8-475E-4A0C-BB09-7CC1763F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CC1DE-5D91-4579-AD7C-EA908468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D5641-0DB5-4D66-96DF-2DE8F768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E04D2-C7B7-498A-86B5-0C7CF079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FD160-5C6C-4738-B80E-32999431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3C0F8-4294-4E59-B491-6BF5A87A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407A0-A009-43DB-AABB-A7C41BE5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7264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65956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48572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57264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65956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73F42-DD96-4CFE-9682-34D641FF2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3CF9-3196-4EB5-853E-BA8A0A7E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28440" y="22824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07D7-1CB3-41E2-9A82-34E63A8A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57264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659560" y="13716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48572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57264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659560" y="37357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8784-FE3C-48DE-A72F-1DFF8E79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8320" y="37357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6C6A-5C17-4E34-B195-E9911CD4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37357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C303-582F-4A1A-9716-2117CE30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B9CB-76C7-498E-877F-A78958C5482F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FD62-0FE5-40B1-9D2B-DF903FC9FF7C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0 Imagen" descr="logo DCC FCFM-2.jpg"/>
          <p:cNvPicPr/>
          <p:nvPr/>
        </p:nvPicPr>
        <p:blipFill>
          <a:blip r:embed="rId2"/>
          <a:stretch/>
        </p:blipFill>
        <p:spPr>
          <a:xfrm>
            <a:off x="76320" y="76320"/>
            <a:ext cx="1671480" cy="542880"/>
          </a:xfrm>
          <a:prstGeom prst="rect">
            <a:avLst/>
          </a:prstGeom>
          <a:ln w="0">
            <a:noFill/>
          </a:ln>
        </p:spPr>
      </p:pic>
      <p:sp>
        <p:nvSpPr>
          <p:cNvPr id="6" name="Conector recto 7"/>
          <p:cNvSpPr/>
          <p:nvPr/>
        </p:nvSpPr>
        <p:spPr>
          <a:xfrm>
            <a:off x="1295280" y="1066680"/>
            <a:ext cx="6553440" cy="180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 flipH="1">
            <a:off x="1295280" y="1143000"/>
            <a:ext cx="6477120" cy="0"/>
          </a:xfrm>
          <a:prstGeom prst="line">
            <a:avLst/>
          </a:prstGeom>
          <a:ln w="76320">
            <a:solidFill>
              <a:srgbClr val="ffd7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Conector recto 8"/>
          <p:cNvSpPr/>
          <p:nvPr/>
        </p:nvSpPr>
        <p:spPr>
          <a:xfrm>
            <a:off x="1295280" y="3352680"/>
            <a:ext cx="6553440" cy="180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0 Imagen" descr="logo DCC FCFM-2.jpg"/>
          <p:cNvPicPr/>
          <p:nvPr/>
        </p:nvPicPr>
        <p:blipFill>
          <a:blip r:embed="rId2"/>
          <a:stretch/>
        </p:blipFill>
        <p:spPr>
          <a:xfrm>
            <a:off x="76320" y="76320"/>
            <a:ext cx="1671480" cy="542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F57D-0EBC-442A-BDFE-89EB1A95C6C7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9645-F9A7-4954-AACB-C25B4E45A514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7ED1-02FE-4404-8B37-777335B392A1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5F80-6214-487F-9EA9-E4CB8A66C450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Line 3"/>
          <p:cNvSpPr/>
          <p:nvPr/>
        </p:nvSpPr>
        <p:spPr>
          <a:xfrm flipH="1">
            <a:off x="1371240" y="3429000"/>
            <a:ext cx="6327720" cy="0"/>
          </a:xfrm>
          <a:prstGeom prst="line">
            <a:avLst/>
          </a:prstGeom>
          <a:ln w="76320">
            <a:solidFill>
              <a:srgbClr val="ffd7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&#10;images.jpg                                                     00300D1C_x000c_Macintosh HD                   BE7B4DA2:"/>
          <p:cNvPicPr/>
          <p:nvPr/>
        </p:nvPicPr>
        <p:blipFill>
          <a:blip r:embed="rId2"/>
          <a:stretch/>
        </p:blipFill>
        <p:spPr>
          <a:xfrm>
            <a:off x="1600200" y="2438280"/>
            <a:ext cx="914400" cy="8766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40404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7d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78040" y="2133360"/>
            <a:ext cx="55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iversidad de Chile – CC 560-1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Liderazgo </a:t>
            </a:r>
            <a:br>
              <a:rPr sz="2100"/>
            </a:br>
            <a:br>
              <a:rPr sz="2100"/>
            </a:br>
            <a:br>
              <a:rPr sz="1200"/>
            </a:b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678040" y="3581280"/>
            <a:ext cx="37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rónica Virgili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virgilio@mac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entágono regular 3"/>
          <p:cNvSpPr/>
          <p:nvPr/>
        </p:nvSpPr>
        <p:spPr>
          <a:xfrm>
            <a:off x="1828800" y="1447920"/>
            <a:ext cx="5715000" cy="4343400"/>
          </a:xfrm>
          <a:prstGeom prst="pentagon">
            <a:avLst/>
          </a:prstGeom>
          <a:noFill/>
          <a:ln w="763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mpetencias a desarroll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2590560" y="2361960"/>
            <a:ext cx="4267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etencias emocionales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l Liderazg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la atención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través de la v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el significado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través de la comun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 la confia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estionarme a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spcAft>
                <a:spcPts val="601"/>
              </a:spcAft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teligencia emocional: 4 dimensiones*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28"/>
          <p:cNvGrpSpPr/>
          <p:nvPr/>
        </p:nvGrpSpPr>
        <p:grpSpPr>
          <a:xfrm>
            <a:off x="1447920" y="914400"/>
            <a:ext cx="7086600" cy="5864760"/>
            <a:chOff x="1447920" y="914400"/>
            <a:chExt cx="7086600" cy="5864760"/>
          </a:xfrm>
        </p:grpSpPr>
        <p:sp>
          <p:nvSpPr>
            <p:cNvPr id="263" name="Rectangle 2"/>
            <p:cNvSpPr/>
            <p:nvPr/>
          </p:nvSpPr>
          <p:spPr>
            <a:xfrm>
              <a:off x="1447920" y="3494160"/>
              <a:ext cx="7086600" cy="3059280"/>
            </a:xfrm>
            <a:prstGeom prst="rect">
              <a:avLst/>
            </a:prstGeom>
            <a:solidFill>
              <a:srgbClr val="5c6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marL="192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Arial"/>
                </a:rPr>
                <a:t>Soci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3"/>
            <p:cNvSpPr/>
            <p:nvPr/>
          </p:nvSpPr>
          <p:spPr>
            <a:xfrm>
              <a:off x="1447920" y="914400"/>
              <a:ext cx="7086600" cy="2539800"/>
            </a:xfrm>
            <a:prstGeom prst="rect">
              <a:avLst/>
            </a:prstGeom>
            <a:solidFill>
              <a:srgbClr val="5c6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marL="1922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Arial"/>
                </a:rPr>
                <a:t>Person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Group 23"/>
            <p:cNvGrpSpPr/>
            <p:nvPr/>
          </p:nvGrpSpPr>
          <p:grpSpPr>
            <a:xfrm>
              <a:off x="1859040" y="1324440"/>
              <a:ext cx="3109680" cy="2050200"/>
              <a:chOff x="1859040" y="1324440"/>
              <a:chExt cx="3109680" cy="2050200"/>
            </a:xfrm>
          </p:grpSpPr>
          <p:sp>
            <p:nvSpPr>
              <p:cNvPr id="266" name="Text Box 5"/>
              <p:cNvSpPr/>
              <p:nvPr/>
            </p:nvSpPr>
            <p:spPr>
              <a:xfrm>
                <a:off x="2057400" y="1370520"/>
                <a:ext cx="2911320" cy="431280"/>
              </a:xfrm>
              <a:prstGeom prst="rect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8000" rIns="7200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Conciencia de sí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Text Box 10"/>
              <p:cNvSpPr/>
              <p:nvPr/>
            </p:nvSpPr>
            <p:spPr>
              <a:xfrm>
                <a:off x="2057400" y="1787040"/>
                <a:ext cx="2908440" cy="1587600"/>
              </a:xfrm>
              <a:prstGeom prst="rect">
                <a:avLst/>
              </a:prstGeom>
              <a:solidFill>
                <a:srgbClr val="fff9b1"/>
              </a:solidFill>
              <a:ln w="3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108000" bIns="0" anchor="t">
                <a:noAutofit/>
              </a:bodyPr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Autoconocimiento emocion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Valoración adecuada de sí mism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Autoconfianz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Oval 15"/>
              <p:cNvSpPr/>
              <p:nvPr/>
            </p:nvSpPr>
            <p:spPr>
              <a:xfrm>
                <a:off x="1859040" y="1324440"/>
                <a:ext cx="395280" cy="603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Group 26"/>
            <p:cNvGrpSpPr/>
            <p:nvPr/>
          </p:nvGrpSpPr>
          <p:grpSpPr>
            <a:xfrm>
              <a:off x="5194440" y="3851280"/>
              <a:ext cx="3101760" cy="2625480"/>
              <a:chOff x="5194440" y="3851280"/>
              <a:chExt cx="3101760" cy="2625480"/>
            </a:xfrm>
          </p:grpSpPr>
          <p:sp>
            <p:nvSpPr>
              <p:cNvPr id="270" name="Text Box 9"/>
              <p:cNvSpPr/>
              <p:nvPr/>
            </p:nvSpPr>
            <p:spPr>
              <a:xfrm>
                <a:off x="5384880" y="3970080"/>
                <a:ext cx="2911320" cy="431280"/>
              </a:xfrm>
              <a:prstGeom prst="rect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8000" rIns="7200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Habilidades social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Text Box 13"/>
              <p:cNvSpPr/>
              <p:nvPr/>
            </p:nvSpPr>
            <p:spPr>
              <a:xfrm>
                <a:off x="5372280" y="4406400"/>
                <a:ext cx="2920680" cy="2070360"/>
              </a:xfrm>
              <a:prstGeom prst="rect">
                <a:avLst/>
              </a:prstGeom>
              <a:solidFill>
                <a:srgbClr val="fff9b1"/>
              </a:solidFill>
              <a:ln w="3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108000" bIns="0" anchor="t">
                <a:noAutofit/>
              </a:bodyPr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Visión, inspiració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Influenci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Desarrollo de otr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Comunicació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Catalizar el cambi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Gestionar conflict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Establecer vínculo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Trabajo en equipo y colaboració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Oval 19"/>
              <p:cNvSpPr/>
              <p:nvPr/>
            </p:nvSpPr>
            <p:spPr>
              <a:xfrm>
                <a:off x="5194440" y="3851280"/>
                <a:ext cx="395280" cy="630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24"/>
            <p:cNvGrpSpPr/>
            <p:nvPr/>
          </p:nvGrpSpPr>
          <p:grpSpPr>
            <a:xfrm>
              <a:off x="5194440" y="1311120"/>
              <a:ext cx="3101760" cy="2063520"/>
              <a:chOff x="5194440" y="1311120"/>
              <a:chExt cx="3101760" cy="2063520"/>
            </a:xfrm>
          </p:grpSpPr>
          <p:sp>
            <p:nvSpPr>
              <p:cNvPr id="274" name="Text Box 6"/>
              <p:cNvSpPr/>
              <p:nvPr/>
            </p:nvSpPr>
            <p:spPr>
              <a:xfrm>
                <a:off x="5384880" y="1370520"/>
                <a:ext cx="2911320" cy="431280"/>
              </a:xfrm>
              <a:prstGeom prst="rect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8000" rIns="7200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Autogestió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Text Box 20"/>
              <p:cNvSpPr/>
              <p:nvPr/>
            </p:nvSpPr>
            <p:spPr>
              <a:xfrm>
                <a:off x="5384880" y="1787040"/>
                <a:ext cx="2908080" cy="1587600"/>
              </a:xfrm>
              <a:prstGeom prst="rect">
                <a:avLst/>
              </a:prstGeom>
              <a:solidFill>
                <a:srgbClr val="fff9b1"/>
              </a:solidFill>
              <a:ln w="3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108000" bIns="0" anchor="t">
                <a:noAutofit/>
              </a:bodyPr>
              <a:p>
                <a:pPr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Autocontrol emocion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Confiabilida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Concienci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Adaptabilida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Logr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6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Iniciativ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Oval 16"/>
              <p:cNvSpPr/>
              <p:nvPr/>
            </p:nvSpPr>
            <p:spPr>
              <a:xfrm>
                <a:off x="5194440" y="1311120"/>
                <a:ext cx="395280" cy="629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Group 25"/>
            <p:cNvGrpSpPr/>
            <p:nvPr/>
          </p:nvGrpSpPr>
          <p:grpSpPr>
            <a:xfrm>
              <a:off x="1860480" y="3849480"/>
              <a:ext cx="3116160" cy="2576160"/>
              <a:chOff x="1860480" y="3849480"/>
              <a:chExt cx="3116160" cy="2576160"/>
            </a:xfrm>
          </p:grpSpPr>
          <p:sp>
            <p:nvSpPr>
              <p:cNvPr id="278" name="Text Box 21"/>
              <p:cNvSpPr/>
              <p:nvPr/>
            </p:nvSpPr>
            <p:spPr>
              <a:xfrm>
                <a:off x="2063880" y="3998880"/>
                <a:ext cx="2911320" cy="522000"/>
              </a:xfrm>
              <a:prstGeom prst="rect">
                <a:avLst/>
              </a:prstGeom>
              <a:solidFill>
                <a:srgbClr val="eeec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88000" rIns="72000" tIns="0" bIns="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Arial"/>
                  </a:rPr>
                  <a:t>Conciencia soci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Text Box 14"/>
              <p:cNvSpPr/>
              <p:nvPr/>
            </p:nvSpPr>
            <p:spPr>
              <a:xfrm>
                <a:off x="1981080" y="4521240"/>
                <a:ext cx="2995560" cy="1904400"/>
              </a:xfrm>
              <a:prstGeom prst="rect">
                <a:avLst/>
              </a:prstGeom>
              <a:solidFill>
                <a:srgbClr val="fff9b1"/>
              </a:solidFill>
              <a:ln w="32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108000" bIns="0" anchor="t">
                <a:noAutofit/>
              </a:bodyPr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Empatí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Conciencia de la organizació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0000"/>
                    </a:solidFill>
                    <a:latin typeface="Arial"/>
                  </a:rPr>
                  <a:t>Servici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Oval 18"/>
              <p:cNvSpPr/>
              <p:nvPr/>
            </p:nvSpPr>
            <p:spPr>
              <a:xfrm>
                <a:off x="1860480" y="3849480"/>
                <a:ext cx="395280" cy="7621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1" name="Text Box 22"/>
            <p:cNvSpPr/>
            <p:nvPr/>
          </p:nvSpPr>
          <p:spPr>
            <a:xfrm>
              <a:off x="1523880" y="6626520"/>
              <a:ext cx="4953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* Goleman, Boyatzis, McKee, “El lídere resonante”, Plaza &amp; Janés, 2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04040"/>
                </a:solidFill>
                <a:latin typeface="Arial"/>
              </a:rPr>
              <a:t>El “iceberg” del comportamiento</a:t>
            </a:r>
            <a:endParaRPr b="1" lang="en-US" sz="3000" spc="-1" strike="noStrike">
              <a:solidFill>
                <a:srgbClr val="404040"/>
              </a:solidFill>
              <a:latin typeface="Arial"/>
            </a:endParaRPr>
          </a:p>
        </p:txBody>
      </p:sp>
      <p:grpSp>
        <p:nvGrpSpPr>
          <p:cNvPr id="283" name="Group 35"/>
          <p:cNvGrpSpPr/>
          <p:nvPr/>
        </p:nvGrpSpPr>
        <p:grpSpPr>
          <a:xfrm>
            <a:off x="164160" y="1981080"/>
            <a:ext cx="8674920" cy="4359240"/>
            <a:chOff x="164160" y="1981080"/>
            <a:chExt cx="8674920" cy="4359240"/>
          </a:xfrm>
        </p:grpSpPr>
        <p:sp>
          <p:nvSpPr>
            <p:cNvPr id="284" name="Freeform 25"/>
            <p:cNvSpPr/>
            <p:nvPr/>
          </p:nvSpPr>
          <p:spPr>
            <a:xfrm>
              <a:off x="861840" y="3341520"/>
              <a:ext cx="7974360" cy="29988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AutoShape 6"/>
            <p:cNvSpPr/>
            <p:nvPr/>
          </p:nvSpPr>
          <p:spPr>
            <a:xfrm>
              <a:off x="2590920" y="1981080"/>
              <a:ext cx="3962160" cy="396252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8"/>
            <p:cNvSpPr/>
            <p:nvPr/>
          </p:nvSpPr>
          <p:spPr>
            <a:xfrm>
              <a:off x="4007520" y="3733920"/>
              <a:ext cx="116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3366"/>
                  </a:solidFill>
                  <a:latin typeface="Verdana"/>
                </a:rPr>
                <a:t>Hábi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Text Box 9"/>
            <p:cNvSpPr/>
            <p:nvPr/>
          </p:nvSpPr>
          <p:spPr>
            <a:xfrm>
              <a:off x="3993120" y="5105520"/>
              <a:ext cx="1192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990000"/>
                  </a:solidFill>
                  <a:latin typeface="Verdana"/>
                </a:rPr>
                <a:t>Valores</a:t>
              </a:r>
              <a:br>
                <a:rPr sz="2000"/>
              </a:br>
              <a:r>
                <a:rPr b="1" lang="es-CL" sz="2000" spc="-1" strike="noStrike">
                  <a:solidFill>
                    <a:srgbClr val="990000"/>
                  </a:solidFill>
                  <a:latin typeface="Verdana"/>
                </a:rPr>
                <a:t>Motiv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1"/>
            <p:cNvSpPr/>
            <p:nvPr/>
          </p:nvSpPr>
          <p:spPr>
            <a:xfrm>
              <a:off x="3103560" y="4952880"/>
              <a:ext cx="2933640" cy="0"/>
            </a:xfrm>
            <a:prstGeom prst="line">
              <a:avLst/>
            </a:prstGeom>
            <a:ln w="57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AutoShape 13"/>
            <p:cNvSpPr/>
            <p:nvPr/>
          </p:nvSpPr>
          <p:spPr>
            <a:xfrm rot="10800000">
              <a:off x="576360" y="3982680"/>
              <a:ext cx="838080" cy="1538280"/>
            </a:xfrm>
            <a:prstGeom prst="upArrow">
              <a:avLst>
                <a:gd name="adj1" fmla="val 35991"/>
                <a:gd name="adj2" fmla="val 46057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14"/>
            <p:cNvSpPr/>
            <p:nvPr/>
          </p:nvSpPr>
          <p:spPr>
            <a:xfrm>
              <a:off x="164160" y="5562720"/>
              <a:ext cx="173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3399"/>
                  </a:solidFill>
                  <a:latin typeface="Verdana"/>
                </a:rPr>
                <a:t>Lo profun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19"/>
            <p:cNvSpPr/>
            <p:nvPr/>
          </p:nvSpPr>
          <p:spPr>
            <a:xfrm>
              <a:off x="1143000" y="3352680"/>
              <a:ext cx="7696080" cy="304920"/>
            </a:xfrm>
            <a:prstGeom prst="pie">
              <a:avLst/>
            </a:prstGeom>
            <a:noFill/>
            <a:ln w="381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22"/>
            <p:cNvSpPr/>
            <p:nvPr/>
          </p:nvSpPr>
          <p:spPr>
            <a:xfrm>
              <a:off x="4052520" y="457200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6699"/>
                  </a:solidFill>
                  <a:latin typeface="Verdana"/>
                </a:rPr>
                <a:t>Rasg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23"/>
            <p:cNvSpPr/>
            <p:nvPr/>
          </p:nvSpPr>
          <p:spPr>
            <a:xfrm>
              <a:off x="3540240" y="4114800"/>
              <a:ext cx="2116080" cy="0"/>
            </a:xfrm>
            <a:prstGeom prst="line">
              <a:avLst/>
            </a:prstGeom>
            <a:ln w="57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Group 31"/>
          <p:cNvGrpSpPr/>
          <p:nvPr/>
        </p:nvGrpSpPr>
        <p:grpSpPr>
          <a:xfrm>
            <a:off x="6629400" y="1568520"/>
            <a:ext cx="2286000" cy="3841560"/>
            <a:chOff x="6629400" y="1568520"/>
            <a:chExt cx="2286000" cy="3841560"/>
          </a:xfrm>
        </p:grpSpPr>
        <p:sp>
          <p:nvSpPr>
            <p:cNvPr id="295" name="Text Box 28"/>
            <p:cNvSpPr/>
            <p:nvPr/>
          </p:nvSpPr>
          <p:spPr>
            <a:xfrm>
              <a:off x="6629400" y="1568520"/>
              <a:ext cx="228600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2d2d4b"/>
                  </a:solidFill>
                  <a:latin typeface="Arial"/>
                </a:rPr>
                <a:t>¿En cuántos puestos de trabajo son determinantes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Oval 29"/>
            <p:cNvSpPr/>
            <p:nvPr/>
          </p:nvSpPr>
          <p:spPr>
            <a:xfrm>
              <a:off x="7353360" y="2590920"/>
              <a:ext cx="838080" cy="685800"/>
            </a:xfrm>
            <a:prstGeom prst="ellips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ff"/>
                  </a:solidFill>
                  <a:latin typeface="Arial"/>
                </a:rPr>
                <a:t>5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Oval 30"/>
            <p:cNvSpPr/>
            <p:nvPr/>
          </p:nvSpPr>
          <p:spPr>
            <a:xfrm>
              <a:off x="7124760" y="4572000"/>
              <a:ext cx="1295280" cy="838080"/>
            </a:xfrm>
            <a:prstGeom prst="ellips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ffffff"/>
                  </a:solidFill>
                  <a:latin typeface="Arial"/>
                </a:rPr>
                <a:t>95%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Group 32"/>
          <p:cNvGrpSpPr/>
          <p:nvPr/>
        </p:nvGrpSpPr>
        <p:grpSpPr>
          <a:xfrm>
            <a:off x="327960" y="1600200"/>
            <a:ext cx="5302080" cy="1828800"/>
            <a:chOff x="327960" y="1600200"/>
            <a:chExt cx="5302080" cy="1828800"/>
          </a:xfrm>
        </p:grpSpPr>
        <p:sp>
          <p:nvSpPr>
            <p:cNvPr id="299" name="AutoShape 17"/>
            <p:cNvSpPr/>
            <p:nvPr/>
          </p:nvSpPr>
          <p:spPr>
            <a:xfrm>
              <a:off x="612720" y="2022480"/>
              <a:ext cx="838080" cy="1406520"/>
            </a:xfrm>
            <a:prstGeom prst="upArrow">
              <a:avLst>
                <a:gd name="adj1" fmla="val 40907"/>
                <a:gd name="adj2" fmla="val 43821"/>
              </a:avLst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18"/>
            <p:cNvSpPr/>
            <p:nvPr/>
          </p:nvSpPr>
          <p:spPr>
            <a:xfrm>
              <a:off x="327960" y="1600200"/>
              <a:ext cx="136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3399"/>
                  </a:solidFill>
                  <a:latin typeface="Verdana"/>
                </a:rPr>
                <a:t>Lo visi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AutoShape 26"/>
            <p:cNvSpPr/>
            <p:nvPr/>
          </p:nvSpPr>
          <p:spPr>
            <a:xfrm>
              <a:off x="3903840" y="1981080"/>
              <a:ext cx="1371600" cy="13716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7"/>
            <p:cNvSpPr/>
            <p:nvPr/>
          </p:nvSpPr>
          <p:spPr>
            <a:xfrm>
              <a:off x="3557880" y="2438280"/>
              <a:ext cx="207216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66"/>
                  </a:solidFill>
                  <a:latin typeface="Verdana"/>
                </a:rPr>
                <a:t>Conocimientos</a:t>
              </a:r>
              <a:br>
                <a:rPr sz="2000"/>
              </a:br>
              <a:r>
                <a:rPr b="1" lang="es-CL" sz="2000" spc="-1" strike="noStrike">
                  <a:solidFill>
                    <a:srgbClr val="000066"/>
                  </a:solidFill>
                  <a:latin typeface="Verdana"/>
                </a:rPr>
                <a:t>Habilida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04040"/>
                </a:solidFill>
                <a:latin typeface="Arial"/>
              </a:rPr>
              <a:t>El “iceberg” del comportamiento</a:t>
            </a:r>
            <a:endParaRPr b="1" lang="en-US" sz="3000" spc="-1" strike="noStrike">
              <a:solidFill>
                <a:srgbClr val="404040"/>
              </a:solidFill>
              <a:latin typeface="Arial"/>
            </a:endParaRPr>
          </a:p>
        </p:txBody>
      </p:sp>
      <p:grpSp>
        <p:nvGrpSpPr>
          <p:cNvPr id="304" name="Group 44"/>
          <p:cNvGrpSpPr/>
          <p:nvPr/>
        </p:nvGrpSpPr>
        <p:grpSpPr>
          <a:xfrm>
            <a:off x="23760" y="1992240"/>
            <a:ext cx="7977240" cy="4359240"/>
            <a:chOff x="23760" y="1992240"/>
            <a:chExt cx="7977240" cy="4359240"/>
          </a:xfrm>
        </p:grpSpPr>
        <p:sp>
          <p:nvSpPr>
            <p:cNvPr id="305" name="AutoShape 7"/>
            <p:cNvSpPr/>
            <p:nvPr/>
          </p:nvSpPr>
          <p:spPr>
            <a:xfrm>
              <a:off x="1828800" y="1992240"/>
              <a:ext cx="1371600" cy="13716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Freeform 9"/>
            <p:cNvSpPr/>
            <p:nvPr/>
          </p:nvSpPr>
          <p:spPr>
            <a:xfrm>
              <a:off x="23760" y="3352680"/>
              <a:ext cx="7974000" cy="29988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AutoShape 10"/>
            <p:cNvSpPr/>
            <p:nvPr/>
          </p:nvSpPr>
          <p:spPr>
            <a:xfrm>
              <a:off x="533520" y="1992240"/>
              <a:ext cx="3962520" cy="396252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11"/>
            <p:cNvSpPr/>
            <p:nvPr/>
          </p:nvSpPr>
          <p:spPr>
            <a:xfrm>
              <a:off x="1950120" y="3745080"/>
              <a:ext cx="116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3366"/>
                  </a:solidFill>
                  <a:latin typeface="Verdana"/>
                </a:rPr>
                <a:t>Hábi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Text Box 12"/>
            <p:cNvSpPr/>
            <p:nvPr/>
          </p:nvSpPr>
          <p:spPr>
            <a:xfrm>
              <a:off x="1935720" y="5116680"/>
              <a:ext cx="1192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990000"/>
                  </a:solidFill>
                  <a:latin typeface="Verdana"/>
                </a:rPr>
                <a:t>Valores</a:t>
              </a:r>
              <a:br>
                <a:rPr sz="2000"/>
              </a:br>
              <a:r>
                <a:rPr b="1" lang="es-CL" sz="2000" spc="-1" strike="noStrike">
                  <a:solidFill>
                    <a:srgbClr val="990000"/>
                  </a:solidFill>
                  <a:latin typeface="Verdana"/>
                </a:rPr>
                <a:t>Motiv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13"/>
            <p:cNvSpPr/>
            <p:nvPr/>
          </p:nvSpPr>
          <p:spPr>
            <a:xfrm>
              <a:off x="1046160" y="4964040"/>
              <a:ext cx="2933640" cy="0"/>
            </a:xfrm>
            <a:prstGeom prst="line">
              <a:avLst/>
            </a:prstGeom>
            <a:ln w="57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Freeform 16"/>
            <p:cNvSpPr/>
            <p:nvPr/>
          </p:nvSpPr>
          <p:spPr>
            <a:xfrm>
              <a:off x="304920" y="3352680"/>
              <a:ext cx="7696080" cy="304920"/>
            </a:xfrm>
            <a:prstGeom prst="pie">
              <a:avLst/>
            </a:prstGeom>
            <a:noFill/>
            <a:ln w="381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17"/>
            <p:cNvSpPr/>
            <p:nvPr/>
          </p:nvSpPr>
          <p:spPr>
            <a:xfrm>
              <a:off x="1995120" y="4583160"/>
              <a:ext cx="107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6699"/>
                  </a:solidFill>
                  <a:latin typeface="Verdana"/>
                </a:rPr>
                <a:t>Rasg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18"/>
            <p:cNvSpPr/>
            <p:nvPr/>
          </p:nvSpPr>
          <p:spPr>
            <a:xfrm>
              <a:off x="1482840" y="4125960"/>
              <a:ext cx="2116080" cy="0"/>
            </a:xfrm>
            <a:prstGeom prst="line">
              <a:avLst/>
            </a:prstGeom>
            <a:ln w="57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4"/>
            <p:cNvSpPr/>
            <p:nvPr/>
          </p:nvSpPr>
          <p:spPr>
            <a:xfrm>
              <a:off x="1496160" y="2449440"/>
              <a:ext cx="2072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66"/>
                  </a:solidFill>
                  <a:latin typeface="Verdana"/>
                </a:rPr>
                <a:t>Conocimientos</a:t>
              </a:r>
              <a:br>
                <a:rPr sz="2000"/>
              </a:br>
              <a:r>
                <a:rPr b="1" lang="es-CL" sz="2000" spc="-1" strike="noStrike">
                  <a:solidFill>
                    <a:srgbClr val="000066"/>
                  </a:solidFill>
                  <a:latin typeface="Verdana"/>
                </a:rPr>
                <a:t>Habilida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Oval 23"/>
          <p:cNvSpPr/>
          <p:nvPr/>
        </p:nvSpPr>
        <p:spPr>
          <a:xfrm>
            <a:off x="3962520" y="1566720"/>
            <a:ext cx="1218960" cy="719280"/>
          </a:xfrm>
          <a:prstGeom prst="ellipse">
            <a:avLst/>
          </a:prstGeom>
          <a:solidFill>
            <a:srgbClr val="fff9b1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bemos medir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Oval 25"/>
          <p:cNvSpPr/>
          <p:nvPr/>
        </p:nvSpPr>
        <p:spPr>
          <a:xfrm>
            <a:off x="4952880" y="2023920"/>
            <a:ext cx="1300320" cy="768600"/>
          </a:xfrm>
          <a:prstGeom prst="ellipse">
            <a:avLst/>
          </a:prstGeom>
          <a:solidFill>
            <a:srgbClr val="fff9b1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s busca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Group 30"/>
          <p:cNvGrpSpPr/>
          <p:nvPr/>
        </p:nvGrpSpPr>
        <p:grpSpPr>
          <a:xfrm>
            <a:off x="6858000" y="1583640"/>
            <a:ext cx="2286000" cy="3750120"/>
            <a:chOff x="6858000" y="1583640"/>
            <a:chExt cx="2286000" cy="3750120"/>
          </a:xfrm>
        </p:grpSpPr>
        <p:sp>
          <p:nvSpPr>
            <p:cNvPr id="318" name="Text Box 31"/>
            <p:cNvSpPr/>
            <p:nvPr/>
          </p:nvSpPr>
          <p:spPr>
            <a:xfrm>
              <a:off x="6858000" y="1583640"/>
              <a:ext cx="22860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2d2d4b"/>
                  </a:solidFill>
                  <a:latin typeface="Arial"/>
                </a:rPr>
                <a:t>¿En cuántos puestos de trabajo son determinantes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Oval 32"/>
            <p:cNvSpPr/>
            <p:nvPr/>
          </p:nvSpPr>
          <p:spPr>
            <a:xfrm>
              <a:off x="7581960" y="2514600"/>
              <a:ext cx="838080" cy="685800"/>
            </a:xfrm>
            <a:prstGeom prst="ellips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Arial"/>
                </a:rPr>
                <a:t>5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33"/>
            <p:cNvSpPr/>
            <p:nvPr/>
          </p:nvSpPr>
          <p:spPr>
            <a:xfrm>
              <a:off x="7353360" y="4495680"/>
              <a:ext cx="1295280" cy="838080"/>
            </a:xfrm>
            <a:prstGeom prst="ellipse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Arial"/>
                </a:rPr>
                <a:t>95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Oval 34"/>
          <p:cNvSpPr/>
          <p:nvPr/>
        </p:nvSpPr>
        <p:spPr>
          <a:xfrm>
            <a:off x="5943600" y="2557440"/>
            <a:ext cx="1219320" cy="719280"/>
          </a:xfrm>
          <a:prstGeom prst="ellipse">
            <a:avLst/>
          </a:prstGeom>
          <a:solidFill>
            <a:srgbClr val="fff9b1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os capaci-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a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AutoShape 35"/>
          <p:cNvCxnSpPr>
            <a:stCxn id="315" idx="7"/>
            <a:endCxn id="316" idx="0"/>
          </p:cNvCxnSpPr>
          <p:nvPr/>
        </p:nvCxnSpPr>
        <p:spPr>
          <a:xfrm flipH="1" rot="16200000">
            <a:off x="5126400" y="1547280"/>
            <a:ext cx="353160" cy="600840"/>
          </a:xfrm>
          <a:prstGeom prst="curvedConnector5">
            <a:avLst>
              <a:gd name="adj1" fmla="val -94795"/>
              <a:gd name="adj2" fmla="val 50000"/>
              <a:gd name="adj3" fmla="val -94795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23" name="AutoShape 36"/>
          <p:cNvCxnSpPr>
            <a:stCxn id="316" idx="7"/>
            <a:endCxn id="321" idx="0"/>
          </p:cNvCxnSpPr>
          <p:nvPr/>
        </p:nvCxnSpPr>
        <p:spPr>
          <a:xfrm flipH="1" rot="16200000">
            <a:off x="6097320" y="2101320"/>
            <a:ext cx="421560" cy="491040"/>
          </a:xfrm>
          <a:prstGeom prst="curvedConnector5">
            <a:avLst>
              <a:gd name="adj1" fmla="val -80940"/>
              <a:gd name="adj2" fmla="val 49963"/>
              <a:gd name="adj3" fmla="val -80940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24" name="AutoShape 37"/>
          <p:cNvCxnSpPr>
            <a:stCxn id="321" idx="6"/>
            <a:endCxn id="319" idx="2"/>
          </p:cNvCxnSpPr>
          <p:nvPr/>
        </p:nvCxnSpPr>
        <p:spPr>
          <a:xfrm flipV="1">
            <a:off x="7162920" y="2856960"/>
            <a:ext cx="419760" cy="60840"/>
          </a:xfrm>
          <a:prstGeom prst="curvedConnector5">
            <a:avLst>
              <a:gd name="adj1" fmla="val 49957"/>
              <a:gd name="adj2" fmla="val 50000"/>
              <a:gd name="adj3" fmla="val 49957"/>
            </a:avLst>
          </a:prstGeom>
          <a:ln w="7632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325" name="Oval 38"/>
          <p:cNvSpPr/>
          <p:nvPr/>
        </p:nvSpPr>
        <p:spPr>
          <a:xfrm>
            <a:off x="3733920" y="3581280"/>
            <a:ext cx="1218960" cy="762120"/>
          </a:xfrm>
          <a:prstGeom prst="ellipse">
            <a:avLst/>
          </a:prstGeom>
          <a:solidFill>
            <a:srgbClr val="fff9b1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o sabemos medir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Oval 39"/>
          <p:cNvSpPr/>
          <p:nvPr/>
        </p:nvSpPr>
        <p:spPr>
          <a:xfrm>
            <a:off x="4724280" y="4038480"/>
            <a:ext cx="1300320" cy="814680"/>
          </a:xfrm>
          <a:prstGeom prst="ellipse">
            <a:avLst/>
          </a:prstGeom>
          <a:solidFill>
            <a:srgbClr val="fff9b1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o los valora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40"/>
          <p:cNvSpPr/>
          <p:nvPr/>
        </p:nvSpPr>
        <p:spPr>
          <a:xfrm>
            <a:off x="5715000" y="4572000"/>
            <a:ext cx="1219320" cy="762120"/>
          </a:xfrm>
          <a:prstGeom prst="ellipse">
            <a:avLst/>
          </a:prstGeom>
          <a:solidFill>
            <a:srgbClr val="fff9b1"/>
          </a:soli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o los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capacita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8" name="AutoShape 41"/>
          <p:cNvCxnSpPr>
            <a:stCxn id="325" idx="7"/>
            <a:endCxn id="326" idx="0"/>
          </p:cNvCxnSpPr>
          <p:nvPr/>
        </p:nvCxnSpPr>
        <p:spPr>
          <a:xfrm flipH="1" rot="16200000">
            <a:off x="4901040" y="3565080"/>
            <a:ext cx="346680" cy="600840"/>
          </a:xfrm>
          <a:prstGeom prst="curvedConnector5">
            <a:avLst>
              <a:gd name="adj1" fmla="val -98336"/>
              <a:gd name="adj2" fmla="val 50000"/>
              <a:gd name="adj3" fmla="val -98336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29" name="AutoShape 42"/>
          <p:cNvCxnSpPr>
            <a:stCxn id="326" idx="7"/>
            <a:endCxn id="327" idx="0"/>
          </p:cNvCxnSpPr>
          <p:nvPr/>
        </p:nvCxnSpPr>
        <p:spPr>
          <a:xfrm flipH="1" rot="16200000">
            <a:off x="5871960" y="4119120"/>
            <a:ext cx="415080" cy="491040"/>
          </a:xfrm>
          <a:prstGeom prst="curvedConnector5">
            <a:avLst>
              <a:gd name="adj1" fmla="val -28732"/>
              <a:gd name="adj2" fmla="val 49963"/>
              <a:gd name="adj3" fmla="val -28732"/>
            </a:avLst>
          </a:prstGeom>
          <a:ln w="7632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0" name="AutoShape 43"/>
          <p:cNvCxnSpPr>
            <a:stCxn id="327" idx="6"/>
          </p:cNvCxnSpPr>
          <p:nvPr/>
        </p:nvCxnSpPr>
        <p:spPr>
          <a:xfrm flipV="1">
            <a:off x="6934320" y="4871520"/>
            <a:ext cx="419760" cy="81360"/>
          </a:xfrm>
          <a:prstGeom prst="curvedConnector5">
            <a:avLst>
              <a:gd name="adj1" fmla="val 49957"/>
              <a:gd name="adj2" fmla="val 49777"/>
              <a:gd name="adj3" fmla="val 49957"/>
            </a:avLst>
          </a:prstGeom>
          <a:ln w="76320">
            <a:solidFill>
              <a:srgbClr val="333399"/>
            </a:solidFill>
            <a:miter/>
            <a:tailEnd len="med" type="triangle" w="med"/>
          </a:ln>
        </p:spPr>
      </p:cxn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ilos de lideraz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Imagen 4" descr=""/>
          <p:cNvPicPr/>
          <p:nvPr/>
        </p:nvPicPr>
        <p:blipFill>
          <a:blip r:embed="rId1"/>
          <a:stretch/>
        </p:blipFill>
        <p:spPr>
          <a:xfrm>
            <a:off x="457200" y="2019240"/>
            <a:ext cx="965160" cy="2806920"/>
          </a:xfrm>
          <a:prstGeom prst="rect">
            <a:avLst/>
          </a:prstGeom>
          <a:ln w="0">
            <a:noFill/>
          </a:ln>
        </p:spPr>
      </p:pic>
      <p:pic>
        <p:nvPicPr>
          <p:cNvPr id="333" name="Imagen 5" descr=""/>
          <p:cNvPicPr/>
          <p:nvPr/>
        </p:nvPicPr>
        <p:blipFill>
          <a:blip r:embed="rId2"/>
          <a:stretch/>
        </p:blipFill>
        <p:spPr>
          <a:xfrm>
            <a:off x="1434960" y="1523880"/>
            <a:ext cx="7175520" cy="982800"/>
          </a:xfrm>
          <a:prstGeom prst="rect">
            <a:avLst/>
          </a:prstGeom>
          <a:ln w="0">
            <a:noFill/>
          </a:ln>
        </p:spPr>
      </p:pic>
      <p:pic>
        <p:nvPicPr>
          <p:cNvPr id="334" name="Imagen 6" descr=""/>
          <p:cNvPicPr/>
          <p:nvPr/>
        </p:nvPicPr>
        <p:blipFill>
          <a:blip r:embed="rId3"/>
          <a:stretch/>
        </p:blipFill>
        <p:spPr>
          <a:xfrm>
            <a:off x="1434960" y="2489040"/>
            <a:ext cx="7175520" cy="482760"/>
          </a:xfrm>
          <a:prstGeom prst="rect">
            <a:avLst/>
          </a:prstGeom>
          <a:ln w="0">
            <a:noFill/>
          </a:ln>
        </p:spPr>
      </p:pic>
      <p:pic>
        <p:nvPicPr>
          <p:cNvPr id="335" name="Imagen 7" descr=""/>
          <p:cNvPicPr/>
          <p:nvPr/>
        </p:nvPicPr>
        <p:blipFill>
          <a:blip r:embed="rId4"/>
          <a:stretch/>
        </p:blipFill>
        <p:spPr>
          <a:xfrm>
            <a:off x="1434960" y="2959200"/>
            <a:ext cx="7175520" cy="482400"/>
          </a:xfrm>
          <a:prstGeom prst="rect">
            <a:avLst/>
          </a:prstGeom>
          <a:ln w="0">
            <a:noFill/>
          </a:ln>
        </p:spPr>
      </p:pic>
      <p:pic>
        <p:nvPicPr>
          <p:cNvPr id="336" name="Imagen 8" descr=""/>
          <p:cNvPicPr/>
          <p:nvPr/>
        </p:nvPicPr>
        <p:blipFill>
          <a:blip r:embed="rId5"/>
          <a:stretch/>
        </p:blipFill>
        <p:spPr>
          <a:xfrm>
            <a:off x="1434960" y="3416400"/>
            <a:ext cx="7175520" cy="482400"/>
          </a:xfrm>
          <a:prstGeom prst="rect">
            <a:avLst/>
          </a:prstGeom>
          <a:ln w="0">
            <a:noFill/>
          </a:ln>
        </p:spPr>
      </p:pic>
      <p:pic>
        <p:nvPicPr>
          <p:cNvPr id="337" name="Imagen 9" descr=""/>
          <p:cNvPicPr/>
          <p:nvPr/>
        </p:nvPicPr>
        <p:blipFill>
          <a:blip r:embed="rId6"/>
          <a:stretch/>
        </p:blipFill>
        <p:spPr>
          <a:xfrm>
            <a:off x="1434960" y="3886200"/>
            <a:ext cx="7175520" cy="482760"/>
          </a:xfrm>
          <a:prstGeom prst="rect">
            <a:avLst/>
          </a:prstGeom>
          <a:ln w="0">
            <a:noFill/>
          </a:ln>
        </p:spPr>
      </p:pic>
      <p:pic>
        <p:nvPicPr>
          <p:cNvPr id="338" name="Imagen 10" descr=""/>
          <p:cNvPicPr/>
          <p:nvPr/>
        </p:nvPicPr>
        <p:blipFill>
          <a:blip r:embed="rId7"/>
          <a:stretch/>
        </p:blipFill>
        <p:spPr>
          <a:xfrm>
            <a:off x="1434960" y="4343400"/>
            <a:ext cx="7175520" cy="48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liderazgo impacta en el cli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estilos de dirección/liderazgo –y su coherencia con la estrategia– son relevantes a la hora de explicar el indicador de clima organizacional (62%)*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directivos de todo nivel juegan un rol fundamental en la construcción de “claridad organizacional”, porque son quienes comunican y ponen en práct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dirección estratégica, los objetivos clave, la estructura, las políticas y las líneas de autor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1067400" y="6353280"/>
            <a:ext cx="399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* Idíd.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clima impacta en los result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 consenso en la influencia del clima organizacional en los resultados de un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vestigaciones específicas realizadas por Hay/McBer* han mostrado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indicador de clima pesa un 32% en el total de factores que influyen en los resultados de gestió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ue una mejora del clima es significativa en el aumento de los beneficios de la empres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ue uno de los factores considerados para modelar el clima –el denominado “claridad”– es especialmente relevante y explica parte importante del indicador de cli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1073880" y="6353280"/>
            <a:ext cx="379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Arial"/>
              </a:rPr>
              <a:t>* Factbook de Recursos Humanos, Hay Group, Cap. II-3, pág. 629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cultura impacta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estrategia y los resultad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ultura organizacional es relevante en facilitar, retrasar o incluso impedir la implementación de la estrate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cultura organizacional es considerada la palanca fundamental para atraer, motivar y retener el tal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empresas que son exitosas en alinear la cultura, la estrategia y los sistemas de gestión logran resultados notablemente superiores*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rol de liderazgo es modelar y alinear la cultura para lograr esos resultados superi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1056240" y="6175440"/>
            <a:ext cx="4688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* John P. Kotter, “Cultura de empresa y rentabilidad”, Cap. 6, pág. 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Verdana"/>
              </a:rPr>
              <a:t>¿Qué me llevo de la clase de ho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24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78040" y="2133360"/>
            <a:ext cx="558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iversidad de Chile – CC 560-1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Liderazgo </a:t>
            </a:r>
            <a:br>
              <a:rPr sz="2100"/>
            </a:br>
            <a:br>
              <a:rPr sz="2100"/>
            </a:br>
            <a:br>
              <a:rPr sz="1200"/>
            </a:b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2678040" y="3581280"/>
            <a:ext cx="378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erónica Virgili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virgilio@mac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genda de ho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514240" y="1600200"/>
            <a:ext cx="5753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oce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eptos básicos del cu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uctura y requis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rcicio gru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esentándon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 nombre completo es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 pareja me dice/decía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legué al mundo en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Mi estado civil/familiar es 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La comida que prefiero/detesto  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demás de mis estudios y mi familia, dedico tiempo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Yo antes creía en  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Y ahora creo en    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ventos que marcaron mi vida han sid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349"/>
              </a:spcBef>
              <a:buClr>
                <a:srgbClr val="da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Niñez: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349"/>
              </a:spcBef>
              <a:buClr>
                <a:srgbClr val="da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dolescencia: ………………………………………………………………………… 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349"/>
              </a:spcBef>
              <a:buClr>
                <a:srgbClr val="da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dultez: 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da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Yo soy como …………………………………………………………  (animal, objeto, avatar, etc), </a:t>
            </a:r>
            <a:br>
              <a:rPr sz="1400"/>
            </a:b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n que ………………………………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Imagen 7" descr=""/>
          <p:cNvPicPr/>
          <p:nvPr/>
        </p:nvPicPr>
        <p:blipFill>
          <a:blip r:embed="rId1"/>
          <a:srcRect l="0" t="0" r="17634" b="0"/>
          <a:stretch/>
        </p:blipFill>
        <p:spPr>
          <a:xfrm>
            <a:off x="-123840" y="1671480"/>
            <a:ext cx="776160" cy="609840"/>
          </a:xfrm>
          <a:prstGeom prst="rect">
            <a:avLst/>
          </a:prstGeom>
          <a:ln w="0">
            <a:noFill/>
          </a:ln>
        </p:spPr>
      </p:pic>
      <p:pic>
        <p:nvPicPr>
          <p:cNvPr id="220" name="Imagen 8" descr=""/>
          <p:cNvPicPr/>
          <p:nvPr/>
        </p:nvPicPr>
        <p:blipFill>
          <a:blip r:embed="rId2"/>
          <a:stretch/>
        </p:blipFill>
        <p:spPr>
          <a:xfrm>
            <a:off x="-123840" y="3676680"/>
            <a:ext cx="701640" cy="662040"/>
          </a:xfrm>
          <a:prstGeom prst="rect">
            <a:avLst/>
          </a:prstGeom>
          <a:ln w="0">
            <a:noFill/>
          </a:ln>
        </p:spPr>
      </p:pic>
      <p:pic>
        <p:nvPicPr>
          <p:cNvPr id="221" name="Imagen 16" descr="SafetyRing.png"/>
          <p:cNvPicPr/>
          <p:nvPr/>
        </p:nvPicPr>
        <p:blipFill>
          <a:blip r:embed="rId3"/>
          <a:stretch/>
        </p:blipFill>
        <p:spPr>
          <a:xfrm>
            <a:off x="-36360" y="981000"/>
            <a:ext cx="614160" cy="741600"/>
          </a:xfrm>
          <a:prstGeom prst="rect">
            <a:avLst/>
          </a:prstGeom>
          <a:ln w="0">
            <a:noFill/>
          </a:ln>
        </p:spPr>
      </p:pic>
      <p:pic>
        <p:nvPicPr>
          <p:cNvPr id="222" name="Imagen 17" descr="PaperClip.png"/>
          <p:cNvPicPr/>
          <p:nvPr/>
        </p:nvPicPr>
        <p:blipFill>
          <a:blip r:embed="rId4"/>
          <a:stretch/>
        </p:blipFill>
        <p:spPr>
          <a:xfrm>
            <a:off x="-36360" y="5454720"/>
            <a:ext cx="411120" cy="539640"/>
          </a:xfrm>
          <a:prstGeom prst="rect">
            <a:avLst/>
          </a:prstGeom>
          <a:ln w="0">
            <a:noFill/>
          </a:ln>
        </p:spPr>
      </p:pic>
      <p:pic>
        <p:nvPicPr>
          <p:cNvPr id="223" name="Imagen 29" descr="Clock.png"/>
          <p:cNvPicPr/>
          <p:nvPr/>
        </p:nvPicPr>
        <p:blipFill>
          <a:blip r:embed="rId5"/>
          <a:stretch/>
        </p:blipFill>
        <p:spPr>
          <a:xfrm>
            <a:off x="-36360" y="4297320"/>
            <a:ext cx="436320" cy="539640"/>
          </a:xfrm>
          <a:prstGeom prst="rect">
            <a:avLst/>
          </a:prstGeom>
          <a:ln w="0">
            <a:noFill/>
          </a:ln>
        </p:spPr>
      </p:pic>
      <p:pic>
        <p:nvPicPr>
          <p:cNvPr id="224" name="Imagen 47" descr=""/>
          <p:cNvPicPr/>
          <p:nvPr/>
        </p:nvPicPr>
        <p:blipFill>
          <a:blip r:embed="rId6"/>
          <a:stretch/>
        </p:blipFill>
        <p:spPr>
          <a:xfrm>
            <a:off x="-84240" y="210960"/>
            <a:ext cx="736560" cy="736920"/>
          </a:xfrm>
          <a:prstGeom prst="rect">
            <a:avLst/>
          </a:prstGeom>
          <a:ln w="0">
            <a:noFill/>
          </a:ln>
        </p:spPr>
      </p:pic>
      <p:pic>
        <p:nvPicPr>
          <p:cNvPr id="225" name="Imagen 50" descr=""/>
          <p:cNvPicPr/>
          <p:nvPr/>
        </p:nvPicPr>
        <p:blipFill>
          <a:blip r:embed="rId7"/>
          <a:srcRect l="17297" t="24255" r="0" b="19444"/>
          <a:stretch/>
        </p:blipFill>
        <p:spPr>
          <a:xfrm>
            <a:off x="-144360" y="4889520"/>
            <a:ext cx="830160" cy="565200"/>
          </a:xfrm>
          <a:prstGeom prst="rect">
            <a:avLst/>
          </a:prstGeom>
          <a:ln w="0">
            <a:noFill/>
          </a:ln>
        </p:spPr>
      </p:pic>
      <p:pic>
        <p:nvPicPr>
          <p:cNvPr id="226" name="Imagen 51" descr=""/>
          <p:cNvPicPr/>
          <p:nvPr/>
        </p:nvPicPr>
        <p:blipFill>
          <a:blip r:embed="rId8"/>
          <a:srcRect l="0" t="12670" r="0" b="16155"/>
          <a:stretch/>
        </p:blipFill>
        <p:spPr>
          <a:xfrm>
            <a:off x="-112680" y="2281320"/>
            <a:ext cx="690480" cy="600120"/>
          </a:xfrm>
          <a:prstGeom prst="rect">
            <a:avLst/>
          </a:prstGeom>
          <a:ln w="0">
            <a:noFill/>
          </a:ln>
        </p:spPr>
      </p:pic>
      <p:pic>
        <p:nvPicPr>
          <p:cNvPr id="227" name="Imagen 55" descr=""/>
          <p:cNvPicPr/>
          <p:nvPr/>
        </p:nvPicPr>
        <p:blipFill>
          <a:blip r:embed="rId9"/>
          <a:stretch/>
        </p:blipFill>
        <p:spPr>
          <a:xfrm>
            <a:off x="-101520" y="2951280"/>
            <a:ext cx="701640" cy="701640"/>
          </a:xfrm>
          <a:prstGeom prst="rect">
            <a:avLst/>
          </a:prstGeom>
          <a:ln w="0">
            <a:noFill/>
          </a:ln>
        </p:spPr>
      </p:pic>
      <p:pic>
        <p:nvPicPr>
          <p:cNvPr id="228" name="Imagen 57" descr=""/>
          <p:cNvPicPr/>
          <p:nvPr/>
        </p:nvPicPr>
        <p:blipFill>
          <a:blip r:embed="rId10"/>
          <a:stretch/>
        </p:blipFill>
        <p:spPr>
          <a:xfrm>
            <a:off x="-109440" y="5978520"/>
            <a:ext cx="687240" cy="689040"/>
          </a:xfrm>
          <a:prstGeom prst="rect">
            <a:avLst/>
          </a:prstGeom>
          <a:ln w="0">
            <a:noFill/>
          </a:ln>
        </p:spPr>
      </p:pic>
      <p:pic>
        <p:nvPicPr>
          <p:cNvPr id="229" name="Imagen 14" descr=""/>
          <p:cNvPicPr/>
          <p:nvPr/>
        </p:nvPicPr>
        <p:blipFill>
          <a:blip r:embed="rId11"/>
          <a:stretch/>
        </p:blipFill>
        <p:spPr>
          <a:xfrm>
            <a:off x="8707320" y="901800"/>
            <a:ext cx="393840" cy="393480"/>
          </a:xfrm>
          <a:prstGeom prst="rect">
            <a:avLst/>
          </a:prstGeom>
          <a:ln w="0">
            <a:noFill/>
          </a:ln>
        </p:spPr>
      </p:pic>
      <p:pic>
        <p:nvPicPr>
          <p:cNvPr id="230" name="Imagen 10" descr="Umbrella.png"/>
          <p:cNvPicPr/>
          <p:nvPr/>
        </p:nvPicPr>
        <p:blipFill>
          <a:blip r:embed="rId12"/>
          <a:stretch/>
        </p:blipFill>
        <p:spPr>
          <a:xfrm>
            <a:off x="8650440" y="4110120"/>
            <a:ext cx="614160" cy="469800"/>
          </a:xfrm>
          <a:prstGeom prst="rect">
            <a:avLst/>
          </a:prstGeom>
          <a:ln w="0">
            <a:noFill/>
          </a:ln>
        </p:spPr>
      </p:pic>
      <p:pic>
        <p:nvPicPr>
          <p:cNvPr id="231" name="Imagen 45" descr=""/>
          <p:cNvPicPr/>
          <p:nvPr/>
        </p:nvPicPr>
        <p:blipFill>
          <a:blip r:embed="rId13"/>
          <a:stretch/>
        </p:blipFill>
        <p:spPr>
          <a:xfrm>
            <a:off x="8661240" y="135000"/>
            <a:ext cx="635040" cy="635040"/>
          </a:xfrm>
          <a:prstGeom prst="rect">
            <a:avLst/>
          </a:prstGeom>
          <a:ln w="0">
            <a:noFill/>
          </a:ln>
        </p:spPr>
      </p:pic>
      <p:pic>
        <p:nvPicPr>
          <p:cNvPr id="232" name="Imagen 46" descr=""/>
          <p:cNvPicPr/>
          <p:nvPr/>
        </p:nvPicPr>
        <p:blipFill>
          <a:blip r:embed="rId14"/>
          <a:stretch/>
        </p:blipFill>
        <p:spPr>
          <a:xfrm>
            <a:off x="8609040" y="6014880"/>
            <a:ext cx="635040" cy="635040"/>
          </a:xfrm>
          <a:prstGeom prst="rect">
            <a:avLst/>
          </a:prstGeom>
          <a:ln w="0">
            <a:noFill/>
          </a:ln>
        </p:spPr>
      </p:pic>
      <p:pic>
        <p:nvPicPr>
          <p:cNvPr id="233" name="Imagen 52" descr=""/>
          <p:cNvPicPr/>
          <p:nvPr/>
        </p:nvPicPr>
        <p:blipFill>
          <a:blip r:embed="rId15"/>
          <a:stretch/>
        </p:blipFill>
        <p:spPr>
          <a:xfrm>
            <a:off x="8661240" y="2035080"/>
            <a:ext cx="601920" cy="601920"/>
          </a:xfrm>
          <a:prstGeom prst="rect">
            <a:avLst/>
          </a:prstGeom>
          <a:ln w="0">
            <a:noFill/>
          </a:ln>
        </p:spPr>
      </p:pic>
      <p:pic>
        <p:nvPicPr>
          <p:cNvPr id="234" name="Imagen 53" descr=""/>
          <p:cNvPicPr/>
          <p:nvPr/>
        </p:nvPicPr>
        <p:blipFill>
          <a:blip r:embed="rId16"/>
          <a:stretch/>
        </p:blipFill>
        <p:spPr>
          <a:xfrm>
            <a:off x="8616960" y="4640400"/>
            <a:ext cx="677880" cy="676080"/>
          </a:xfrm>
          <a:prstGeom prst="rect">
            <a:avLst/>
          </a:prstGeom>
          <a:ln w="0">
            <a:noFill/>
          </a:ln>
        </p:spPr>
      </p:pic>
      <p:pic>
        <p:nvPicPr>
          <p:cNvPr id="235" name="Imagen 54" descr=""/>
          <p:cNvPicPr/>
          <p:nvPr/>
        </p:nvPicPr>
        <p:blipFill>
          <a:blip r:embed="rId17"/>
          <a:srcRect l="47306" t="0" r="0" b="0"/>
          <a:stretch/>
        </p:blipFill>
        <p:spPr>
          <a:xfrm>
            <a:off x="8788320" y="3274920"/>
            <a:ext cx="507960" cy="803520"/>
          </a:xfrm>
          <a:prstGeom prst="rect">
            <a:avLst/>
          </a:prstGeom>
          <a:ln w="0">
            <a:noFill/>
          </a:ln>
        </p:spPr>
      </p:pic>
      <p:pic>
        <p:nvPicPr>
          <p:cNvPr id="236" name="Imagen 56" descr=""/>
          <p:cNvPicPr/>
          <p:nvPr/>
        </p:nvPicPr>
        <p:blipFill>
          <a:blip r:embed="rId18"/>
          <a:stretch/>
        </p:blipFill>
        <p:spPr>
          <a:xfrm>
            <a:off x="8647200" y="2658960"/>
            <a:ext cx="615960" cy="615960"/>
          </a:xfrm>
          <a:prstGeom prst="rect">
            <a:avLst/>
          </a:prstGeom>
          <a:ln w="0">
            <a:noFill/>
          </a:ln>
        </p:spPr>
      </p:pic>
      <p:pic>
        <p:nvPicPr>
          <p:cNvPr id="237" name="Imagen 52" descr=""/>
          <p:cNvPicPr/>
          <p:nvPr/>
        </p:nvPicPr>
        <p:blipFill>
          <a:blip r:embed="rId19"/>
          <a:stretch/>
        </p:blipFill>
        <p:spPr>
          <a:xfrm>
            <a:off x="8613720" y="1428840"/>
            <a:ext cx="682560" cy="534960"/>
          </a:xfrm>
          <a:prstGeom prst="rect">
            <a:avLst/>
          </a:prstGeom>
          <a:ln w="0">
            <a:noFill/>
          </a:ln>
        </p:spPr>
      </p:pic>
      <p:pic>
        <p:nvPicPr>
          <p:cNvPr id="238" name="Imagen 53" descr=""/>
          <p:cNvPicPr/>
          <p:nvPr/>
        </p:nvPicPr>
        <p:blipFill>
          <a:blip r:embed="rId20"/>
          <a:stretch/>
        </p:blipFill>
        <p:spPr>
          <a:xfrm rot="5400000">
            <a:off x="8601120" y="5299200"/>
            <a:ext cx="606240" cy="78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¿Qué aprendimo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752480" y="12952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preguntas sobre mí me permiten reflexion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preguntas sobre ti me permiten conoce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mos muy diferentes, y tenemos mucho en comú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s afectan eventos y emociones simila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mos igual nombre a vivencias difer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nemos creencias que cambi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 compartir lo que nos importa, construimos re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ngo una estructura básica de conversación para establecer contacto y re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e ve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876240" y="15238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tre las tribus del norte de Natal, Sudáfrica, el saludo más común, equivalente a nuestro “hola”, es la expresión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Sawu bon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ignifica literalmente “te ve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miembros de la tribu responden diciendo: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Sikkhon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“estoy aquí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orden del diálogo es importante: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ientras no me hayas visto, no existo. 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como si, al verme, me dieras la exist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CuadroTexto 3"/>
          <p:cNvSpPr/>
          <p:nvPr/>
        </p:nvSpPr>
        <p:spPr>
          <a:xfrm>
            <a:off x="879840" y="6400800"/>
            <a:ext cx="240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_tradnl" sz="1000" spc="-1" strike="noStrike">
                <a:solidFill>
                  <a:srgbClr val="000000"/>
                </a:solidFill>
                <a:latin typeface="Calibri"/>
              </a:rPr>
              <a:t>La quinta disciplina”, Peter Senge, Gran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Verdana"/>
              </a:rPr>
              <a:t>Lo que sabes de liderar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Verdana"/>
                <a:ea typeface="Verdana"/>
              </a:rPr>
              <a:t>a partir de tu experienc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485720" y="1371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Verdana"/>
              </a:rPr>
              <a:t>Identifica a un líder real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Verdana"/>
              </a:rPr>
              <a:t>que tu hayas segui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Verdana"/>
              </a:rPr>
              <a:t>¿Cómo era/es esa persona?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Verdana"/>
              </a:rPr>
              <a:t>¿Qué te hacía seguirl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98989"/>
                </a:solidFill>
                <a:latin typeface="Arial"/>
              </a:rPr>
              <a:t>Trabajo individ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898989"/>
                </a:solidFill>
                <a:latin typeface="Arial"/>
              </a:rPr>
              <a:t>Trabajo en gru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itos respecto del lideraz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980720" y="1295280"/>
            <a:ext cx="6286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ner “carism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ner la razón, los conocimi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ítulo, rango, jerarqu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sgos personales de carác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aberse, decirse lí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ratoria, despl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íderes 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286000" y="1600200"/>
            <a:ext cx="5981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enes tienen seguid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enes logran resul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isibles, establecen ejemp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enes se hacen respons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enes aprenden a se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CuadroTexto 17"/>
          <p:cNvSpPr/>
          <p:nvPr/>
        </p:nvSpPr>
        <p:spPr>
          <a:xfrm>
            <a:off x="1219320" y="1600200"/>
            <a:ext cx="6746760" cy="14479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48a54"/>
                </a:solidFill>
                <a:latin typeface="Arial Black"/>
                <a:ea typeface="Arial Black"/>
              </a:rPr>
              <a:t>Lo 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CuadroTexto 18"/>
          <p:cNvSpPr/>
          <p:nvPr/>
        </p:nvSpPr>
        <p:spPr>
          <a:xfrm>
            <a:off x="1219320" y="3124080"/>
            <a:ext cx="6746760" cy="243864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7f7f7f"/>
                </a:solidFill>
                <a:latin typeface="Arial Black"/>
                <a:ea typeface="Arial Black"/>
              </a:rPr>
              <a:t>Lo profu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foque del curso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s competencias del lideraz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CuadroTexto 10"/>
          <p:cNvSpPr/>
          <p:nvPr/>
        </p:nvSpPr>
        <p:spPr>
          <a:xfrm>
            <a:off x="3581280" y="3048120"/>
            <a:ext cx="16002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Dar significad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a la 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CuadroTexto 11"/>
          <p:cNvSpPr/>
          <p:nvPr/>
        </p:nvSpPr>
        <p:spPr>
          <a:xfrm>
            <a:off x="5562720" y="3048120"/>
            <a:ext cx="16002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trui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ianz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n mi, en ot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CuadroTexto 9"/>
          <p:cNvSpPr/>
          <p:nvPr/>
        </p:nvSpPr>
        <p:spPr>
          <a:xfrm>
            <a:off x="3772080" y="4267080"/>
            <a:ext cx="3276360" cy="106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Gestionarme a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Calibri"/>
              </a:rPr>
              <a:t>mi mism@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entágono regular 16"/>
          <p:cNvSpPr/>
          <p:nvPr/>
        </p:nvSpPr>
        <p:spPr>
          <a:xfrm>
            <a:off x="2971800" y="1600200"/>
            <a:ext cx="4876920" cy="3962520"/>
          </a:xfrm>
          <a:prstGeom prst="pentagon">
            <a:avLst/>
          </a:prstGeom>
          <a:noFill/>
          <a:ln w="763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CuadroTexto 13"/>
          <p:cNvSpPr/>
          <p:nvPr/>
        </p:nvSpPr>
        <p:spPr>
          <a:xfrm>
            <a:off x="4343400" y="1981080"/>
            <a:ext cx="198108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b6d9"/>
              </a:gs>
              <a:gs pos="100000">
                <a:srgbClr val="ffffff"/>
              </a:gs>
            </a:gsLst>
            <a:lin ang="16020000"/>
          </a:gradFill>
          <a:ln w="9360">
            <a:solidFill>
              <a:srgbClr val="bfbfbf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sión, rumbo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o 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2:44:33Z</dcterms:created>
  <dc:creator>Veronica Virgilio</dc:creator>
  <dc:description/>
  <dc:language>en-US</dc:language>
  <cp:lastModifiedBy>Veronica Virgilio</cp:lastModifiedBy>
  <cp:lastPrinted>2011-10-24T15:16:35Z</cp:lastPrinted>
  <dcterms:modified xsi:type="dcterms:W3CDTF">2011-10-25T12:56:06Z</dcterms:modified>
  <cp:revision>83</cp:revision>
  <dc:subject/>
  <dc:title>Presentación de PowerPoint</dc:title>
</cp:coreProperties>
</file>