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CB94-7FD9-4DBC-A22D-623EF461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57AE-2D65-41B6-B59E-9E5EA93CE7F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F3CA-40AE-40B7-85B6-F6E6906C32E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60E-A97C-4120-AA2A-A480B014BCA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76CA-4F19-4D4C-AF4A-3519F8B9614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F3B9-D965-45D1-B1B3-6B09CDCA8F5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9084-7CAE-4456-91F6-52C5F19AD6D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2011-ED83-47DA-A102-CFE1FE7B8B3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A226-EF86-4B72-84D7-EA258537C76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44BA-31F3-4731-AF4E-70D25794501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FA54-8DC4-4789-A7EB-E186B75B9EE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CF5-DA3D-455C-90F6-03619CEEBA5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79BB-E79D-4E54-8744-5332999DF58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1FBB-A706-49F9-8CF2-1127E4DEF79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521-1227-4F3A-B40A-1656B5FAEBE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CA75-F22D-447C-91EB-54F1A73D14B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F29-C4EA-4768-AF3E-38D5B760705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A49D-9FC0-46A3-9AA5-9245906B061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F23-051A-445E-BEFA-F6E6C73D90A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4DA1-0475-4866-9CCC-C1142E20DB9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156-47D1-402B-AE50-71315E83AA8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6BE7-F87C-4F6C-BE9E-BB1951D66DA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D992-DDC9-44A1-BB44-D525022F243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31EB-A87B-486F-B1B2-292EA44C825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D380-A933-462A-801E-17DF0EC91C4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22E2-A17B-4257-8527-0E8B96AC5E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EF46-1FC7-4CDD-BAFE-6D695A755B5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8A6C-D31E-4637-936D-B4B5A703197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FBB1-D6F7-419A-A970-A225FC4E477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21D2-6767-4767-AA6F-3490D751F1F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5E3-F0BC-4255-936B-FE3F2A360F6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6AAB-9B5A-447F-A4DB-B4E1D38D7A8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379B-F964-4012-9107-9EC997EA98F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B7BC-9CE5-42F6-AE44-C62B2035BB9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B69-1338-45F6-90D3-AAF8E6BF04A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49C9-814E-4876-943E-3E1D548D4ED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3697-6FEC-4FA8-949F-4A166237F7F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42C8-438D-4234-AD25-90A47216CAB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463-A2C1-46DE-8172-A425ACA0237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9F45-4CA1-4CD7-9EBF-E1435649EF1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48C-B9C8-40C8-9FEA-43DE899EC66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585-60BE-4172-897E-67E85711EA0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9A2-5814-4C2D-9DE0-D5BEDFCF040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B4D7-5E52-4480-89FD-24FFAF96C6F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9D10-4164-4FA9-AEE4-9AE689F3FA7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A950-3241-4079-A21A-524ED3C76A8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D823-C1D3-4970-B99C-D600BD85898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068F-C5EC-4711-9D2A-04001CAB2B8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7B7F-7FFD-4E49-8F3D-1040A9BF02D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27E4-EA3B-416A-8DA6-65799208C6F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5D35-D505-43FF-917F-B1F1EF9CF33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9C2B-E636-4422-9022-3960EE2C3BC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1285-1951-491F-A6E5-BB253E9D378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60EE-65A6-417D-8D36-6AFF9F7D2E7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223D-C697-46ED-BDD8-23D24DF08E7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5A59-3BC2-4FF3-BD86-66628AAA568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BFE1-C2BB-46D5-A6C4-187AE7933E0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7CC-E9A1-4765-985C-31727E4A566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604C-302C-415A-80AE-2BF47E5B12C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1AEF-BFC4-49A0-A45D-A1B38CA875E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533F-ABC9-41D9-A393-EA3CD5C6F4E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047-1009-48FF-A399-3AC760409ED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54A5-2A73-49DC-95E2-B57C6921BE8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8012-FC51-49F8-9F05-47AE34586AE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C60-DB06-4A76-8925-447DD7A4963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B98-9DBB-4455-B5B5-9240623DE41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A8EF-6C67-4EDA-B679-91E3D523609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C59E-05FE-4D74-9860-9C1FD1D856B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83F2-3255-41CA-B646-E4DDFC12321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019-C103-46AF-BD4B-69429DFF376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532D-AA99-41B2-95A1-ED334EFE2F5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4E3-FF46-4460-9D88-F468DD78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576-5376-4254-A434-C1A671A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416-F990-466B-BE4E-A60A010E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49C-EBA4-414E-9CFE-59389597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D9C-EC3F-4A97-85DA-A85742F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AB0-619E-4573-8897-BEDF225E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47A-D7BD-417C-A335-DA5F6A4B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1BD-D0E4-4A18-A7FF-A3717C3E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048-B2D8-42B1-9990-90FD6C9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4C6-6A3E-468C-8201-92E0437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6AD-D3E1-467E-A288-A774BE73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DBC-111A-4046-82AF-B640FF3C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F216-1B19-4A15-8A42-B9D1C1832D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4D7-4704-4F78-BCF0-4054C35A51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BAD-B441-4249-935A-D149BE6CCF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20CC-2A54-4AFD-BC4D-3C504D8BAA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0989-638C-4AF4-BAB2-D987211A98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9B5-70A7-4EF1-9185-14C415D1EA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231-A71F-4F9E-81C2-C1D6CD338EC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D7B5-5817-47A6-8258-312984174E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08/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ED66-E187-4920-9958-256A1FE9CC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08/2010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BC8D-D8CF-4DAB-960E-42B138B4B5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7B8-B8D1-4864-A514-609DE9A1DD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4C4E-9C5F-4C86-9D7B-E0300F85C2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E2B-1395-4478-A2E1-F89BB9E614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001-CBB4-439D-8AA1-0E3663A502A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DD83-76C8-44E6-9A90-0A6BEC16AA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65F-10E3-4B49-B557-BA74C644AB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1AB1-61F4-42D3-A57A-399DCAACEB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799A-EBAD-4219-AB43-A8EBE106DAC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E909-798B-4F32-9815-9D0EADA0B2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7830-0313-4528-ADEC-3264F54C67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D41D-37A6-415D-8B80-1048079E15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468B-C42B-4771-A6EA-3FD9634D6E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7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652F-527C-4DFF-8A85-1FD267C823A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DB4E-65D4-4994-8250-B731CC76A8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99AE-3524-458C-AA96-4415AD5FC1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2FB4-C891-43E8-A7CC-87231F300B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B2E7-972A-469C-9C55-9970976351E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3C5-6B8B-4B18-A2F5-0B86446810F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45B3-B668-4D18-AD76-948D14EC6C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1EBC-486C-433F-ABA4-04DE846AA1B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C1AB-E680-40E2-BDB5-B8ABAF9809F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08A2-0B1F-40BB-A340-601AF4B669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ACEE-1457-43A0-B393-2C89BCFA29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317C-E759-4B48-B6BF-6630A944ED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709E-6ABD-45BF-B152-452DA868D2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24A-A908-40FB-9047-D030BEF87F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8629-A6A9-40F3-A499-4E674DFC16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CCC-9194-47B8-AF1A-7F6670DFD23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94EB-1C80-4643-99BB-989BFDE1F62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C6C1-9EBB-462A-BDC5-3D8D94F2F0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BBB2-7DD4-40C9-8E14-A88EF4E0C9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9C8-8E94-47D8-A960-CA62746A49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03AA-170E-404F-AB71-21A84EE4D8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C76C-6DD9-40D6-8EF4-9AABB8425B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539-6BDF-46FF-B4D0-9F6A0EAC953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28D-FADB-4452-B7E3-2A8EC3ACD8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5710-68AD-47D9-B82F-621BB7A99B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DE00-3065-41FF-A248-232E3C6511D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894-E869-441C-AE3C-28C1E3BCCEC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34B4-D63A-4BFC-B613-6115970C087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29D7-E98A-4E84-9C95-4016E97932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6466-A09C-487C-AA70-64C40CDC8A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650-F035-463B-A59A-53D61A5F889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F91E-0C5E-4420-B16F-51E6B10DA01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C16E-D9B6-4AD2-840A-89D69BF3CC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3894-ABB0-478D-8C15-22FF9388A1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6DD-EC5C-4B74-A9A6-7453D0BDDB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4E72-93A3-48BD-BA86-1375128783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0C5-CD37-46D1-A475-26B519E510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8FD-1E08-4418-ACA5-44005BDA5B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108-8ECB-42C9-BDC3-930A70FC9B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E54-E914-4BBE-8F02-29D3D5646F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AF7-2CFD-47A9-AF45-593A28ECA0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E983-78A9-40D2-975D-B329EBF3F6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EA4-E02C-4961-BCCD-F13827EAC9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6303-DF2B-4C47-AD66-040EFDB9E04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65E-A7CB-44F9-BFA6-9B4B766D6B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8CDD-667C-40D2-8136-734405D397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7E0D-5855-42FA-8D8B-8772713B8A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13920" y="135684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 los profesore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85520" y="142848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 los Profes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48hs después de cada revisión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, el tester debe entregar un informe de las cosas que necesitan trata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581-F492-4DD8-806B-AA1EF88677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4E6-3589-4FF2-B8A9-871D3FF7CA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 los 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1-10-25T11:27:11Z</dcterms:modified>
  <cp:revision>235</cp:revision>
  <dc:subject/>
  <dc:title>Ingeniería de Software</dc:title>
</cp:coreProperties>
</file>