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6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9.png" ContentType="image/png"/>
  <Override PartName="/ppt/media/image9.png" ContentType="image/png"/>
  <Override PartName="/ppt/media/image37.wmf" ContentType="image/x-wmf"/>
  <Override PartName="/ppt/media/image40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.wmf" ContentType="image/x-wmf"/>
  <Override PartName="/ppt/media/image41.jpeg" ContentType="image/jpe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3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EDAB-F6A7-43C9-8012-6F8EA34F2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9D25-8AA3-4326-8BD0-FE22408DF81A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36F8-F297-40F0-9E2D-919F4FD968E8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E222-2D59-4EEC-9BDB-747C9E9FA69F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E375-0E15-45F5-BB87-4882369A2938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8DB0-364F-4902-9695-01A4289125E9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7ADA-9798-49B2-B9B1-CD4474C9C689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C555-D9BB-4C18-92EE-AA985CB9F786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E172-6D7F-4899-A7E8-593A9E999A97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69B8-46D6-4AE0-8F5A-4DC7F0D940FE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A488-829E-4763-A6B3-62387C53E8CE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AEDC-9AED-4FF5-B867-71601847F3BF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DA38-0A91-49C4-8831-06DCC08F9976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63440" y="4162320"/>
            <a:ext cx="682632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ldImg"/>
          </p:nvPr>
        </p:nvSpPr>
        <p:spPr>
          <a:xfrm>
            <a:off x="-3268800" y="1528920"/>
            <a:ext cx="9792000" cy="7343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ECC5-9365-4BDF-A424-A6A3CAC91574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0A51-AAE7-4B8F-BC7D-23D7FF5B7575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C261-FA77-4452-A513-EE1AD50B8806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482C-02EE-4F50-90CA-60286DAC3173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8527-0EF0-4C76-8E9E-DF12EDC6CCCC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CB34-B121-4B02-B29E-3A4719D08F71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FD41-6EF8-4B7A-B9B9-0434B2C3DC44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8BB1-EACB-48AD-8F23-643FEA28B51A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EF47-B9A5-465F-8533-AF7687E68A3C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1370-28BA-42A7-A746-DE9D3D7988C6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BE8D-E00F-4E68-B67F-B56A04073CE3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CC1D-7B3B-475B-BA16-CE898246198A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59ED-B7A9-4AB7-B2F9-C3D9BCBDA4D0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209D-8F67-4701-A25F-7ECF13039725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C7B2-5E9B-47CF-B272-9AA300C3A976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1D58-CD55-4772-BDA4-EABDD40389E9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0B03-6EED-4C3C-A1A1-738C29244957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D689-A4E6-4703-A164-5C7BFCD32FF5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E8A1-E951-48F7-AF42-F26F68105156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469B-C4FB-4207-B78E-5BF647A4C68E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0986-DA61-471E-960D-55DAFBACE9CB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F0E2-47BF-4EDF-B537-B8F247950BC2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9999-BCD0-4E6E-9194-D5AF959553C7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9FCA-B38D-4C1D-85CA-1554983E330F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57240" y="4571640"/>
            <a:ext cx="534816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RU Funciona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ermitir el enviar un Msg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ermitir el recibir un Msg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ermitir el mostrar un Msg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onocer el status de los usuarios conec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RU de Calida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sea fácil de us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50BF-CDD4-4D0E-8CA7-56CB803FDAB5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88E6-30F3-4F5B-9A9A-ADCFEF22758C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E85F-CFDD-4F4E-BB1C-8F78104C9B19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8EEA-4A99-40AC-98DC-9E9DC9539919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08FE-1CD2-4A6F-BE7B-D51E27062693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69B2-B4A3-4A02-95D5-EE30F774BD4D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FD71-941E-4CFA-A9F7-AA6DE2051E58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18DB-DC3F-4110-854D-F4B41B7966D2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057B-3177-40E7-A7CB-49B03F472255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5353-DB4A-486C-97F5-270889501194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A7E4-A035-463B-A2D1-E51FBBC2C6C3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D003-B57C-46D3-A0AF-396B5F4CFCBB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D8A2-B815-4DDD-B23D-480D67DE3629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A5C2-0DBD-4B65-B0DD-00EFA32D7454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BC70-75CA-46BA-ADDF-0C311A223FF9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18A0-ED6C-4D09-BF0D-89B407E68A28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3175-D3C6-4386-B5F8-3B40864B4501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A788-605D-486A-AD46-CD6ED51CFEA1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70D3-CB4E-4D37-BB83-AB98026EB645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D154-5BF3-4FD2-A535-8C5E94116936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B375-2E4B-4AC6-AC94-B98F74D601D8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57240" y="4571640"/>
            <a:ext cx="534816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RS asociados a los RU definid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el software funciones bajo una arq. C/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el usuario se identifique con un nombre de usuario al ingresar a la se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el servidor mantenga un registro de los usuarios conectados a la sesión de c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el software cliente provea una ventana pública (donde se muestran los mensajes) y una caja de texto donde se pueden ingresar los msg de tex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el software tenga un componente encargado de la E/S de mensaj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el software pueda enviar un msg al servi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el servidor pueda enviarle un msg a todos los clientes conectados a la sesión de c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los clientes cuando reciban un mensaje, lo muestren en la ventana pública a continuación del último mensaje recibi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los mensajes muestren (al comienzo del mensaje) el nombre del emisor del ms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la interfaz del chat se parezca a esto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A654-D0D9-421B-AE5A-4D01684D120A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FA4B-8A26-4968-94F8-0F34E2AA7A3D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E23E-35D6-44CB-9A60-2CA3FB11BCEC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B555-D23C-46CE-9A78-8144EADBF3F7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2FC3-A086-46F3-930D-034A1387A6B2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A37A-9E01-4B6B-A16A-F20E1A16A5C5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00B6-17E6-4884-AA5A-3024AAEE5F3B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DC25-1FE9-4A6B-846B-139271CFB982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FF17-034F-456F-B2F6-5644C69CD00E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671F-89B1-46B0-B6F4-CB2F0CD37D09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D5B7-A166-41C4-968E-506B8BF497C7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8511-720C-4247-9581-DB2800C21593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B167-B4F9-48AA-A612-EE78D78C502C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BA11-21B4-47E1-A323-20917E568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0200-79FA-4F12-AFA9-C0F6F18F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ED80-B1DD-4EFC-B9C7-17E67E55E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8D67-A64E-4C42-A718-1C0A8F58B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1C5E-717E-43A8-A51D-0BE745FF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125B-FB6B-40B5-8883-FBA453B7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8707-22A5-46B7-8C24-C410F4A3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AD82-86CB-459F-AA15-8F0DDEFF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9AA4-FA5F-41AC-A158-90C6B261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645C-95D9-410B-A2FC-0B9B051B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2B9C-7197-469C-8767-E22DAD86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D520-779E-4D96-ABE3-2C8AFD3A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7FA6-18DE-474F-B7D6-DB1B1707FB5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3E41-986C-4290-A893-E99B771FB10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1028"/>
          <p:cNvSpPr/>
          <p:nvPr/>
        </p:nvSpPr>
        <p:spPr>
          <a:xfrm>
            <a:off x="1357200" y="5357880"/>
            <a:ext cx="77868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Sergio Ochoa 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Versión 2.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1030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2857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specificación de Requisitos de Usuario y de Software según la ESA </a:t>
            </a:r>
            <a:r>
              <a:rPr b="1" i="1" lang="es-ES" sz="3200" spc="-1" strike="noStrike">
                <a:solidFill>
                  <a:srgbClr val="ffff00"/>
                </a:solidFill>
                <a:latin typeface="Arial"/>
                <a:ea typeface="Arial"/>
              </a:rPr>
              <a:t>(European Space Agency)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7C77-A397-430D-8E30-AAF48E76413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71720" y="0"/>
            <a:ext cx="79293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Capturar los Req.de </a:t>
            </a: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Usuari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1800" y="1414440"/>
            <a:ext cx="6381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roceso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iterativ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(especificación y validació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Se realizan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entrevistas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con  los clientes/usuarios (vea la clase sobre entrevista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Se usan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cuestionar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Se revisan todos los informes, manuales, formularios y código fuente de los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sistemas legados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involucra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Se establecen acuerdos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con respecto a los límites del sistem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os requisitos se validan usando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prototipos del sistema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a construi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7629480" y="5838840"/>
            <a:ext cx="1514520" cy="1019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6608880" y="1000080"/>
            <a:ext cx="23670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84B2-6D05-4BE4-8EF4-B3F013AECC1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Ambiente Oper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4280" y="3600000"/>
            <a:ext cx="7966080" cy="28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s una narrativ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que puede apoyarse de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agr. de contexto o de bloqu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, que permita mostrar el uso del sistema en un contexto más ampl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Cosas a revisar en la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efinición del escenario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61840" indent="-285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cursos involucrados (hardware y softwar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1840" indent="-285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Tipos de comunicac. a usar (telef., LAN, WAN, etc.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1840" indent="-285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Interfaces con otros sistemas (en producción o en desarrollo) involucrados en el escenario de trabaj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5334120" y="907920"/>
            <a:ext cx="3809880" cy="23432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1214280" y="1285920"/>
            <a:ext cx="410544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s el primer pas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para definir los requisitos de softwar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Se debe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stablece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el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scenari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en el que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perará el softwa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a desarrolla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1136-CEDD-46F0-8F3F-515DB3F5C03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Especificac. de Req. de Usuari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4280" y="1500120"/>
            <a:ext cx="5878800" cy="50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301"/>
              </a:spcBef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Los tipos de requisitos de usuarios son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01"/>
              </a:spcBef>
              <a:spcAft>
                <a:spcPts val="162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de Capacidades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requeridas por los usuarios para resolver un problema o determinar un objetiv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01"/>
              </a:spcBef>
              <a:spcAft>
                <a:spcPts val="162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de Calidad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del software para funcionar o garantizar su normal funcionamient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01"/>
              </a:spcBef>
              <a:spcAft>
                <a:spcPts val="162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de Restricciones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impuestas por los usuarios, sobre la forma como debe ser resuelto el problema, o logrado el objetiv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7238880" y="907920"/>
            <a:ext cx="1905120" cy="2219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7236000" y="3267000"/>
            <a:ext cx="1908000" cy="1530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7581960" y="4869000"/>
            <a:ext cx="152712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C891-F99B-4F6B-9739-A8D00E66CE5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Especificac. de Req. de Usuari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4280" y="135684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Algunos problemas en la definición de URs so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Correctitu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Completitu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Consistenc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Independencia de otros requisit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Ambigüe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56D3-647B-4382-8761-1C89C6894F0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Especificac. de Req. de Usuari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357200" y="977760"/>
            <a:ext cx="7786800" cy="58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1373-04D2-4865-B25C-555579DCD21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  <a:ea typeface="Arial"/>
              </a:rPr>
              <a:t>Ejemplo de Especificac. de Req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1428480"/>
            <a:ext cx="77724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lantilla basada en la propuesta de Tom Gilb (Gilb, 1988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ID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RC2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NOMBRE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Consistenc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CAL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Probabilidad de que dos mediciones básicas sean consisten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RUEB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1000 mediciones básicas comparadas usando 3 cifras significativ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ACTUAL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entre 90% y 95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EOR ACEPTABLE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98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LANIFICADO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99.5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AUTORIDAD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minuta del 20/08/201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404D-C5A8-4284-916C-73D0BF61F2C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Otro Ejemplo 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56840" y="1285560"/>
            <a:ext cx="754884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52520" indent="0">
              <a:lnSpc>
                <a:spcPct val="80000"/>
              </a:lnSpc>
              <a:spcBef>
                <a:spcPts val="10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D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RC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NOMBRE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onsistenc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SCALA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Probabilidad de que se muestre un dato inconsistente, sin que se advierta su inconsistenc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RUEBA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sobre una base de datos 100% consistente, se ingresan inconsistencias hasta hacerla 98% inconsistente. Luego se cuentan los datos inconsistentes no detectad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CTUAL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100% (no hay detecció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EOR ACEPTABLE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5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LANIFICADO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1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UTORIDAD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Entrevista con Usuario (05/08/2010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9F3D-F6A3-48B7-A33E-DBFB3E26A9D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La Escal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85920" y="1557000"/>
            <a:ext cx="732456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La escala: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es la medición que se hará de un atributo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be decir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qué es lo que se mid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, y en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qué unidad de medid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 una medición teórica (por ej. en kilogramos, metros, etc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 medición práctica asociada se llama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ueb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(por ej. uso de una pesa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 escala dice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qué?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se mi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 prueba dice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ómo?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se mi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Veamos el siguiente ejemplo de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scala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7380360" y="190440"/>
            <a:ext cx="172872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D13B-AC37-42AE-9CB6-4B02E5F47CD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La Escala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14000" y="1499760"/>
            <a:ext cx="74725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Supongamos el atributo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Amistosidad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(facilidad de uso) de un softw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- Facilidad de Aprendiza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CALA = minutos de aprendiz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LAN = 5 minu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- Productiv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CALA = tareas por h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LAN = 20 tare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La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amistosidad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no tiene escala, se define a través de sus sub-atributos: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facilidad de aprendizaj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, y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productividad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6451560" y="2786040"/>
            <a:ext cx="269244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F8A8-B315-400F-B2DB-D8B86537EAD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La Escala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4280" y="1213920"/>
            <a:ext cx="5857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7040" indent="-437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Hay que definir las cosas en aquel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vel de detall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que nos permita controlar los parámetros críticos d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7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37040" indent="-437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Lo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nceptos abstract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como “amistosidad”, normalmente necesitan explos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7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37040" indent="-437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nceptos ambigu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como “mejor que el sistema actual”, siempre necesitan explos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7518240" y="4826160"/>
            <a:ext cx="1625760" cy="2017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7066080" y="981000"/>
            <a:ext cx="207792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D529-C1D8-4BA2-BC7C-32721E7FA83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Estructura de la Present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142848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2401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Motiv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2401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Definición de Requisitos de Usuari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2401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Definición de Requisitos de Softwa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2401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Administración (control y monitoreo) de Requisitos durante un Proyec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2401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Bibliografía y cas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FEFF-5462-46EC-AC1C-E469B225695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La Prueb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3920" y="1356840"/>
            <a:ext cx="5357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a prueba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es el modo de medir un atribu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Idealmente la prueba se refiere a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nceptos ya conocid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y medidos en la organiz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 mejor partir con una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ueba poco precis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, antes que partir sin una prueb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spués se podrá mejorar.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 pruebas tienen que especificarse por escri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“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más vale una prueba mediocre por escrito, que una prueba perfecta sin especificar (que está en la cabeza de alguien)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7107120" y="0"/>
            <a:ext cx="2036880" cy="2276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6481800" y="3357720"/>
            <a:ext cx="26622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7B0B-720C-4DEA-83C8-CC068FC3B48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La Prueba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4280" y="1628640"/>
            <a:ext cx="77155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Se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reconoce el costo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de la medición (para el presupuesto y el pla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Todos sabrán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que el alcance del objetivo se puede y se va a medi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Se puede preparar un punteo preliminar de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un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plan de prueba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para los atributos más crític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01800" indent="-2602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i no se dice lo contrario, la prueba es aplicable durante las pruebas de acept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1800" indent="-2602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os tiempos o las fases pueden especificarse entre paréntesis. Por ejempl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1800"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RUEBA (diseño)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= usar inspeccion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1800"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RUEBA (codificación)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= usar pruebas de unidad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1800"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RUEBA (producción)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= usar datos de uso del sist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7686720" y="0"/>
            <a:ext cx="14572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827D-315D-4D85-89CA-74305D9A377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Peor Cas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28840" y="1700280"/>
            <a:ext cx="7572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peor caso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s el peor nivel aceptable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bajo cualquier circunstanc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440" indent="-285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Cualquier valor menor significa que hubo fracas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440" indent="-285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Obviamente, para tener éxito no podemos tener todos los atributos en este nive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440" indent="-285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 idea es llegar al nivel planific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eor cas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de cada atributo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ebe ponerse e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un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ntrato leg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440" indent="-285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i no se cumple, el proveedor está en deu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440" indent="-285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e podrían incluso definir mult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440" indent="-285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s partes interesadas deben firmar: cliente y proveed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8F98-3BA8-4AA7-8056-C44FCCB67EB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4280" y="0"/>
            <a:ext cx="7243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Peor Caso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85920" y="1571400"/>
            <a:ext cx="74008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ara determinar el peor cas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magine un nivel que sea siempre inacep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mpiece a subir el nivel hasta llegar a un punto en donde en “ciertos casos” sería acep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Si es necesario defina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ás de un peor cas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 Uno para cada período. Por 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392120" indent="0">
              <a:lnSpc>
                <a:spcPct val="100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EOR (marcha blanca) = 8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392120" indent="0">
              <a:lnSpc>
                <a:spcPct val="100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EOR (operación inicial) = 95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392120" indent="0">
              <a:lnSpc>
                <a:spcPct val="100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EOR (después de garantía) = 99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392120" indent="0">
              <a:lnSpc>
                <a:spcPct val="100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6500880" y="0"/>
            <a:ext cx="26431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78D5-2358-4003-9234-F02C132D7EC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85560" y="0"/>
            <a:ext cx="7172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Nivel Planifica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57200" y="1642680"/>
            <a:ext cx="73296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nivel planificado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es aquel nivel que se desea alcanzar, en conjunto con los demás atribu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-2685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te es el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límite de la definición de éxit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-2685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Una vez que este límite es alcanzado, ya no es necesario asignar más recursos allí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-2685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Alcanzar el nivel planificado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o significa “perfección”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-2685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Éste es u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vel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que debe ser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lcanzable y realist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-2685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be ser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nsistent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con los niveles planificados de los demás atribu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9" name="Object 4"/>
          <p:cNvGraphicFramePr/>
          <p:nvPr/>
        </p:nvGraphicFramePr>
        <p:xfrm>
          <a:off x="1752480" y="5518080"/>
          <a:ext cx="7391520" cy="13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5518080"/>
                    <a:ext cx="739152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1" name="Picture 5" descr=""/>
          <p:cNvPicPr/>
          <p:nvPr/>
        </p:nvPicPr>
        <p:blipFill>
          <a:blip r:embed="rId3"/>
          <a:stretch/>
        </p:blipFill>
        <p:spPr>
          <a:xfrm>
            <a:off x="6227640" y="0"/>
            <a:ext cx="2916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150B-2433-470E-97F2-479AA9ADF6D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4280" y="0"/>
            <a:ext cx="7243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Nivel Planifica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4280" y="1557360"/>
            <a:ext cx="77868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604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¿Cómo se define el nivel planificado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-4460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No es fácil, y es un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oceso iterativ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-4460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s muy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imilar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hacer un presupuest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, o una carta Gant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4600" indent="-2242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l nivel planificado del recurso “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nero”, es el presupuest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4600" indent="-2242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l nivel planificado del recurso “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iempo” es la duració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estimada del proyec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-4460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deas que ayuda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4600" indent="-2242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Usar información de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oyectos similar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4600" indent="-2242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Usar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información históric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de la empres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4600" indent="-2242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Usar información de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oductos de la competenci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4"/>
          <a:stretch/>
        </p:blipFill>
        <p:spPr>
          <a:xfrm>
            <a:off x="6227640" y="0"/>
            <a:ext cx="2916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E0EF-7100-4C68-97B8-E718B790173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85560" y="0"/>
            <a:ext cx="7172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Nivel Planifica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76248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604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¿Cómo se define el nivel planificado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6040" indent="-356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iempre conviene partir con niveles planificados </a:t>
            </a:r>
            <a:r>
              <a:rPr b="0" i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definidos, aunque sea a oj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6040" indent="-356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n general es sano ser un </a:t>
            </a:r>
            <a:r>
              <a:rPr b="0" i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“poco” optimist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, pero sólo al interior del equipo de trabaj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46360" indent="-31428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Así obligamos a los diseñadores a pensar má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46360" indent="-31428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Eso nos permite mejorar nuestros produc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46360" indent="-31428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Hay que estar dispuesto a retractar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6040" indent="-3560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os usuarios/clientes/desarrolladores deben entender que son estimaciones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4"/>
          <a:stretch/>
        </p:blipFill>
        <p:spPr>
          <a:xfrm>
            <a:off x="6227640" y="0"/>
            <a:ext cx="2916360" cy="16002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5"/>
          <p:cNvSpPr/>
          <p:nvPr/>
        </p:nvSpPr>
        <p:spPr>
          <a:xfrm>
            <a:off x="1285920" y="5516640"/>
            <a:ext cx="76946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ADVERTENCI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Los niveles especificados en este documento representan las mejores estimaciones disponibles hasta la fase de ***. No comprometen a ninguna de las partes involucradas, excepto que se diga explícitamente lo contrario. Sólo existen para ayudar a encontrar soluciones factibl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0999-25E5-4764-A053-750E46CF2B4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4280" y="0"/>
            <a:ext cx="7243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Nivel Planifica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57200" y="1628280"/>
            <a:ext cx="77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o que hace difícil pensar en los 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niveles planificad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es que 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todos deben satisfacers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ara establecer el nivel planificado de un atributo, 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hay que considerar todos los atributos que interactúan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on é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343080">
              <a:lnSpc>
                <a:spcPct val="80000"/>
              </a:lnSpc>
              <a:spcBef>
                <a:spcPts val="624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 aquí donde se consideran las interaccion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343080">
              <a:lnSpc>
                <a:spcPct val="80000"/>
              </a:lnSpc>
              <a:spcBef>
                <a:spcPts val="624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 aquí donde se evalúan las opciones del cl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343080">
              <a:lnSpc>
                <a:spcPct val="80000"/>
              </a:lnSpc>
              <a:spcBef>
                <a:spcPts val="624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 aquí donde se considera la factibilid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343080">
              <a:lnSpc>
                <a:spcPct val="80000"/>
              </a:lnSpc>
              <a:spcBef>
                <a:spcPts val="624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n el peor de los casos, basta ver cada atributo por separ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0">
              <a:lnSpc>
                <a:spcPct val="80000"/>
              </a:lnSpc>
              <a:spcBef>
                <a:spcPts val="2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“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Si un sistema no necesita ser confiable, puede satisfacer cualquier otro requisito”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(Ley cero de la confiabilidad de Weinberg)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6227640" y="0"/>
            <a:ext cx="2916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5605-19C4-462A-918B-2939F6224C2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Mejor Cas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7534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mejor caso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s el mejor valor que se sabe ha sido alcanzado en alguna situación. También se llama nivel 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record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ara calificar se usan paréntesis; por 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593720" indent="-457200">
              <a:lnSpc>
                <a:spcPct val="90000"/>
              </a:lnSpc>
              <a:spcBef>
                <a:spcPts val="90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MEJOR (competidor xx) = 80% (revista YY, Nov.2007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93720" indent="-457200">
              <a:lnSpc>
                <a:spcPct val="90000"/>
              </a:lnSpc>
              <a:spcBef>
                <a:spcPts val="90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MEJOR (competidor xx, futuro) = 90% (revista YY, Nov.2000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93720" indent="-457200">
              <a:lnSpc>
                <a:spcPct val="90000"/>
              </a:lnSpc>
              <a:spcBef>
                <a:spcPts val="90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MEJOR (prototipo ideal, nuestro) = 95%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uso del 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mejor caso es op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100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irve para informar los límites de la ingeniería actu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100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No es una idea irrealizable (operación 100% continua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7715160" y="1890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7854-8B54-43C2-9DCE-86BF0398444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Nivel Actu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56840" y="1672920"/>
            <a:ext cx="75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i="1" lang="es-ES" sz="2800" spc="-1" strike="noStrike">
                <a:solidFill>
                  <a:srgbClr val="ffff00"/>
                </a:solidFill>
                <a:latin typeface="Arial"/>
                <a:ea typeface="Arial"/>
              </a:rPr>
              <a:t>nivel actual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s el nivel de un atributo contra el que queremos compar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1440" indent="-33264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yuda a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ntende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valua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, y aprobar los otros nive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1440" indent="-33264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ún cuando no hay un sistema que se reemplace, el proceso o su equivalente, se está haciendo.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e ahí se puede tomar el nivel actu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1440" indent="-33264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a comparación también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uede hacerse con la competenci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u otros sistem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i="1" lang="es-ES" sz="2800" spc="-1" strike="noStrike">
                <a:solidFill>
                  <a:srgbClr val="ffff00"/>
                </a:solidFill>
                <a:latin typeface="Arial"/>
                <a:ea typeface="Arial"/>
              </a:rPr>
              <a:t>nivel actual es opcional</a:t>
            </a:r>
            <a:r>
              <a:rPr b="1" i="1" lang="es-E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7496280" y="160200"/>
            <a:ext cx="135252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BEF3-D3B5-4C12-85E5-C4100D8D5CA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Motiv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386000" y="2178000"/>
            <a:ext cx="77580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44D8-AD55-4A33-BFA9-E5805C3AA92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Nivel Actual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85560" y="1700280"/>
            <a:ext cx="75531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Diferencia entre “nivel actual” y “mejor nivel”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nivel “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ctu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” es desde donde partim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“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ejo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” nivel no es el punto de partida, sino el nivel más alto que alguna vez se ha medi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Usualmente, el nivel “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lanificad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” es mejor que el “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ctu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asi siempre el nivel “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lanificad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” es peor que el “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ejo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” niv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593720" indent="-45720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 excepción es cuando se quiere hacer avanzar el estado del ar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7496280" y="160200"/>
            <a:ext cx="135252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7906-7588-4465-AB4D-2C8143B7D02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La Autor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85560" y="5084640"/>
            <a:ext cx="75531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0">
              <a:lnSpc>
                <a:spcPct val="80000"/>
              </a:lnSpc>
              <a:spcBef>
                <a:spcPts val="62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La autoridad es opcional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(pero es muy útil tenerla)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y puede haber más de una. Por ejempl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AUTORIDAD = Documento de análisis de Juan Pérez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AUTORIDAD = Anexo A del contrato, sección 5.6b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28764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1285920" y="1557360"/>
            <a:ext cx="60228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a autoridad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Indica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qué, quién o quién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sustentan el requisito?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uede ser la orden de un jef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uede ser un manual de procedimien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uede ser un requisito ya aprob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uede ser un contra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O incluso, una ocurrencia basada en la experiencias previ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6115-38DE-4552-B1EF-AF9B986DFAF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85920" y="0"/>
            <a:ext cx="7858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jemplos de Req. de Cal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85560" y="1335240"/>
            <a:ext cx="519588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stos atributos </a:t>
            </a:r>
            <a:r>
              <a:rPr b="0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deberían ser revisados cuidadosamente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 la hora de especificar un sistem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sto es porque aparecen en la mayoría de los proyec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ntre los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Requisitos de Calidad Típic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figura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Group 4"/>
          <p:cNvGrpSpPr/>
          <p:nvPr/>
        </p:nvGrpSpPr>
        <p:grpSpPr>
          <a:xfrm>
            <a:off x="1538280" y="4581360"/>
            <a:ext cx="7391520" cy="2046240"/>
            <a:chOff x="1538280" y="4581360"/>
            <a:chExt cx="7391520" cy="2046240"/>
          </a:xfrm>
        </p:grpSpPr>
        <p:sp>
          <p:nvSpPr>
            <p:cNvPr id="186" name="Rectangle 5"/>
            <p:cNvSpPr/>
            <p:nvPr/>
          </p:nvSpPr>
          <p:spPr>
            <a:xfrm>
              <a:off x="5303880" y="4581360"/>
              <a:ext cx="3625920" cy="20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Usabilidad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tendi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prendi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per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ceptación de Us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Rectangle 6"/>
            <p:cNvSpPr/>
            <p:nvPr/>
          </p:nvSpPr>
          <p:spPr>
            <a:xfrm>
              <a:off x="5121360" y="4581360"/>
              <a:ext cx="182520" cy="20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1538280" y="4581360"/>
              <a:ext cx="3583080" cy="20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ncionalidad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ertinenc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cisió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teroper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herenc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gur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Line 8"/>
            <p:cNvSpPr/>
            <p:nvPr/>
          </p:nvSpPr>
          <p:spPr>
            <a:xfrm>
              <a:off x="1538280" y="6627600"/>
              <a:ext cx="73915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Line 9"/>
            <p:cNvSpPr/>
            <p:nvPr/>
          </p:nvSpPr>
          <p:spPr>
            <a:xfrm>
              <a:off x="1538280" y="4581360"/>
              <a:ext cx="0" cy="20462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Line 10"/>
            <p:cNvSpPr/>
            <p:nvPr/>
          </p:nvSpPr>
          <p:spPr>
            <a:xfrm>
              <a:off x="5121360" y="4581360"/>
              <a:ext cx="0" cy="2046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Line 11"/>
            <p:cNvSpPr/>
            <p:nvPr/>
          </p:nvSpPr>
          <p:spPr>
            <a:xfrm>
              <a:off x="8929800" y="4581360"/>
              <a:ext cx="0" cy="20462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Line 12"/>
            <p:cNvSpPr/>
            <p:nvPr/>
          </p:nvSpPr>
          <p:spPr>
            <a:xfrm>
              <a:off x="5303880" y="4581360"/>
              <a:ext cx="0" cy="2046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Line 13"/>
            <p:cNvSpPr/>
            <p:nvPr/>
          </p:nvSpPr>
          <p:spPr>
            <a:xfrm>
              <a:off x="5121360" y="4581360"/>
              <a:ext cx="18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Line 14"/>
            <p:cNvSpPr/>
            <p:nvPr/>
          </p:nvSpPr>
          <p:spPr>
            <a:xfrm>
              <a:off x="1538280" y="4581360"/>
              <a:ext cx="35830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Line 15"/>
            <p:cNvSpPr/>
            <p:nvPr/>
          </p:nvSpPr>
          <p:spPr>
            <a:xfrm>
              <a:off x="5303880" y="4581360"/>
              <a:ext cx="3625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7" name="Picture 16" descr=""/>
          <p:cNvPicPr/>
          <p:nvPr/>
        </p:nvPicPr>
        <p:blipFill>
          <a:blip r:embed="rId1"/>
          <a:stretch/>
        </p:blipFill>
        <p:spPr>
          <a:xfrm>
            <a:off x="6469200" y="1000080"/>
            <a:ext cx="26748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DAEE-7E48-472D-9242-81F1CBB5B66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jemplos de Req. de Cal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57200" y="1356840"/>
            <a:ext cx="5214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ntre los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Requisitos de Calidad Típic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figura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1" name="Group 4"/>
          <p:cNvGrpSpPr/>
          <p:nvPr/>
        </p:nvGrpSpPr>
        <p:grpSpPr>
          <a:xfrm>
            <a:off x="1467000" y="2852640"/>
            <a:ext cx="7391160" cy="2183040"/>
            <a:chOff x="1467000" y="2852640"/>
            <a:chExt cx="7391160" cy="2183040"/>
          </a:xfrm>
        </p:grpSpPr>
        <p:sp>
          <p:nvSpPr>
            <p:cNvPr id="202" name="Rectangle 5"/>
            <p:cNvSpPr/>
            <p:nvPr/>
          </p:nvSpPr>
          <p:spPr>
            <a:xfrm>
              <a:off x="5232240" y="2852640"/>
              <a:ext cx="3625560" cy="21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ortabilidad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apt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stanci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ecuació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emplaz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Rectangle 6"/>
            <p:cNvSpPr/>
            <p:nvPr/>
          </p:nvSpPr>
          <p:spPr>
            <a:xfrm>
              <a:off x="5049720" y="2852640"/>
              <a:ext cx="182160" cy="21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Rectangle 7"/>
            <p:cNvSpPr/>
            <p:nvPr/>
          </p:nvSpPr>
          <p:spPr>
            <a:xfrm>
              <a:off x="1467000" y="2852640"/>
              <a:ext cx="3582720" cy="21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antenibilidad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naliz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ambi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st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mostr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Line 8"/>
            <p:cNvSpPr/>
            <p:nvPr/>
          </p:nvSpPr>
          <p:spPr>
            <a:xfrm>
              <a:off x="1467000" y="5035680"/>
              <a:ext cx="73911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Line 9"/>
            <p:cNvSpPr/>
            <p:nvPr/>
          </p:nvSpPr>
          <p:spPr>
            <a:xfrm>
              <a:off x="1467000" y="2852640"/>
              <a:ext cx="0" cy="2183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Line 10"/>
            <p:cNvSpPr/>
            <p:nvPr/>
          </p:nvSpPr>
          <p:spPr>
            <a:xfrm>
              <a:off x="5049720" y="2852640"/>
              <a:ext cx="0" cy="2183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Line 11"/>
            <p:cNvSpPr/>
            <p:nvPr/>
          </p:nvSpPr>
          <p:spPr>
            <a:xfrm>
              <a:off x="8858160" y="2852640"/>
              <a:ext cx="0" cy="2183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Line 12"/>
            <p:cNvSpPr/>
            <p:nvPr/>
          </p:nvSpPr>
          <p:spPr>
            <a:xfrm>
              <a:off x="5232240" y="2852640"/>
              <a:ext cx="0" cy="2183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Line 13"/>
            <p:cNvSpPr/>
            <p:nvPr/>
          </p:nvSpPr>
          <p:spPr>
            <a:xfrm>
              <a:off x="5049720" y="2852640"/>
              <a:ext cx="182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Line 14"/>
            <p:cNvSpPr/>
            <p:nvPr/>
          </p:nvSpPr>
          <p:spPr>
            <a:xfrm>
              <a:off x="1467000" y="2852640"/>
              <a:ext cx="35827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Line 15"/>
            <p:cNvSpPr/>
            <p:nvPr/>
          </p:nvSpPr>
          <p:spPr>
            <a:xfrm>
              <a:off x="5232240" y="2852640"/>
              <a:ext cx="36255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Group 16"/>
          <p:cNvGrpSpPr/>
          <p:nvPr/>
        </p:nvGrpSpPr>
        <p:grpSpPr>
          <a:xfrm>
            <a:off x="1467000" y="5033880"/>
            <a:ext cx="7391160" cy="1668600"/>
            <a:chOff x="1467000" y="5033880"/>
            <a:chExt cx="7391160" cy="1668600"/>
          </a:xfrm>
        </p:grpSpPr>
        <p:sp>
          <p:nvSpPr>
            <p:cNvPr id="214" name="Rectangle 17"/>
            <p:cNvSpPr/>
            <p:nvPr/>
          </p:nvSpPr>
          <p:spPr>
            <a:xfrm>
              <a:off x="5232240" y="5033880"/>
              <a:ext cx="3625560" cy="166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fiabilidad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adure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olerancia a Falla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cuper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Rectangle 18"/>
            <p:cNvSpPr/>
            <p:nvPr/>
          </p:nvSpPr>
          <p:spPr>
            <a:xfrm>
              <a:off x="5049720" y="5033880"/>
              <a:ext cx="182160" cy="166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Rectangle 19"/>
            <p:cNvSpPr/>
            <p:nvPr/>
          </p:nvSpPr>
          <p:spPr>
            <a:xfrm>
              <a:off x="1467000" y="5033880"/>
              <a:ext cx="3582720" cy="166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Eficiencia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ndimient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Uso de Recurs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Line 20"/>
            <p:cNvSpPr/>
            <p:nvPr/>
          </p:nvSpPr>
          <p:spPr>
            <a:xfrm>
              <a:off x="1467000" y="5033880"/>
              <a:ext cx="73911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Line 21"/>
            <p:cNvSpPr/>
            <p:nvPr/>
          </p:nvSpPr>
          <p:spPr>
            <a:xfrm>
              <a:off x="1467000" y="6702480"/>
              <a:ext cx="73911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Line 22"/>
            <p:cNvSpPr/>
            <p:nvPr/>
          </p:nvSpPr>
          <p:spPr>
            <a:xfrm>
              <a:off x="1467000" y="5033880"/>
              <a:ext cx="0" cy="16686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Line 23"/>
            <p:cNvSpPr/>
            <p:nvPr/>
          </p:nvSpPr>
          <p:spPr>
            <a:xfrm>
              <a:off x="5049720" y="5033880"/>
              <a:ext cx="0" cy="166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Line 24"/>
            <p:cNvSpPr/>
            <p:nvPr/>
          </p:nvSpPr>
          <p:spPr>
            <a:xfrm>
              <a:off x="5232240" y="5033880"/>
              <a:ext cx="0" cy="166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Line 25"/>
            <p:cNvSpPr/>
            <p:nvPr/>
          </p:nvSpPr>
          <p:spPr>
            <a:xfrm>
              <a:off x="8858160" y="5033880"/>
              <a:ext cx="0" cy="16686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23" name="Picture 26" descr=""/>
          <p:cNvPicPr/>
          <p:nvPr/>
        </p:nvPicPr>
        <p:blipFill>
          <a:blip r:embed="rId1"/>
          <a:stretch/>
        </p:blipFill>
        <p:spPr>
          <a:xfrm>
            <a:off x="6786720" y="982800"/>
            <a:ext cx="2357280" cy="17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8268-70C4-490A-96A5-A8B899B65FE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Requisitos de Calidad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Rectangle 26"/>
          <p:cNvSpPr/>
          <p:nvPr/>
        </p:nvSpPr>
        <p:spPr>
          <a:xfrm>
            <a:off x="2987640" y="4076640"/>
            <a:ext cx="2735280" cy="25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2a1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Req. Funcional 1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1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Req. Funcional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1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Req. Funcional 3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1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Req. Funcional 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1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Req. Funcional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1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Req. Funcional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1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Req. Funcional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42640" y="1356840"/>
            <a:ext cx="80010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os requisitos de calidad son transversales a los requisitos funcion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También se los suele llamar “aspectos de diseño” de un softwa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28"/>
          <p:cNvSpPr/>
          <p:nvPr/>
        </p:nvSpPr>
        <p:spPr>
          <a:xfrm>
            <a:off x="2807640" y="3406680"/>
            <a:ext cx="546120" cy="2737080"/>
          </a:xfrm>
          <a:prstGeom prst="rect">
            <a:avLst/>
          </a:prstGeom>
          <a:solidFill>
            <a:srgbClr val="c0c0c0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ff"/>
                </a:solidFill>
                <a:latin typeface="Arial"/>
                <a:ea typeface="Arial"/>
              </a:rPr>
              <a:t>Mantenib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30"/>
          <p:cNvSpPr/>
          <p:nvPr/>
        </p:nvSpPr>
        <p:spPr>
          <a:xfrm>
            <a:off x="4164840" y="3406680"/>
            <a:ext cx="546120" cy="2737080"/>
          </a:xfrm>
          <a:prstGeom prst="rect">
            <a:avLst/>
          </a:prstGeom>
          <a:solidFill>
            <a:srgbClr val="c0c0c0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ff"/>
                </a:solidFill>
                <a:latin typeface="Arial"/>
                <a:ea typeface="Arial"/>
              </a:rPr>
              <a:t>Portab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31"/>
          <p:cNvSpPr/>
          <p:nvPr/>
        </p:nvSpPr>
        <p:spPr>
          <a:xfrm>
            <a:off x="5522040" y="3406680"/>
            <a:ext cx="546120" cy="2737080"/>
          </a:xfrm>
          <a:prstGeom prst="rect">
            <a:avLst/>
          </a:prstGeom>
          <a:solidFill>
            <a:srgbClr val="c0c0c0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ff"/>
                </a:solidFill>
                <a:latin typeface="Arial"/>
                <a:ea typeface="Arial"/>
              </a:rPr>
              <a:t>Usab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B18B-C86E-452C-99AD-A3AE5741685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13920" y="-360"/>
            <a:ext cx="79297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Especificac. de Req. de Usuari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85920" y="1357200"/>
            <a:ext cx="7858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Atributos de requisitos de usuar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La forma completa de especificar requisitos, es parecida a la propuesta de Tom Gilb (vista en transparencias anterior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or razones de background del equipo de trabajo, y de tiempo para desarrollar el proyecto, especificaremos los requisitos de la siguiente maner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ara </a:t>
            </a:r>
            <a:r>
              <a:rPr b="0" i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equisitos Funciona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y de </a:t>
            </a:r>
            <a:r>
              <a:rPr b="0" i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estric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, especifica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Identificador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. Identifica unívocamente al requisi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Descripción.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Describe el requisi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Prioridad.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Indica una prioridad. Por ej.(alta-media-baj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Usuarios.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Identifica los tipos de usuario que se verán afectados por este requisi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Fuente.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Referencia a la fuente de donde surgió el requisito (documento, grupo, entrevista, etc.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4B69-3D0E-404C-A84F-D71AF2C8DDA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Especificac. de Req. de Usuari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56840" y="1285560"/>
            <a:ext cx="764388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Atributos de requisitos de softwa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ara </a:t>
            </a:r>
            <a:r>
              <a:rPr b="0" i="1" lang="es-CL" sz="2400" spc="-1" strike="noStrike">
                <a:solidFill>
                  <a:srgbClr val="ffff66"/>
                </a:solidFill>
                <a:latin typeface="Arial"/>
                <a:ea typeface="Arial"/>
              </a:rPr>
              <a:t>Requisitos de Calidad relevant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, se recomienda utilizar el formato completo de especific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90000"/>
              </a:lnSpc>
              <a:spcBef>
                <a:spcPts val="15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ara </a:t>
            </a:r>
            <a:r>
              <a:rPr b="0" i="1" lang="es-CL" sz="2400" spc="-1" strike="noStrike">
                <a:solidFill>
                  <a:srgbClr val="ffff66"/>
                </a:solidFill>
                <a:latin typeface="Arial"/>
                <a:ea typeface="Arial"/>
              </a:rPr>
              <a:t>Requisitos de Calidad poco relevant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, se recomienda utilizar el mismo formato (simplificado) que para los Requisitos Funcionales y de Restri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En nuestro caso utilizaremos los formatos propuestos en </a:t>
            </a:r>
            <a:r>
              <a:rPr b="1" i="1" lang="es-CL" sz="2400" spc="-1" strike="noStrike">
                <a:solidFill>
                  <a:srgbClr val="ffff66"/>
                </a:solidFill>
                <a:latin typeface="Arial"/>
                <a:ea typeface="Arial"/>
              </a:rPr>
              <a:t>ReqAdmin:</a:t>
            </a:r>
            <a:r>
              <a:rPr b="1" i="1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http://anakena.dcc.uchile.cl/~reqadmin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9E72-41EF-41D5-870B-1441AF5FA13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Revisiones del UR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22280" y="1213920"/>
            <a:ext cx="567864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as salidas de esta etapa deben ser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formalmente revisadas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durante la actividad de revisión de Requisitos de Usuarios (UR/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stán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involucrado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los: usuarios, clientes, analistas, administrador del proyecto, y los tést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s aconsejable realizar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revisiones periódic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, antes de la revisión fi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so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mejorará la calidad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y la disponibilidad del producto final de la fase (URD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6950160" y="5214960"/>
            <a:ext cx="21938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FC9A-1577-47E6-8963-DC96DED5839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UR: Salida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74628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Documento de Requisitos (D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1. Introdu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488960" indent="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1.1 Propósito.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Narrativa que describe el propósito del sistema a desarrolla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488960" indent="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1.2 Alcance.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Narrativa que establece el alcance del sistema a desarrollar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488960" indent="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1.3. Contexto (Descripción general).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Narrativa que describe a grandes rasgos, el sistema a desarrolla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488960" indent="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1.4 Definiciones, acrónimos y abreviacion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istado de acrónimos, con su significa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488960" indent="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1.5 Referenci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Se colocan las referencias de los documentos utilizados para construir el D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501B-1071-4E74-B823-18D89614D88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UR: Salida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13920" y="1142640"/>
            <a:ext cx="7929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4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Documento de requisitos de usuari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4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2. Descripción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400"/>
              </a:spcBef>
              <a:spcAft>
                <a:spcPts val="18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2.3 Características de los Usuario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Narrativa que establece los diferentes tipos de usuarios que interactuarán con el software, y las características de cada uno de ellos (atribuciones, y limitacion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400"/>
              </a:spcBef>
              <a:spcAft>
                <a:spcPts val="18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2.2 Perspectivas del Product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Narrativa que establece que es lo que se espera obtener con el producto de software en desarroll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400"/>
              </a:spcBef>
              <a:spcAft>
                <a:spcPts val="18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2.3 Ambiente Operacional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Narrativa que establece las características del escenario de trabajo del softwar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5"/>
          <p:cNvGraphicFramePr/>
          <p:nvPr/>
        </p:nvGraphicFramePr>
        <p:xfrm>
          <a:off x="2143080" y="1052640"/>
          <a:ext cx="5162760" cy="57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3080" y="1052640"/>
                    <a:ext cx="5162760" cy="57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Rectangle 2"/>
          <p:cNvSpPr/>
          <p:nvPr/>
        </p:nvSpPr>
        <p:spPr>
          <a:xfrm>
            <a:off x="1785960" y="0"/>
            <a:ext cx="678672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Documento de Requisit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80722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Ej. de Ambiente Operacion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9" name="Object 7"/>
          <p:cNvGraphicFramePr/>
          <p:nvPr/>
        </p:nvGraphicFramePr>
        <p:xfrm>
          <a:off x="1044720" y="1285920"/>
          <a:ext cx="7956360" cy="53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4720" y="1285920"/>
                    <a:ext cx="795636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BA9A-0624-4AF5-B9FE-D5A1221D796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UR: Salida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85920" y="1142640"/>
            <a:ext cx="7858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800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Documento de requisitos de usuari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8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2. Descripción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1800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2.4 Suposiciones y Dependenci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Narrativa que establece (por escrito) todas aquellas suposiciones, que se han hecho (con el consentimiento del cliente/usuario), sobre alguna característica del software a desarrolla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1800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2.5 Restricciones General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Narrativa que establece cuáles son las restricciones de funcionamiento del software. Por ej. que funcione en Windows y UNIX, que funcione en el actual ambiente operacional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1800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2.6 Descripción del Modelo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Diagrama + explicación del modelo de funcionamiento global actual. Se puede utilizar DFD, diagramas de procesos, de transición de estados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DA9F-581E-4BE6-BA9D-14954BF8B6A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UR: Salida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28440" y="1071360"/>
            <a:ext cx="79642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119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3. Requisitos del Sist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1199"/>
              </a:spcBef>
              <a:spcAft>
                <a:spcPts val="15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3.1 Requisitos de Usuari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Listado de requisitos que representan la necesidad del usuario/cliente.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06400" indent="0">
              <a:lnSpc>
                <a:spcPct val="80000"/>
              </a:lnSpc>
              <a:spcBef>
                <a:spcPts val="1199"/>
              </a:spcBef>
              <a:spcAft>
                <a:spcPts val="1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3.1.1 Requisitos de Capacidad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istado de requisitos que especifican las capacidades que debe poseer el software (lo que debe poder realizar el software), para satisfacer las necesidades del cliente/usuario. Estos requisitos se deben especificar según el formato preestableci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706400" indent="0">
              <a:lnSpc>
                <a:spcPct val="80000"/>
              </a:lnSpc>
              <a:spcBef>
                <a:spcPts val="1199"/>
              </a:spcBef>
              <a:spcAft>
                <a:spcPts val="1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3.1.2 Requisitos de Calidad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istado de requisitos de calidad del producto de software. Estos requisitos se deben especificar según el formato preestableci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706400" indent="0">
              <a:lnSpc>
                <a:spcPct val="80000"/>
              </a:lnSpc>
              <a:spcBef>
                <a:spcPts val="1199"/>
              </a:spcBef>
              <a:spcAft>
                <a:spcPts val="1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3.1.3 Requisitos de Restric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istado de requisitos que especifican restricciones a cerca de cómo debe ser construido (se refiere a conexiones con otros sistemas, o adhesión a los estándares de la empresa) y operado el software. Estos requisitos se deben especificar según el formato preestableci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1199"/>
              </a:spcBef>
              <a:spcAft>
                <a:spcPts val="1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9B34-5CAB-4810-AEF0-BA76CEA8B65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Ejercicio 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85920" y="1356840"/>
            <a:ext cx="76788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6040" indent="-446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termine cuáles son lo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quisitos de usuari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de un chat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-446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pecifíquelos en una hoja…. (5 minutos)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2587680" y="2421000"/>
            <a:ext cx="39290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443D-DB4F-43C3-B32D-EF5D867A9AA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422360" y="27147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Definición de Requisitos de Software 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2052"/>
          <p:cNvSpPr/>
          <p:nvPr/>
        </p:nvSpPr>
        <p:spPr>
          <a:xfrm>
            <a:off x="1619280" y="4994280"/>
            <a:ext cx="723888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n nuestro caso, sólo involucra la sección 3.2 del documento de requisi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0C04-2C14-4981-B3C8-761BBB80CB3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85920" y="0"/>
            <a:ext cx="7858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Definición de Req. de Software (SR)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13920" y="1213920"/>
            <a:ext cx="458172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7840" indent="-447840">
              <a:lnSpc>
                <a:spcPct val="100000"/>
              </a:lnSpc>
              <a:spcBef>
                <a:spcPts val="125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Fase de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análisis del problema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spcBef>
                <a:spcPts val="125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l propósito es analizar las definiciones de requisitos de usuarios en el URD, y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producir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un conjunto de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softwa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lo más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completo, consistentes y correctos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osib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spcBef>
                <a:spcPts val="125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SRD </a:t>
            </a:r>
            <a:r>
              <a:rPr b="0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(Doc. de Req. de Soft.)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contiene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una visión del problema, desde el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punto de vista del desarrollado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, y no del usuar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spcBef>
                <a:spcPts val="1250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Deben usarse prototipos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ara validar los requisitos (es recomendabl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1"/>
          <a:stretch/>
        </p:blipFill>
        <p:spPr>
          <a:xfrm>
            <a:off x="5821200" y="1700280"/>
            <a:ext cx="3322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5336-C395-4DFE-BEDF-2B0B20A4213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SR: Entradas / Activida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28840" y="1285560"/>
            <a:ext cx="750096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ntrad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Documento de Requisitos de Usuarios (URD), última versió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estándar establece otras entradas, pero no las consideraremos para nuestro desarrol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Actividad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Construcción del 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Modelo Lógic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specificación de los 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Requisitos de Software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a través del S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Revisiones del S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80A9-40F4-4771-A903-9F19FA8B560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SR: 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71720" y="1142640"/>
            <a:ext cx="57528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Construcción del Modelo Lógic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Construcción de un modelo arquitectónico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independiente de la implementación del sistema requerido por el usuar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uede ser construido por </a:t>
            </a:r>
            <a:r>
              <a:rPr b="1" i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escomposición “top-down”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de la función principal, inferido del URD, en una jerarquía de funcion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ueden realizarse Caminatas (“Walkthroughs”), revisiones e inspecciones para </a:t>
            </a:r>
            <a:r>
              <a:rPr b="1" i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segurar que se cumplen las especificaciones de cada nivel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, antes de descender al sigu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n esta etapa puede reemplazarse parcialmente por diagramas de casos de us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Picture 2052" descr=""/>
          <p:cNvPicPr/>
          <p:nvPr/>
        </p:nvPicPr>
        <p:blipFill>
          <a:blip r:embed="rId1"/>
          <a:stretch/>
        </p:blipFill>
        <p:spPr>
          <a:xfrm>
            <a:off x="6756480" y="1484280"/>
            <a:ext cx="23875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C12F-CB49-46C3-B1B2-397C41B53ED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499760" y="1428480"/>
            <a:ext cx="76438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4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Construcción del modelo lógico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debe satisfacer las siguientes regl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4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funciones (o componentes) deben tener un propósito únic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 Sus nombres deben tener una estructura declarativa (qué hacen, en vez de cómo lo hace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4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funcion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deben estar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en el nivel apropiad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(de granularidad) en el que aparec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4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interfac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entre módulos o funciones deben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minimizars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EB7A-2269-46C5-87F3-E84F9993607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357200" y="1213920"/>
            <a:ext cx="77868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Construcción del modelo lógico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debe satisfacer las siguientes regl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Cada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fun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debe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descomponers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en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no más de 7 sub-funcion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l modelo debe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omiti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información de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implementa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Deben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especificars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los atributos de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ndimient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 de cada función (capacidad, velocidad, etc.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Se deben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identific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las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funciones crític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Se deben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utilizar herramientas CASE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ara construir el modelo lógico (dentro de lo posibl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5EA7-94DC-4D32-BDC8-14554263BCA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4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Ciclo de Vida ES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3" name="Picture 5" descr="ESA2"/>
          <p:cNvPicPr/>
          <p:nvPr/>
        </p:nvPicPr>
        <p:blipFill>
          <a:blip r:embed="rId1"/>
          <a:stretch/>
        </p:blipFill>
        <p:spPr>
          <a:xfrm>
            <a:off x="41400" y="1143000"/>
            <a:ext cx="904212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F832-5794-4D00-8CEF-37398ABE96F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3510000" y="2247840"/>
            <a:ext cx="2984400" cy="2681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"/>
          <p:cNvPicPr/>
          <p:nvPr/>
        </p:nvPicPr>
        <p:blipFill>
          <a:blip r:embed="rId2"/>
          <a:stretch/>
        </p:blipFill>
        <p:spPr>
          <a:xfrm>
            <a:off x="2295360" y="5108400"/>
            <a:ext cx="5705640" cy="16066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1027"/>
          <p:cNvSpPr/>
          <p:nvPr/>
        </p:nvSpPr>
        <p:spPr>
          <a:xfrm>
            <a:off x="2071800" y="1143000"/>
            <a:ext cx="67150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Construcción del modelo lóg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(Primera aproximación al diseñ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9793-04D6-422D-926F-B702ABD1C48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071440" y="1142640"/>
            <a:ext cx="67150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Construcción del modelo lóg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(Primera aproximación al diseñ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3786120" y="2071800"/>
            <a:ext cx="2500560" cy="22460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ejemplo2"/>
          <p:cNvPicPr/>
          <p:nvPr/>
        </p:nvPicPr>
        <p:blipFill>
          <a:blip r:embed="rId2"/>
          <a:stretch/>
        </p:blipFill>
        <p:spPr>
          <a:xfrm>
            <a:off x="1571760" y="4429080"/>
            <a:ext cx="71784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3040" y="0"/>
            <a:ext cx="77709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Ejemplo de Modelo Lógic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4" name="Picture 8" descr=""/>
          <p:cNvPicPr/>
          <p:nvPr/>
        </p:nvPicPr>
        <p:blipFill>
          <a:blip r:embed="rId1"/>
          <a:stretch/>
        </p:blipFill>
        <p:spPr>
          <a:xfrm>
            <a:off x="34920" y="2997360"/>
            <a:ext cx="90597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70A6-2C7C-426C-94EB-51F3AB69A54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57200" y="1071360"/>
            <a:ext cx="74628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Softwa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… Se recomienda identificar l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funciona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interfac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operaciona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recurs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verific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usabilida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manten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transportabilida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confiabilida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rendimient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document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escalabilida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El estándar establece además requisitos d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tests de acept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seguridad de la inform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calida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seguridad de la oper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08D5-0982-4F1A-B13F-DE9A0328945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642680" y="1571760"/>
            <a:ext cx="70722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Revisiones del SR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salid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de esta fase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deben ser revisadas formalment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durante la etapa de Revisión de Requisitos de Software (SR/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Debiese ser una revisión técn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os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participant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deben ser los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usuarios, personal de operaciones, desarrolladores y administrador de proyectos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BDCF-FC7A-4D1C-A476-66E9354BD43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Clasificación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42640" y="1213920"/>
            <a:ext cx="8001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67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Requisitos Funcionales.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qué debe hacer</a:t>
            </a:r>
            <a:r>
              <a:rPr b="0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l software. Se derivan del modelo lógic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67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Requisitos de Interfaces (de interacció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hardware, software o elementos de bases de datos con los que el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sistema o sus componentes interactúan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o se comunica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Deben ser clasificados en requisitos d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interfaces de software, hardware y comunicaciones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ueden utilizars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diagramas de bloques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ara ilustrar parte de este tipo de requisit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67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Requisitos Operacional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la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forma en que correrá el sistema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y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cómo se comunicará con los operadores humanos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Incluyen todas las interfaces de usuario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, interacción humano-computador, y requisitos logísticos y organizacionales. Por ejemplo, se usará teclado/mouse?, ¿cuán fácil de usar será el sistema?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6782-93BD-4C3F-A135-7852F441782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Clasificación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85920" y="1285920"/>
            <a:ext cx="78580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Recursos (o uso de recursos de Hardwar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pecifican requisitos asociados al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uso de los recursos físico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, tales como: CPU, memoria principal, espacio en disco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Usabilida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pecifican los requisitos asociados a (las características de) la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interfaz de usuario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del sistem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pecifican los requisitos asociados a los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patrones de interfaz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y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de navegación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Mantenibilida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pecifica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cuán fácil debe ser reparar fallas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y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adaptar el software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a nuevos requisi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Debiera especificarse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n forma cuantitativa, tal como el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tiempo medio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para reparar una fall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F530-112C-4AD6-8813-265CB7F4214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Clasificación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85920" y="1213920"/>
            <a:ext cx="7858080" cy="55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Requisitos de Transportabilidad (portabilidad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la facilidad para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utilizar el sistema en otros ambientes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 Incluye hardware, sistemas operativos o escenarios de trabajo. Incluye el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esfuerzo de realizar el transporte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de una plataforma a otr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Requisitos de Confiabilid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los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tiempos medios (aceptables) entre fallas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Requisitos de Rendimien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tablecen valores numéricos para variables medibles, asociadas a la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capacidad de procesamiento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que es percibida por el usuario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ueden ser incluidos en la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especificación cuantitativa para cada función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, o especificados en forma independiente. Especificaciones cualitativas no son aceptable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os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atributos de rendimiento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deben ser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presentados como rangos de valores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: peor caso, valor nominal a ser usado en la planificación; mejor caso, para indicar potencial de crecimient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5F29-0DB0-4413-8BC2-AB13595B4B1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Clasificación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357200" y="1428480"/>
            <a:ext cx="77868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Documentación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pecifica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documentación adicional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a la requerida en el estánda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Escalabilid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pecifica la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capacidad del sistema para mantener su rendimiento medio,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conforme aumenta el número de usuarios, procesos y/o solicitud de servicios del sistem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La 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especificación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de atributos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de los requisitos es 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igual a la del URD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l estándar de la ESA propone además 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otras categorías de requisit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que nosotros no vamos a considerar (por el moment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92A4-B38F-40DD-B9A7-1681F27B8F6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Tipos Req de Soft. Adicional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85920" y="1000080"/>
            <a:ext cx="7858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Requisitos de Seguridad de la Inform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requisitos para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asegurar (proteger) la información que maneja el sistema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, contra amenazas a la confidencialidad, integridad y disponibilidad tanto de los servicios como de los dat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Requisitos de Seguridad de la Operación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requisitos para reducir la posibilidad d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daño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que pued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producirse debido a una falla del software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 Por ej. corrupción de la BD ante un corte de energía, o la necesidad de apagar el servidor para poder “matar” threads que han quedado viv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Requisitos de Verificación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las restricciones d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cómo el software se verificará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ueden incluir requisitos d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simulación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emulación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tests vivos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con entradas simuladas, tests vivos con entradas reales, e interfaz con ambientes de testeo, sobrecarga o stress por transaccion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Requisitos de Tests de Acept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 las restricciones d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cómo se validará el software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Impon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restricciones al SVVP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(Software Validation and Verification Plan), si éste se construye (no es el caso de nuestro proyecto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5327-8ADB-4F9E-8705-D0FBF397330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4280" y="0"/>
            <a:ext cx="6072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Fase de Definición de Requisitos de Usuari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3920" y="3139560"/>
            <a:ext cx="7858440" cy="38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os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analistas son los responsables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de esta tare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ara identificar estos requisitos, debe definirse formalmente una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contraparte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Clientes y Usuarios dedicación al proyecto y poder de decisión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Hay que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entrevistar a los clientes/usuario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Hay que indagar, investigar, y si es necesario,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hay que ir más allá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de lo que los usuarios/clientes nos dic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2286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1357200" y="1285920"/>
            <a:ext cx="58788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propósito es refinar una idea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n pos de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definir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de lo que se espera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del sistema computacional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0EDA-20C9-482F-9C16-56267200709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Completitud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42640" y="1213920"/>
            <a:ext cx="8001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rincipalmente debemos considerar dos aspect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¿Se han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considerado todos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os requisitos de usuario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¿Se ha especificado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una actividad para validar </a:t>
            </a:r>
            <a:r>
              <a:rPr b="0" i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cada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conjunto posible de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entrada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Debemos incluir una matriz de trazado (o matriz de trazabilidad) en el SRD para probar completitu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2986200" y="3654360"/>
            <a:ext cx="4228920" cy="31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ED28-E9DA-408E-963C-C468D9B6AF9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Consistencia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88640" y="1214280"/>
            <a:ext cx="80550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Un conjunto de requisitos es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consistente si y sólo si ningún subconjunto de requisitos entra en conflicto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xisten muchos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tipos de inconsistencias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Términos diferentes para nombrar el mismo obje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l mismo término para nombrar diferentes obje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contrapuesto (dicen cosas total o parcialmente contraria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1"/>
          <a:stretch/>
        </p:blipFill>
        <p:spPr>
          <a:xfrm>
            <a:off x="6227640" y="3989520"/>
            <a:ext cx="2916360" cy="286848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5"/>
          <p:cNvSpPr/>
          <p:nvPr/>
        </p:nvSpPr>
        <p:spPr>
          <a:xfrm>
            <a:off x="1214280" y="4214880"/>
            <a:ext cx="49420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Duplicación de Requis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spcAft>
                <a:spcPts val="1125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a duplicación de requisitos debe ser evitada. Aunque a veces es requerida para un mejor entendimiento del SR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spcAft>
                <a:spcPts val="1125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Cuando ocurran duplicaciones, deben hacerse referencias cruzadas para mejorar alteracion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EB83-A48F-4B8D-801B-AE61F4A831C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Salida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371600" y="1499760"/>
            <a:ext cx="71294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Documento de requisitos de software (SRD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lanes de testeo del sistema (Plan de Prueba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l estándar establece otras salidas, pero nosotros no las consideraremos en nuestro proye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8" name="Picture 4" descr=""/>
          <p:cNvPicPr/>
          <p:nvPr/>
        </p:nvPicPr>
        <p:blipFill>
          <a:blip r:embed="rId1"/>
          <a:stretch/>
        </p:blipFill>
        <p:spPr>
          <a:xfrm>
            <a:off x="3500280" y="4357800"/>
            <a:ext cx="338472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65C1-B991-4650-87F1-961EF277435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09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Ejercicio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13920" y="1285560"/>
            <a:ext cx="7929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1040" indent="-401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termine cuáles son los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requisitos de softwar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 un chat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-401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pecifíquelos en una hoja…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-401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aga un matching entre los req. de usuario y los de software (5 minutos)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2" name="Picture 4" descr=""/>
          <p:cNvPicPr/>
          <p:nvPr/>
        </p:nvPicPr>
        <p:blipFill>
          <a:blip r:embed="rId1"/>
          <a:stretch/>
        </p:blipFill>
        <p:spPr>
          <a:xfrm>
            <a:off x="3059280" y="2133720"/>
            <a:ext cx="381636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3CCC-7887-4988-B4DF-624C521A78E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Documento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71760" y="1213920"/>
            <a:ext cx="703872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1. Introducció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ropósi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Alc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Definiciones, acronismos y abrevi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Refer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Resu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... es igual a la introducción del URD</a:t>
            </a:r>
            <a:r>
              <a:rPr b="1" i="1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Sólo debe redefinirse o agregarse la información que se estime conveni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6" name="Picture 4" descr=""/>
          <p:cNvPicPr/>
          <p:nvPr/>
        </p:nvPicPr>
        <p:blipFill>
          <a:blip r:embed="rId1"/>
          <a:stretch/>
        </p:blipFill>
        <p:spPr>
          <a:xfrm>
            <a:off x="8129520" y="1000080"/>
            <a:ext cx="10144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2999-31F6-47E4-B5FD-590EF8E0812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Documento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28440" y="1071360"/>
            <a:ext cx="7910280" cy="58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800"/>
              </a:spcBef>
              <a:spcAft>
                <a:spcPts val="14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2. Descripción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800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lación con proyectos actuale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Establecer cuáles son los proyectos, con los que está relacionado el software a construir. Establecer claramente la relación con cada uno de éstos (por ej. comparten los datos del “profesor”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800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lación con proyectos predecesores y sucesore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Idem al anterior, pero para proyectos predecesores, y suces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800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Función y propósit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Narrativa que establece cuál es la función principal, y el propósito del sistema a desarrolla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800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Consideraciones ambientale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Narrativa que especifica aquellas consideraciones que deben ser tenidas en cuenta para el normal funcionamiento del software a desarrollar (por ej. “se debe realizar un backup diario”, o “la temp. no debe superar los 35ºC”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0" name="Picture 4" descr=""/>
          <p:cNvPicPr/>
          <p:nvPr/>
        </p:nvPicPr>
        <p:blipFill>
          <a:blip r:embed="rId1"/>
          <a:stretch/>
        </p:blipFill>
        <p:spPr>
          <a:xfrm>
            <a:off x="0" y="1000080"/>
            <a:ext cx="10144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73CF-1939-42E9-9DC4-864B8CA24B6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Documento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71360" y="1071360"/>
            <a:ext cx="80722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576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2. Descripción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123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Relación con otros sistemas.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Establecer cuáles son los sistemas existentes, con los que está relacionado el software a construir. Establecer claramente la relación con cada uno de éstos (por ej. comparten la tabla “persona”, de la B.D. “personal”)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123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Restricciones generales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Básicamente son las mismas del URD. Pueden incorporar las actualizaciones que hayan surgido al analizar los requisitos de softwar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123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Descripción del modelo.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 Narrativa que establece, a grandes rasgos, cómo va a funcionar el sistema. Representa el modelo lógico del sistema. Pueden utilizarse diagramas de bloques, u otro tipo de diagramas genéricos, si lo dese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123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4" name="Picture 1028" descr=""/>
          <p:cNvPicPr/>
          <p:nvPr/>
        </p:nvPicPr>
        <p:blipFill>
          <a:blip r:embed="rId1"/>
          <a:stretch/>
        </p:blipFill>
        <p:spPr>
          <a:xfrm>
            <a:off x="0" y="1071720"/>
            <a:ext cx="84312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5F0D-CB8B-4773-8AFD-974AE0BD4FD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Documento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85920" y="1142640"/>
            <a:ext cx="7324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3. Requisitos Específ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funci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rendi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interfa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operaci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recurs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verific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aceptación de tes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document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seguridad de la inform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transportabi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ca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confiabi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mantens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seguridad de la ope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8258040" y="1000080"/>
            <a:ext cx="8859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0DC6-9A83-487B-84DE-06D3DC75ABF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n nuestro caso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85560" y="1285920"/>
            <a:ext cx="717372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specificaremos los requisitos de software en la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sección 3.2 del document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de requis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3.2 Requisitos de Soft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un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faz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per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cursos (Ambiente Operaciona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Usa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anteni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orta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nfia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opera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ndi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ocument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scala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4. Matriz de trazabilidad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de requisitos de usuarios vs requisitos de soft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8242200" y="0"/>
            <a:ext cx="9018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76C0-A4AE-4D10-B3AF-C93EC92C1A0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4. Matriz de Traza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55" name="Picture 3" descr=""/>
          <p:cNvPicPr/>
          <p:nvPr/>
        </p:nvPicPr>
        <p:blipFill>
          <a:blip r:embed="rId1"/>
          <a:stretch/>
        </p:blipFill>
        <p:spPr>
          <a:xfrm>
            <a:off x="1285920" y="1928880"/>
            <a:ext cx="77454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906D-42EC-42BD-981F-8545092A974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214280" y="1357200"/>
            <a:ext cx="66693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Debe usarse la experiencia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de ingenieros, especialistas, personal clave que conozca el negocio y la organización cli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llos ayudarán a especificar/revisar los requisi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l entregable de la fase es el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URD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(Documento de Requisitos de Usuario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, el cual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es crítico para el resto del proyect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porque define la base sobre la cual se aceptará el softwa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n este curso el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URD está contenido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rincipalmente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n las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secciones 1 y 3.1 del Documento de Requisitos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7896240" y="1123920"/>
            <a:ext cx="1247760" cy="933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7885080" y="115920"/>
            <a:ext cx="1258920" cy="944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7885080" y="2104920"/>
            <a:ext cx="1258920" cy="941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4"/>
          <a:stretch/>
        </p:blipFill>
        <p:spPr>
          <a:xfrm>
            <a:off x="7875720" y="3095640"/>
            <a:ext cx="1268280" cy="1800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5"/>
          <a:stretch/>
        </p:blipFill>
        <p:spPr>
          <a:xfrm>
            <a:off x="7869240" y="4941720"/>
            <a:ext cx="1274760" cy="19162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2"/>
          <p:cNvSpPr/>
          <p:nvPr/>
        </p:nvSpPr>
        <p:spPr>
          <a:xfrm>
            <a:off x="1214280" y="0"/>
            <a:ext cx="6072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Fase de Definición de Requisitos de Usuari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74A7-3722-43A3-91E8-586A2BA766C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  <a:ea typeface="Arial"/>
              </a:rPr>
              <a:t>Admin. de Req. en un Proyecto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85560" y="1285560"/>
            <a:ext cx="755316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Los documentos URD y SRD deben ser “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documentos completo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”. Esto significa que todos los requisitos conocidos deben ser incluidos cuando son producido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Sin embargo, es altamente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probable que aparezcan nuevos requisito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 después de las aprobaciones de los documento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Por ello, es necesario establecer al inicio del proyecto,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procedimientos para manejar nuevos requisito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Es necesario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no comprometer la integridad del diseño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cuando se incorporan nuevos requisitos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Dichos requisitos, si es que son aceptados tanto por el usuario como por el diseñador, debiesen ser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manejados de la misma forma que los requisitos originale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0583-B731-4D7E-A153-ECB8B332226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Admin. de Req. en un 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28840" y="167148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l procedimiento para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incorporar un </a:t>
            </a: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nuevo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requisito de usuario </a:t>
            </a: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s el sigui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Generar un nuevo manuscrito del UR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Convenir una revisión de los UR, y si el cambio es aceptado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Repetir las fases SR, AD, y DD para incorporar el nuevo requisito y sus consecuenci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l procedimiento para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incorporar un </a:t>
            </a: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nuevo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requisito de software es similar</a:t>
            </a: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0A7F-B737-471A-95DD-9728F010D15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Admin. de Req. en un 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85920" y="1071360"/>
            <a:ext cx="7858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Otra forma de manejar nuevos requisitos es el de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instituir un Comité de Revisión de Software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 después de UR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/R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 en vez de DD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/R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Otra forma es el uso de un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enfoque de ciclo de vida de desarrollo evolutiv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. Sin embargo, esto sólo alarga la administración de los nuevos requisitos para el release posterior al que está en preparación, lo que puede no ser suficient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La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calidad del trabajo hecho para las fases UR y SR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puede ser medido por el número de requisitos que aparecen en fases posteriore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Especial énfasis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debe dársele a la aparición de nuevos requisitos.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 Un número de apariciones importantes es un signo claro que el software muy probablemente no será un éxit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ECAD-2A2C-4318-9132-DE07C67CCCC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Admin. de Req. en un 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71360" y="1071360"/>
            <a:ext cx="80722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76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La 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isponibilidad de herramientas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puede ser crítica para un proyecto con cambios de requisitos frecue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4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n proyectos donde se conviene (entre el cliente y el desarrollador) en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congelar los requisitos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n la fase SR, el uso de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métodos basados en papel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ara realizar análisis de requisitos y especificación de diseño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pueden ser suficient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4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n proyectos donde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no es posible congelar los requisito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, puede ser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esencial el uso de herrami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de ingeniería de software que permitan que nuevos requisitos y cambios al diseño sean asimilados rápidamente para evitar atrasos ser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IMPORTAN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213920" y="1356840"/>
            <a:ext cx="8001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Junto con la entrega del Documento de Requisitos, todos los grupos deben entregar a los profesores,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un documento firmado por el cliente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, donde consten los requisitos que se van a abordar en la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Iteración I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 e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Iteración I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En caso de dudas o conflictos en algún requisito,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la información que vale es la que está en ReqAdm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IMPORTAN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213920" y="1143000"/>
            <a:ext cx="79297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3.  Para la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revisión del Documento de Requisitos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de las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Iteraciones I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 y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II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, cada grupo debe preparar una presentación no más de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15 minutos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, explicand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372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Problema a resol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372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Contexto del proyec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372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Principales requisitos de Usuarios involucrados en las Iteraciones I y I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372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Matriz de traza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3722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  <a:ea typeface="Arial"/>
              </a:rPr>
              <a:t>La información se contrastará con lo que hay en ReqAdm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IMPORTAN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785520" y="1428480"/>
            <a:ext cx="83581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4.  El protocolo de Revisión es el siguien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14360" indent="-51408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Presentación del Produ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14360" indent="-51408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Observaciones del Te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14360" indent="-51408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Preguntas y Respue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14360" indent="-51408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Observaciones de los Profeso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14360" indent="-51408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48hs después de cada revisión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, el tester debe entregar un informe de las cosas que necesitan tratami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57D8-FDAE-47FE-BB5B-D387FBEC618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UR: Entradas/Salidas de la Fas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04720" y="1356840"/>
            <a:ext cx="6453000" cy="40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80000"/>
              </a:lnSpc>
              <a:spcBef>
                <a:spcPts val="1001"/>
              </a:spcBef>
              <a:spcAft>
                <a:spcPts val="125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No hay entradas formales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ara esta fa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1001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.. aunque es posible utilizar informes, código fuente,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documentación de sistemas legados o estudios hechos al respect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, para iniciar esta fas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1001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También se pueden considerar como entradas, los documentos que detalles el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estudio de factibilidad técnica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realizado (en caso de existir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1001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La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salid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de esta fase es el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URD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1001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URD representa la visión del usuari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, acerca del problema a resolver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7931160" y="1773360"/>
            <a:ext cx="1212840" cy="1617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>
            <a:off x="6486480" y="5172120"/>
            <a:ext cx="2657520" cy="16858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6"/>
          <p:cNvSpPr/>
          <p:nvPr/>
        </p:nvSpPr>
        <p:spPr>
          <a:xfrm>
            <a:off x="1405080" y="5545080"/>
            <a:ext cx="530064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lnSpc>
                <a:spcPct val="80000"/>
              </a:lnSpc>
              <a:spcBef>
                <a:spcPts val="1001"/>
              </a:spcBef>
              <a:spcAft>
                <a:spcPts val="1250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sta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fase termina con aprobación formal del URD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a través de una o más actividades de revisión UR/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BAF5-1CDB-43D4-A2BC-C03165B04C3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717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UR: 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4280" y="1143000"/>
            <a:ext cx="5786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9680" indent="-499680">
              <a:lnSpc>
                <a:spcPct val="80000"/>
              </a:lnSpc>
              <a:spcBef>
                <a:spcPts val="1749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Capturar y Especificar los requisitos del usuario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9680" indent="-499680">
              <a:lnSpc>
                <a:spcPct val="80000"/>
              </a:lnSpc>
              <a:spcBef>
                <a:spcPts val="17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Determinar el 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Ambiente Operacion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9680" indent="-499680">
              <a:lnSpc>
                <a:spcPct val="80000"/>
              </a:lnSpc>
              <a:spcBef>
                <a:spcPts val="1749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Revisar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el URD (en hitos preestablecidos), hasta lograr su aprob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9680" indent="-499680">
              <a:lnSpc>
                <a:spcPct val="80000"/>
              </a:lnSpc>
              <a:spcBef>
                <a:spcPts val="17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Generar el 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set inicial de pruebas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de sistema, que se emplearán para verificar que el software es adecuado (el responsable de esto es el 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téster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7520040" y="4941720"/>
            <a:ext cx="1623960" cy="1916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6789600" y="1484280"/>
            <a:ext cx="23544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13:26:24Z</dcterms:created>
  <dc:creator>Sergio Ochoa</dc:creator>
  <dc:description/>
  <dc:language>en-US</dc:language>
  <cp:lastModifiedBy>Sergio</cp:lastModifiedBy>
  <dcterms:modified xsi:type="dcterms:W3CDTF">2011-10-25T11:27:11Z</dcterms:modified>
  <cp:revision>235</cp:revision>
  <dc:subject/>
  <dc:title>Ingeniería de Software</dc:title>
</cp:coreProperties>
</file>