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1CC3-9A43-4E06-A271-2D62B30EE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9C2E-550D-493C-8753-6B4D9CE9FA7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7AD-B19C-4106-93D6-ECF59CD13D4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BB71-2270-4EC0-A29C-19EAB76DC6D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CB09-4629-4FA4-99EE-3CAA99D3294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895F-F318-4B42-BB48-F0A062B1C74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7F7F-D3C4-43FA-92BB-0A3AEDE8AF4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6179-8F2F-4923-BCC8-5E374779AA2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7015-81B8-4CDF-8595-58F033AE5E5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AD6-0BBC-47EA-A4B0-641B59AEF90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8152-97C2-4F8A-A8E3-EB428D80533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6380-6D2D-4E55-B1AE-FCFE305285A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540C-AEFE-44D7-BE3B-F0B73C50056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333B-8334-475C-8C8E-8953F7A9F78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2AC-ECB9-4C45-8A3F-B8269F54671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9999-932E-470F-8233-3FAAF2F7DC4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B454-992A-46CB-9363-03D86ED163C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9C55-11E9-4773-98E3-31B31F049DE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0250-1E96-4960-B119-D6C8A50DE93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D312-7A41-4ECF-87CF-90837949FEB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7F35-2CCF-4083-9637-7246735CDA0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5698-732B-4618-8FF3-C69725FA0CD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B85-7723-4E1B-AD3E-FD8D5A6D318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954-BD59-4CA5-B073-2EFC1661A87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ECF9-1D0F-4910-ABA3-F7EB2A2E694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918F-D971-4DB2-82A6-6596B445055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DCDE-993C-436B-8812-B1978AD00D6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9E4-8148-4A2F-B16A-4F9E7DC613F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183-3DD2-425A-88E6-ED16DF0CD40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2F72-0CA4-429B-B8CE-0FCBD202485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1D5-31ED-4B83-B97E-E54B8878971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E0C-22E6-4EDD-8457-C2F66179322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A2B3-9B68-439B-AE18-DC0A5931CBC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F28-9CE3-4D67-9D0B-4A4E1ACF07A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2E1B-9B12-4CA5-94C4-F5ACBFF741B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F3CD-0545-4745-B37B-B07FEA4190E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ED02-D55D-4585-9CC1-139762A0CCB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1246-3DA0-472D-B157-40C5A76348B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E61B-0C6E-4871-9426-289101B70C7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D7A-87F7-4B89-A13A-4EF22AABCE2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3AFC-B027-43F7-967D-B3B570379A5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5EB6-B49D-4A3B-BF20-0866617D625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4A4-9B4B-46D8-94DC-6FB063D2176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A57-E73D-4D80-84D1-77A805F6AA0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6EF-8D24-40C5-91FF-1E125F01C05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14EA-B7AE-486C-8C8A-FE8DD2CAE40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CCE7-4599-4667-8CB2-C07C8C6A828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8B16-3230-4B91-8477-A47E4B56241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DDF-5B99-408C-8603-6C48B61AB9F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B34-0B49-45D2-8F5B-C5E3740C976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C802-42DB-4302-A7D7-C054FC2F3F9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56B3-B0D5-4ADF-B0C5-C4B8E106B20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D7CA-423D-4DB4-9687-AEE623803B7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EDC-95C0-43E3-A06B-FC248A90723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1B9-E9DF-4C02-963B-42D75970582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62EA-E89E-4916-9472-E9FFC1FA686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6713-224D-424D-BA9A-4E38AA86D99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7EF6-5EB6-4D13-9733-518713A356D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D5B3-4542-4ADA-AE89-D182A3A4003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C451-4336-4A6D-B5B3-17595F8805D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C3FF-B738-4474-A607-85419C01E5E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64F0-DF9D-4D89-AE08-73DA457F666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8706-42BC-4996-B95C-C18408B27A8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59F-AB12-471F-B0A9-CD36E27BA42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DC94-7916-4297-B43E-9B1DA1D1A1B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0F5-4FFF-4661-BA4D-E9C982126DB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EB9-852B-4838-BF0D-B8ECE24D42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394B-998B-40E2-89A0-5350EF84BC7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933-A1EA-4790-BD58-70A45B3EF9D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8087-AEAD-4746-8F84-0D78B005586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E6EB-B6A2-4841-91E4-89722C5EC09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4B8-D0E8-4E49-9D6D-57AB29CD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93B-F8DD-4959-8731-14D4F62A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B68-7DD2-4EB3-AE60-47FEF598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280-153A-4FF7-9B04-1EA043BD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9DD-1C22-4EE6-B638-B0A80F90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51D-776A-46BC-887F-04747B2A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D32-25F7-4975-AC6E-7BC1F898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C7D-C21C-41F1-90CD-B63C0AE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BDB-74E2-4E30-A69B-4CF7B194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A7E-C715-4DEF-A2E9-7CCE390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4B0-88F9-4EA0-865D-86AFC967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6BD-C9B1-4843-8F09-E5DD7EA0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E058-7C52-4671-B167-0FC9E6AF97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7F1B-EC4E-4D26-A264-6D0A2B14BA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731-79E9-4438-828B-A0D210068C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98B8-339F-4D64-8B9A-D96FC0E09D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164D-1F91-408E-AC26-2E09544253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C7F3-BC25-465D-A2F7-3A39B112BA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13FA-8CD9-4F28-AB8A-EE1F78007B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CC97-0169-442E-B6E3-438BFBFDDD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08/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FA01-731A-47A8-943F-D79982F6A02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08/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5DDD-D109-444B-87C8-ADB0FA37F4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703-B01B-4147-B27C-3EE272F21E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8CAD-8391-4DC5-B579-32346A0AA3D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4BF1-5464-49D7-8243-9BACC12E35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2DFE-6C28-4EDA-B373-CC1AD9AE77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548D-0E12-47F3-B808-171EAB20D2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DA8-B83B-4461-9A30-C2180284E0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7990-E9E6-408D-A18A-420990412E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C52F-8875-417E-9AE7-4132C96A56D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EEB-6BE7-4398-A369-68244F6B905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424-D18B-4158-BE89-2B461BCB55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EC4-8C52-4CFA-9F76-EA1AB3537B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B9C-79EB-48F6-9ED5-B5B6627715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7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C679-DDD6-4CA0-B472-E80B11FF52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1D3-FED6-4131-8066-EFD5A8C3AC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6FDA-5934-459D-A380-34ECFF0FDB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B2B-9705-4C31-8702-46D3250627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1F9-1A8B-430F-B30F-B1C1ACB890D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EF9-0C0B-477F-851F-93A2B98794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B1DE-3157-4A62-8D2A-A39D84AF05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6867-3884-41B8-99C1-AB32894C87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26A-AE44-40BD-9467-09860B3CCA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F61A-D7BA-48F5-A990-66FDEFC608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C026-B258-4FF6-9898-E223374DBF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566-4F19-422F-996B-0CF3F127C0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B0F1-EC8E-49BA-93A7-F41A67130C8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CCC-E878-4F3C-8C6D-8D2153A57D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9FB4-DF2E-4675-9F36-69337051F0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5356-36BA-46CB-A599-19F3CD79C6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D4B6-031F-4284-8BB6-7612649506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99F7-7E38-4BE5-B1F1-007F968AE7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5C67-19FC-4421-8551-2BF354B71E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B5BD-A8F0-499A-B87A-3DBA200B8B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30A-9A7E-49C6-B524-3CB69E11C5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399-9291-4000-B89B-E7DEB42F2C1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99CA-3C99-4F04-A4E9-35D6DBAB01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0DF-0CD7-4467-94AB-6763B850E6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497-CBE7-45E9-9D10-759327AB25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B826-CC3A-4AB0-BBDE-922099A430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93D6-668C-4F14-87D0-EF2C173CBE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BDB3-640B-492B-8F17-394122CFBC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EF00-5937-492C-A709-01F08522FAB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D9E-0753-4620-A398-B734867319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B116-512C-42E1-891D-8533EB6E7A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9542-9073-4F05-8EC2-8A6CDCF875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25DA-67C1-422E-927F-EED1F57239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8E38-A596-4BAD-8DD8-FCDCAB1906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3CB1-8BBF-4C78-9734-28E6A3657B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1E87-B969-44C3-91DA-917CA85D70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A4CF-DF8E-4FD1-9765-9476BA0B0D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865-B06C-4B1E-AA3A-2327461978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20C2-973C-4EDA-B9A0-FE42D06839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FBDB-EE15-438E-BDE8-9F6CBCF5AB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C533-9437-4903-9A6B-FAAF3BEB98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744-6B49-474E-BF13-E4D920C8D5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5D4E-9108-432D-A02D-E905D31E3B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1A51-EBFF-491C-9585-829AC2F717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023-05FD-4603-A046-B3D27F3C40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F9A-26BD-41AF-8B3F-FA5F134345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3E87-EF15-4106-AC4A-1BA62257E0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13920" y="135684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 los profesore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85520" y="142848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 los Profes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48hs después de cada revisión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, el tester debe entregar un informe de las cosas que necesitan trat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8B4-156F-454B-9BC2-1E0C634DB1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C7B8-859B-409F-8E0C-5B5BB6EB75A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 los 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1-10-25T11:27:11Z</dcterms:modified>
  <cp:revision>235</cp:revision>
  <dc:subject/>
  <dc:title>Ingeniería de Software</dc:title>
</cp:coreProperties>
</file>