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3BA5-E02F-4367-9A1D-1CE10B26B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ECCB-7F60-443F-9A7B-89F5BF76BC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4B70-0108-4364-841D-99F1AE16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BBD8-E2B3-4D08-8BC5-CE8D2ADE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89CA-ADC7-4E85-9841-EBF4B302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65C2-0FE0-4B4E-BA7B-5A06E3C81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CDB5-64AB-4E08-8DBA-8C348D18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3655-5CBE-47FD-A353-8FEF641A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3634-DAF7-493B-9A19-A6D42A84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F281-2168-4627-AAB6-BDBB55CF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D519-08BC-4540-AC72-AB6C035C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C0B9-B7B4-45A5-A19D-3672EDC3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9754-857C-45B0-8668-2B8C0E64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8970-7156-4C9D-9D06-7F925311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BB0D-1949-41A5-AA30-E49B7D29EB7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0028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y Levantamiento de Requisi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19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lase 4 - Versión 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5388120" cy="55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tre 20’  y 1 ho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Vestirse igual (o similar) al c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os entrevistadores (máxim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ólo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uno pregun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el otro toma no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Llevar una pau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con las pregun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Identificar la entrevista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ía, hora, tema a tratar, participantes, cargo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Grabar cada entrev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sta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(audio), pero sea suti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Que el usuario/cliente sepa que las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cosas confidenci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no saldrán a la luz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Obten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copia de todos los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 formulario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nvolucrados en el sistema (si existen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6823080" y="1484280"/>
            <a:ext cx="2286000" cy="3238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6443640" y="5059440"/>
            <a:ext cx="266544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3920" y="1356840"/>
            <a:ext cx="3357720" cy="25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1080" indent="-36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Tráigase el modelo de datos actual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detallado), en caso de existir sistemas leg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1080" indent="-36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leve lápiz y papel, aunque no lo use (podría necesitarl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538520" cy="2757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1285920" y="4508640"/>
            <a:ext cx="7750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No use jerga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computacional, ni regionalism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L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puntualidad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es fundamental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Trate al cliente con respeto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SIEMPRE 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No trate de demostrar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cuánto sabe usted de ésto: La estrella es el Cliente 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740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4280" y="1249200"/>
            <a:ext cx="7678800" cy="300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scuch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las opiniones del cliente/usuario, aunque parezcan descabellad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repita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as preguntas, siempre primero revise la cinta de sesiones anteri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Muéstre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l cliente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que ha comprendid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u probl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critiqu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as falencias de los actuales sistemas, ni las del personal que lo construyó o que lo ope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5214960" y="4518000"/>
            <a:ext cx="3929040" cy="2340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1214280" y="4078440"/>
            <a:ext cx="392940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61800" indent="-27612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Si va a pedi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algo adicional que requiere un esfuerzo importante del cliente/usuario,</a:t>
            </a:r>
            <a:r>
              <a:rPr b="0" lang="en-GB" sz="2000" spc="-1" strike="noStrike">
                <a:solidFill>
                  <a:srgbClr val="40458c"/>
                </a:solidFill>
                <a:latin typeface="Arial"/>
                <a:ea typeface="MS Gothic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trégueles algo a camb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Ganarse a la secretaria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el cliente, es casi tan importante como ganarse al c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85760" y="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4280" y="1031760"/>
            <a:ext cx="4942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enga en cuenta todo lo anteri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abierta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guiada por el client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el cliente diga todo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lo que tenga que dec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Ser “Positivo”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hasta conocer más el problem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No prometer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ada hasta analizar el problema en detalle. </a:t>
            </a: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NTÉNGASE !!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La primera entrevista se usa para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obtener una idea aproximad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el problema a resolv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ormalmente se obtiene mucha basura, por lo que hay qu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separar la paja, del trigo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stablezca claramente quién será la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contrapart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en el proyecto, y quiénes serán los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interlocutores válido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300720" y="3141720"/>
            <a:ext cx="28069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85920" y="712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16120" y="1142640"/>
            <a:ext cx="52560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0440" indent="-27936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rate d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traerse toda la documentación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pueda, para poder analizar mejor el problema a resolver, determinar su alcance e implicancias sobre otros sistem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27936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ntre la información que debe traerse de la 1º entrevista (dentro de lo posible) está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Formularios actuales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se usan en el sistema (o solicitar un screenshot de las pantall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Documentación de proyectos previo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tanto exitosos como fracasad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Modelo de dato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actu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ipo y cantidad de 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usuarios del sist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Recursos de hardwar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isponib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Recursos de softwar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forman parte del ambiente operac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7267680" y="1484280"/>
            <a:ext cx="1876320" cy="1876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5867280" y="3643200"/>
            <a:ext cx="327672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772400" cy="90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4240" y="1200240"/>
            <a:ext cx="5484960" cy="53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46400" indent="-36324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ntre la información que debe traerse de la 1º entrevista (dentro de lo posible) está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cursos de comunicaciones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forman parte del ambiente oper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stricciones del desarroll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plazos, lenguajes de desarrollo o BD a utilizar, browsers usados para Front-End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ff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Una idea general de los 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macro-component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el sistema (2 – 4 comp.), y sus prioridades de desarroll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lación entr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stos 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omponent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ivel de innovació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involucra el proyecto, para la organ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987640" cy="1973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6300720" y="4384800"/>
            <a:ext cx="2843280" cy="24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Arial"/>
                <a:ea typeface="Arial"/>
              </a:rPr>
              <a:t>Después de la Primera Entrevist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643040" y="1143000"/>
            <a:ext cx="750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Entre todos traten de </a:t>
            </a:r>
            <a:r>
              <a:rPr b="1" lang="es-MX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tender</a:t>
            </a:r>
            <a:r>
              <a:rPr b="0" lang="es-MX" sz="3200" spc="-1" strike="noStrike">
                <a:solidFill>
                  <a:srgbClr val="ff8840"/>
                </a:solidFill>
                <a:latin typeface="Arial"/>
                <a:ea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l escenario, el problema y la posible solución (de grano grueso)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O sea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armar el puzzle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7531200" y="2714760"/>
            <a:ext cx="1523880" cy="1314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5715000" y="4280040"/>
            <a:ext cx="3343320" cy="2506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3"/>
          <a:stretch/>
        </p:blipFill>
        <p:spPr>
          <a:xfrm>
            <a:off x="1643040" y="4260960"/>
            <a:ext cx="3948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740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 (para Clarifica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560" y="1143000"/>
            <a:ext cx="535788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44880" indent="-344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Entre 30’  y 1 hor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4880" indent="-344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semi-abierta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(guiada por el cliente y el entrevistador)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4880" indent="-344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La idea e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onocer má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en detalle lo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sub-problemas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a resolver, el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ambiente operacional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(en caso de dudas) y la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aracterísticas de los usuario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del sistem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4880" indent="-344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Revisen los puntos crítico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identificados en la primera entrevist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4880" indent="-344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Que guíe el entrevistador, pero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permitale al cliente expresar todo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lo que tenga que decir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4880" indent="-3448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ontinúen siendo “positivos”,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hasta conocer más el problema. Sin embargo si hay alarmas tempranas, pónganle el aviso al cliente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6786720" y="4913280"/>
            <a:ext cx="2363760" cy="19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2868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 (para Clarifica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514332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No prometan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nada hasta analizar el problema en detalle…… </a:t>
            </a:r>
            <a:r>
              <a:rPr b="0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ONTÉNGANSE !!!!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Usen esta entrevista para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ompletar la información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 relevada y clarificar aspectos oscuro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Lleven la lista de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preguntas preparadas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Traten de mantener al cliente en la línea de lo que es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relevante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aractericen a los clientes/usuarios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del sistema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Determinen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lara y formalmente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1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mpromiso de tiempo de su contraparte!!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None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6477120" y="4857840"/>
            <a:ext cx="263844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 la Tercera en Adelante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3920" y="1104840"/>
            <a:ext cx="6215400" cy="56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tre 20’ y 35’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trevista focalizada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guiada por el entrevistado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 utiliza par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ompletar/profundiza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la información relevada 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larifica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spectos oscu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Usted debe hacer que el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lient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se manteng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 la línea de l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es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levant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btener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usuarios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omple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ay que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IDENTIFICAR EL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RE DEL PROYECT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+ las extens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Sea realis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cueste lo que cues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promete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ada que no tengamos la certeza, de que va a poder (o no) realizar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6780240" y="1000080"/>
            <a:ext cx="23637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0" y="395460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0" y="422928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976640" y="37148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3040" y="0"/>
            <a:ext cx="77709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¿Puedes Leer la Ment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1928880" y="1643040"/>
            <a:ext cx="2214360" cy="27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de Valid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3920" y="1314000"/>
            <a:ext cx="51102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los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requisitos conflictivo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(al menos una vez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todo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lo que usted considere necesari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... pero con cuidado..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el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avance del proyect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a través de prototipos (buenos prototipos !!!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e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sólo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lo que está escrito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en los requisitos.... Cualquier otra cosa está fuera de lo que usted debe realizar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Sea direct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el tiempo del cliente también vale ...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6470640" y="4857840"/>
            <a:ext cx="2673360" cy="20001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6429240" y="1285920"/>
            <a:ext cx="27147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  <a:ea typeface="Arial"/>
              </a:rPr>
              <a:t>Esfuércese por </a:t>
            </a:r>
            <a:r>
              <a:rPr b="1" lang="es-CL" sz="2300" spc="-1" strike="noStrike">
                <a:solidFill>
                  <a:srgbClr val="ffff00"/>
                </a:solidFill>
                <a:latin typeface="Arial"/>
                <a:ea typeface="Arial"/>
              </a:rPr>
              <a:t>validar en forma temprana</a:t>
            </a:r>
            <a:r>
              <a:rPr b="0" lang="es-CL" sz="23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MX" sz="2300" spc="-1" strike="noStrike">
                <a:solidFill>
                  <a:srgbClr val="ffff00"/>
                </a:solidFill>
                <a:latin typeface="Arial"/>
                <a:ea typeface="Arial"/>
              </a:rPr>
              <a:t>El cliente siempre pretende validar al final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2868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de Valid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0640" y="1142640"/>
            <a:ext cx="5249880" cy="578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Póngale presión al Client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… Es por tu propio bi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nstálele el software (prototipo) al cliente, y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asegúrese de que los prototipos sean valid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usuario/cliente SIEMPRE está ocupad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por lo tanto no va a validar nada a menos que usted lo fuer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uso de prototipos involucra una etapa d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ntrenamiento que usted debe ofrece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e incluir en el presupu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6572160" y="4768920"/>
            <a:ext cx="25718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868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0240" y="1187280"/>
            <a:ext cx="792468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debe hacer el sistema?,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servicios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iénes y cuántos son los usuarios?, ¿Qué debería hacer cada uno con 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usuarios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calidad se espera que tenga el software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req. de calidad del softw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es son los formularios que actualmente contienen la información a procesar por 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datos y servicios básicos a manejar por 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92972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57200" y="999720"/>
            <a:ext cx="77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 es el escenario en el que funcionará el sistema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Ambiente Operac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datos están involucrados en el sistema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ámbito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Existen restricciones acerca del funcionamiento del software o del proceso de desarrollo d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Restri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¿Existen restricciones de tecnologías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Restriccion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92972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57200" y="1285920"/>
            <a:ext cx="7786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Se han hecho sistemas de este tipo antes en la empres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ómo les ha ido a los desarrolladores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es fueron los principales problemas que encontraron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... Cada una de estas preguntas pueden ser desglosadas en varias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28680" y="9000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85920" y="1214280"/>
            <a:ext cx="785808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Las entrevistas sirven par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onstruir confianza/ acuerdos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ntre el proveedor y los clientes/usuarios.... aprovéchenlas!!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Prepárense MUY BIEN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para cada entrevista... Su imagen y la de su empresa depende en gran medida de ell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muestre que usted es serio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, y que sabe hacer su trabaj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muestre compromiso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 el proyec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Aclare y limite el problema (junto con el cliente)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... y luego póngalo por escrito (docum. de requisitos), y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que el cliente lo firme!!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8680" y="9000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85920" y="1071720"/>
            <a:ext cx="785808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uidadoso al consultar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, ... pero no se quede con ninguna dud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a efectivo en su trabajo…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No pierda tiempo, ni improvis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Documente todos los acuerd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, y ojalá que éstos sean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públic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 (para clientes/usuarios y desarrolladores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Genere y mantenga una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visión compartida del proyec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No a las justificacion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No a las crític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740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85560" y="1213920"/>
            <a:ext cx="764388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Se debe entregar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copia de las minutas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de las entrevistas, a todos los particip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Otra opción es pasar la documentación en limpio, 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hacerla firmar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por el cliente / usuar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El entrevistador debe ser alguien con buena capacidad de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comunicación </a:t>
            </a:r>
            <a:r>
              <a:rPr b="0" lang="en-GB" sz="2800" spc="-1" strike="noStrike">
                <a:solidFill>
                  <a:srgbClr val="e6e6e6"/>
                </a:solidFill>
                <a:latin typeface="Arial"/>
                <a:ea typeface="Arial"/>
              </a:rPr>
              <a:t>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habilidades social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Debe ser cuidadoso, formal 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no impuls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¿Puedes Leer la Ment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19040" y="1142640"/>
            <a:ext cx="7824960" cy="49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i la respuesta es </a:t>
            </a:r>
            <a:r>
              <a:rPr b="1" lang="es-C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N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, entonces vas a tener que trabajar duro para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identificar y delimitar el problema a resolver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Todo aporta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entrevistas son una parte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importante de es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... También hay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otros recursos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complementarios: formularios, sistemas legados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0" y="1000080"/>
            <a:ext cx="1368360" cy="171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a Present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6840" y="1285560"/>
            <a:ext cx="7396200" cy="49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Introd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etalles sobre Entrevi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Primera Entrev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egunda/Tercera Entrev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Entrevistas de Valid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nclus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71280"/>
            <a:ext cx="7340760" cy="76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4160" y="1143000"/>
            <a:ext cx="7629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7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Las entrevistas sirven para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ocer, clarificar, o limitar el problema a resolve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Identificar a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actores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involucr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struir l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onfianza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liente-desarrollado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stablecer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quisitos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l sistema sin ambigüedad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Validar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l trabajo ya hech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MX" sz="2600" spc="-1" strike="noStrike">
                <a:solidFill>
                  <a:srgbClr val="ffff00"/>
                </a:solidFill>
                <a:latin typeface="Arial"/>
                <a:ea typeface="Arial"/>
              </a:rPr>
              <a:t>Dar visibilidad 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al trabajo realizad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7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0" lang="es-CL" sz="3000" spc="-1" strike="noStrike">
                <a:solidFill>
                  <a:srgbClr val="ffff00"/>
                </a:solidFill>
                <a:latin typeface="Arial"/>
                <a:ea typeface="Arial"/>
              </a:rPr>
              <a:t>entrevistas son el primer paso,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 en el desarrollo de un proyecto de softwar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428480" y="1357200"/>
            <a:ext cx="74833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En un proyecto chico o en un equipo de trabajo chico (3-7 personas),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todos deberíamos conocer </a:t>
            </a:r>
            <a:r>
              <a:rPr b="0" lang="es-ES" sz="2500" spc="-1" strike="noStrike">
                <a:solidFill>
                  <a:srgbClr val="f2f2f2"/>
                </a:solidFill>
                <a:latin typeface="Arial"/>
                <a:ea typeface="Arial"/>
              </a:rPr>
              <a:t>y</a:t>
            </a:r>
            <a:r>
              <a:rPr b="1" lang="es-ES" sz="25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comprender el problema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a resolver, y sus implicancias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Aunque tengamos responsabilidades distintas (roles distintos), debemos conocer el problema, de primera mano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Esto no es sólo responsabilidad de los analistas</a:t>
            </a:r>
            <a:r>
              <a:rPr b="0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o del adm. del proyecto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Hay muchas cosas que requieren intuición y buen criterio</a:t>
            </a:r>
            <a:r>
              <a:rPr b="0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Y eso se puede lograr sólo si comprendo el problema y el desafío que éste representa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21428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0" y="5243400"/>
            <a:ext cx="1214280" cy="15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13920" y="1071720"/>
            <a:ext cx="792972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cer un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abierta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(como para abordar el tema) y revisarla (si es posible en grupo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cer un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 focalizada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diseñada para sacarle el resto de la información al client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 pueden hacer más entrevistas si es necesari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ga l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MENOR CANTIDAD POSIBLE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 entrevist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… </a:t>
            </a:r>
            <a:r>
              <a:rPr b="1" lang="es-MX" sz="2600" spc="-1" strike="noStrike">
                <a:solidFill>
                  <a:srgbClr val="ffff00"/>
                </a:solidFill>
                <a:latin typeface="Arial"/>
                <a:ea typeface="Arial"/>
              </a:rPr>
              <a:t>pero TODAS LAS NECESARI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Graben las entrevistas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7020000" y="5276880"/>
            <a:ext cx="2124000" cy="15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13920" y="1143000"/>
            <a:ext cx="792972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visar los ítems más importantes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(respecto a los requisitos) con el cliente (se debe obtener un OK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Validen con los usuarios, los requisitos entregados por el cliente….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Usuarios y clientes deben estar aline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Usuarios y Clientes deben sentirse parte del proces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Trabajen rápido y focaliz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Traigan y analicen todos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cursos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que puedan: formularios, sistemas legados, manuales de procesos, etc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299280" y="5929200"/>
            <a:ext cx="284472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85600" y="2286000"/>
            <a:ext cx="11523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58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1º y 2º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58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4" name="Group 9"/>
          <p:cNvGrpSpPr/>
          <p:nvPr/>
        </p:nvGrpSpPr>
        <p:grpSpPr>
          <a:xfrm>
            <a:off x="3687840" y="1562040"/>
            <a:ext cx="1414440" cy="863640"/>
            <a:chOff x="3687840" y="1562040"/>
            <a:chExt cx="1414440" cy="863640"/>
          </a:xfrm>
        </p:grpSpPr>
        <p:sp>
          <p:nvSpPr>
            <p:cNvPr id="115" name="Rectangle 4"/>
            <p:cNvSpPr/>
            <p:nvPr/>
          </p:nvSpPr>
          <p:spPr>
            <a:xfrm>
              <a:off x="3687840" y="156204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3787920" y="1666800"/>
              <a:ext cx="121284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q. de Usuari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Group 10"/>
          <p:cNvGrpSpPr/>
          <p:nvPr/>
        </p:nvGrpSpPr>
        <p:grpSpPr>
          <a:xfrm>
            <a:off x="5967360" y="3794040"/>
            <a:ext cx="2996640" cy="1434600"/>
            <a:chOff x="5967360" y="3794040"/>
            <a:chExt cx="2996640" cy="1434600"/>
          </a:xfrm>
        </p:grpSpPr>
        <p:sp>
          <p:nvSpPr>
            <p:cNvPr id="118" name="Rectangle 11"/>
            <p:cNvSpPr/>
            <p:nvPr/>
          </p:nvSpPr>
          <p:spPr>
            <a:xfrm>
              <a:off x="5967360" y="3794040"/>
              <a:ext cx="2996640" cy="1434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Text Box 12"/>
            <p:cNvSpPr/>
            <p:nvPr/>
          </p:nvSpPr>
          <p:spPr>
            <a:xfrm>
              <a:off x="6179400" y="4037760"/>
              <a:ext cx="2569680" cy="916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ución de Software (req., diseño, código, pruebas, etc.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Group 13"/>
          <p:cNvGrpSpPr/>
          <p:nvPr/>
        </p:nvGrpSpPr>
        <p:grpSpPr>
          <a:xfrm>
            <a:off x="1960560" y="3290760"/>
            <a:ext cx="1414440" cy="863640"/>
            <a:chOff x="1960560" y="3290760"/>
            <a:chExt cx="1414440" cy="863640"/>
          </a:xfrm>
        </p:grpSpPr>
        <p:sp>
          <p:nvSpPr>
            <p:cNvPr id="121" name="Rectangle 14"/>
            <p:cNvSpPr/>
            <p:nvPr/>
          </p:nvSpPr>
          <p:spPr>
            <a:xfrm>
              <a:off x="1960560" y="329076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15"/>
            <p:cNvSpPr/>
            <p:nvPr/>
          </p:nvSpPr>
          <p:spPr>
            <a:xfrm>
              <a:off x="2060640" y="3395520"/>
              <a:ext cx="1212840" cy="489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x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Rectangle 16"/>
          <p:cNvSpPr/>
          <p:nvPr/>
        </p:nvSpPr>
        <p:spPr>
          <a:xfrm>
            <a:off x="5857920" y="2357280"/>
            <a:ext cx="1801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8200" indent="-53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2º/3º Entrevi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    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en adelante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9"/>
          <p:cNvSpPr/>
          <p:nvPr/>
        </p:nvSpPr>
        <p:spPr>
          <a:xfrm flipV="1">
            <a:off x="2583000" y="2066760"/>
            <a:ext cx="1079280" cy="1224000"/>
          </a:xfrm>
          <a:prstGeom prst="line">
            <a:avLst/>
          </a:prstGeom>
          <a:ln w="38160">
            <a:solidFill>
              <a:srgbClr val="6d6d6d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5" name="AutoShape 20"/>
          <p:cNvCxnSpPr/>
          <p:nvPr/>
        </p:nvCxnSpPr>
        <p:spPr>
          <a:xfrm>
            <a:off x="5102280" y="1994040"/>
            <a:ext cx="1573920" cy="18007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6" name="AutoShape 21"/>
          <p:cNvCxnSpPr/>
          <p:nvPr/>
        </p:nvCxnSpPr>
        <p:spPr>
          <a:xfrm>
            <a:off x="3374640" y="3722760"/>
            <a:ext cx="2592720" cy="504000"/>
          </a:xfrm>
          <a:prstGeom prst="straightConnector1">
            <a:avLst/>
          </a:prstGeom>
          <a:ln w="41400">
            <a:solidFill>
              <a:srgbClr val="6d6d6d"/>
            </a:solidFill>
            <a:miter/>
            <a:tailEnd len="med" type="triangle" w="med"/>
          </a:ln>
        </p:spPr>
      </p:cxnSp>
      <p:sp>
        <p:nvSpPr>
          <p:cNvPr id="127" name="Rectangle 2"/>
          <p:cNvSpPr/>
          <p:nvPr/>
        </p:nvSpPr>
        <p:spPr>
          <a:xfrm rot="534600">
            <a:off x="4022280" y="3405240"/>
            <a:ext cx="1152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Considerar el Contex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" name="Group 9"/>
          <p:cNvGrpSpPr/>
          <p:nvPr/>
        </p:nvGrpSpPr>
        <p:grpSpPr>
          <a:xfrm>
            <a:off x="571680" y="1347840"/>
            <a:ext cx="1713960" cy="863640"/>
            <a:chOff x="571680" y="1347840"/>
            <a:chExt cx="1713960" cy="863640"/>
          </a:xfrm>
        </p:grpSpPr>
        <p:sp>
          <p:nvSpPr>
            <p:cNvPr id="129" name="Rectangle 4"/>
            <p:cNvSpPr/>
            <p:nvPr/>
          </p:nvSpPr>
          <p:spPr>
            <a:xfrm>
              <a:off x="571680" y="1347840"/>
              <a:ext cx="171396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Text Box 7"/>
            <p:cNvSpPr/>
            <p:nvPr/>
          </p:nvSpPr>
          <p:spPr>
            <a:xfrm>
              <a:off x="692640" y="1452600"/>
              <a:ext cx="146988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lema a resol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1" name="Rectangle 4"/>
          <p:cNvSpPr/>
          <p:nvPr/>
        </p:nvSpPr>
        <p:spPr>
          <a:xfrm>
            <a:off x="7286760" y="1347840"/>
            <a:ext cx="17143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2" name="AutoShape 21"/>
          <p:cNvCxnSpPr/>
          <p:nvPr/>
        </p:nvCxnSpPr>
        <p:spPr>
          <a:xfrm>
            <a:off x="2286000" y="1704600"/>
            <a:ext cx="1357920" cy="143640"/>
          </a:xfrm>
          <a:prstGeom prst="straightConnector1">
            <a:avLst/>
          </a:prstGeom>
          <a:ln w="41400">
            <a:solidFill>
              <a:srgbClr val="6d6d6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3" name="AutoShape 20"/>
          <p:cNvCxnSpPr>
            <a:stCxn id="131" idx="1"/>
          </p:cNvCxnSpPr>
          <p:nvPr/>
        </p:nvCxnSpPr>
        <p:spPr>
          <a:xfrm flipH="1">
            <a:off x="5071680" y="1779480"/>
            <a:ext cx="2215440" cy="69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4" name="Text Box 7"/>
          <p:cNvSpPr/>
          <p:nvPr/>
        </p:nvSpPr>
        <p:spPr>
          <a:xfrm>
            <a:off x="7308720" y="1461960"/>
            <a:ext cx="1675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 que el cliente qui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19"/>
          <p:cNvSpPr/>
          <p:nvPr/>
        </p:nvSpPr>
        <p:spPr>
          <a:xfrm flipH="1" flipV="1">
            <a:off x="1357200" y="2204640"/>
            <a:ext cx="642960" cy="1071720"/>
          </a:xfrm>
          <a:prstGeom prst="line">
            <a:avLst/>
          </a:prstGeom>
          <a:ln w="38160">
            <a:solidFill>
              <a:srgbClr val="6d6d6d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6" name="AutoShape 20"/>
          <p:cNvCxnSpPr/>
          <p:nvPr/>
        </p:nvCxnSpPr>
        <p:spPr>
          <a:xfrm flipH="1">
            <a:off x="7501680" y="2214360"/>
            <a:ext cx="429480" cy="1572120"/>
          </a:xfrm>
          <a:prstGeom prst="straightConnector1">
            <a:avLst/>
          </a:prstGeom>
          <a:ln w="41400">
            <a:solidFill>
              <a:srgbClr val="ff6600"/>
            </a:solidFill>
            <a:prstDash val="sysDash"/>
            <a:miter/>
            <a:tailEnd len="med" type="triangle" w="med"/>
          </a:ln>
        </p:spPr>
      </p:cxnSp>
      <p:cxnSp>
        <p:nvCxnSpPr>
          <p:cNvPr id="137" name="AutoShape 21"/>
          <p:cNvCxnSpPr/>
          <p:nvPr/>
        </p:nvCxnSpPr>
        <p:spPr>
          <a:xfrm>
            <a:off x="785520" y="4500720"/>
            <a:ext cx="5164920" cy="3600"/>
          </a:xfrm>
          <a:prstGeom prst="straightConnector1">
            <a:avLst/>
          </a:prstGeom>
          <a:ln w="41400">
            <a:solidFill>
              <a:srgbClr val="6d6d6d"/>
            </a:solidFill>
            <a:miter/>
            <a:tailEnd len="med" type="triangle" w="med"/>
          </a:ln>
        </p:spPr>
      </p:cxnSp>
      <p:cxnSp>
        <p:nvCxnSpPr>
          <p:cNvPr id="138" name="AutoShape 21"/>
          <p:cNvCxnSpPr/>
          <p:nvPr/>
        </p:nvCxnSpPr>
        <p:spPr>
          <a:xfrm flipH="1">
            <a:off x="802440" y="2214720"/>
            <a:ext cx="2520" cy="2288160"/>
          </a:xfrm>
          <a:prstGeom prst="straightConnector1">
            <a:avLst/>
          </a:prstGeom>
          <a:ln w="41400">
            <a:solidFill>
              <a:srgbClr val="6d6d6d"/>
            </a:solidFill>
            <a:miter/>
          </a:ln>
        </p:spPr>
      </p:cxnSp>
      <p:cxnSp>
        <p:nvCxnSpPr>
          <p:cNvPr id="139" name="AutoShape 21"/>
          <p:cNvCxnSpPr/>
          <p:nvPr/>
        </p:nvCxnSpPr>
        <p:spPr>
          <a:xfrm>
            <a:off x="928800" y="4500720"/>
            <a:ext cx="5021640" cy="3600"/>
          </a:xfrm>
          <a:prstGeom prst="straightConnector1">
            <a:avLst/>
          </a:prstGeom>
          <a:ln w="41400">
            <a:solidFill>
              <a:srgbClr val="6d6d6d"/>
            </a:solidFill>
            <a:miter/>
            <a:tailEnd len="med" type="triangle" w="med"/>
          </a:ln>
        </p:spPr>
      </p:cxnSp>
      <p:sp>
        <p:nvSpPr>
          <p:cNvPr id="140" name="Rectangle 2"/>
          <p:cNvSpPr/>
          <p:nvPr/>
        </p:nvSpPr>
        <p:spPr>
          <a:xfrm>
            <a:off x="2714760" y="4500720"/>
            <a:ext cx="22143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Considerar el Proble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1" name="AutoShape 20"/>
          <p:cNvCxnSpPr/>
          <p:nvPr/>
        </p:nvCxnSpPr>
        <p:spPr>
          <a:xfrm flipV="1">
            <a:off x="7837560" y="2230200"/>
            <a:ext cx="434160" cy="1513440"/>
          </a:xfrm>
          <a:prstGeom prst="straightConnector1">
            <a:avLst/>
          </a:prstGeom>
          <a:ln w="41400">
            <a:solidFill>
              <a:srgbClr val="ff6600"/>
            </a:solidFill>
            <a:prstDash val="sysDash"/>
            <a:miter/>
            <a:tailEnd len="med" type="triangle" w="med"/>
          </a:ln>
        </p:spPr>
      </p:cxn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13:26:24Z</dcterms:created>
  <dc:creator>Sergio Ochoa</dc:creator>
  <dc:description/>
  <dc:language>en-US</dc:language>
  <cp:lastModifiedBy>Sergio</cp:lastModifiedBy>
  <dcterms:modified xsi:type="dcterms:W3CDTF">2011-10-25T11:19:52Z</dcterms:modified>
  <cp:revision>205</cp:revision>
  <dc:subject/>
  <dc:title>Ingeniería de Software   </dc:title>
</cp:coreProperties>
</file>