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29C-FF61-4E30-92E0-D9C8B2FA2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584-2EC4-47FC-8FE5-95F57C1E7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07D-DA73-4E6B-AB75-B06A198B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B35-2904-4907-B2A7-049C918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28A-A24E-4040-9AEF-2B7288A9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45E-264E-4950-9D23-4037447F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C40-7C37-4A7B-93F6-09953C7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F60-6183-4B05-976F-59F2E02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52C-FADF-4802-B1C3-5A32ECF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CA7-C4AA-4696-8975-E585BD6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C70-A6EE-444E-98E5-9E085F0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F67-1AA2-43D2-8A8C-64A2748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556-6ACF-4131-8E9D-089C90F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626-CD0A-497A-9771-EF3C4C2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2AD-FC70-4DF1-8AA5-4FD0E0E4EA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participante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Entre todos traten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le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deb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é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020000" y="5276880"/>
            <a:ext cx="21240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2996640" cy="1434600"/>
            <a:chOff x="5967360" y="3794040"/>
            <a:chExt cx="2996640" cy="143460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2996640" cy="143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179400" y="4037760"/>
              <a:ext cx="25696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are (req., diseño, código, pruebas, etc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29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20"/>
          <p:cNvCxnSpPr>
            <a:stCxn id="131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 Box 7"/>
          <p:cNvSpPr/>
          <p:nvPr/>
        </p:nvSpPr>
        <p:spPr>
          <a:xfrm>
            <a:off x="7308720" y="1461960"/>
            <a:ext cx="167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el cliente qu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20"/>
          <p:cNvCxnSpPr/>
          <p:nvPr/>
        </p:nvCxnSpPr>
        <p:spPr>
          <a:xfrm flipH="1">
            <a:off x="750168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7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39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0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20"/>
          <p:cNvCxnSpPr/>
          <p:nvPr/>
        </p:nvCxnSpPr>
        <p:spPr>
          <a:xfrm flipV="1">
            <a:off x="7837560" y="2230200"/>
            <a:ext cx="434160" cy="151344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19:52Z</dcterms:modified>
  <cp:revision>205</cp:revision>
  <dc:subject/>
  <dc:title>Ingeniería de Software   </dc:title>
</cp:coreProperties>
</file>