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F2BD-2315-4C01-92F5-4CDC9D3A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752-7B2B-4624-BDA7-63C478A1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10B6-56C2-4008-A524-FC3CF10A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F1C4-85C6-4A93-89D1-F16637E2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0F76-6991-4735-94BD-E5C2F411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77F6-B2FC-4060-AB68-CC60DF84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C5B7-562F-4940-9EF3-9051C4D4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8AB0-A8B2-43C4-A90B-5021B11E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9FD1-9937-4C29-A06C-1683A060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2A87-B080-4A9C-849E-BA4475C7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6B04-C39E-4DF5-BD6D-53984262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FAB3-D4EA-4FF4-AC84-881385CB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2B81-E5B7-4002-9CF2-331CA711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9E5B-9887-41D9-8558-2B72D6AE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D353-95F8-4545-90C9-17540123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A743-63AA-407E-9280-E59CA69E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1474-61FD-470F-B254-4E47B31F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51A0-593A-418C-8219-1465E382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CF5-CC36-45CD-8C72-362B2576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E3C-8CC4-4726-9E21-03473A44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A23C-018A-4025-8CDE-1C039C63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BEA-F560-4175-88E6-C08363CC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EE3E-A792-4FF2-8ABE-B0DBB94C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C07-0E47-4F2E-AE76-433E8E6F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2092-6EE1-43C7-A567-BB163C77A95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3444-9C2B-4E12-91D3-7556ACC422D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os y Migr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plic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ua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False Shar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21380" t="45166" r="20523" b="40333"/>
          <a:stretch/>
        </p:blipFill>
        <p:spPr>
          <a:xfrm>
            <a:off x="1295280" y="2209680"/>
            <a:ext cx="73058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7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: Antiguos terminales UNI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27580" t="47282" r="24347" b="41541"/>
          <a:stretch/>
        </p:blipFill>
        <p:spPr>
          <a:xfrm>
            <a:off x="1066680" y="1981080"/>
            <a:ext cx="7767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Independencia de uso de servici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20951" t="38671" r="20309" b="33535"/>
          <a:stretch/>
        </p:blipFill>
        <p:spPr>
          <a:xfrm>
            <a:off x="1143000" y="1981080"/>
            <a:ext cx="6543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2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ganizaciones t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íp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 (o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) c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quitecturas Moder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liente-Servid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32925" t="46828" r="30143" b="40484"/>
          <a:stretch/>
        </p:blipFill>
        <p:spPr>
          <a:xfrm>
            <a:off x="1219320" y="2209680"/>
            <a:ext cx="658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ca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20309" t="42146" r="18600" b="36707"/>
          <a:stretch/>
        </p:blipFill>
        <p:spPr>
          <a:xfrm>
            <a:off x="762120" y="1981080"/>
            <a:ext cx="80769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rquitecturas Modern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26938" t="43052" r="21594" b="37916"/>
          <a:stretch/>
        </p:blipFill>
        <p:spPr>
          <a:xfrm>
            <a:off x="914400" y="2057400"/>
            <a:ext cx="78008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d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1T14:47:22Z</dcterms:modified>
  <cp:revision>130</cp:revision>
  <dc:subject/>
  <dc:title>Sistemas Distribuídos</dc:title>
</cp:coreProperties>
</file>