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36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9.png" ContentType="image/png"/>
  <Override PartName="/ppt/media/image6.pct" ContentType="image/x-pict"/>
  <Override PartName="/ppt/media/image11.png" ContentType="image/png"/>
  <Override PartName="/ppt/media/image3.pct" ContentType="image/x-pict"/>
  <Override PartName="/ppt/media/image10.png" ContentType="image/png"/>
  <Override PartName="/ppt/media/image5.png" ContentType="image/png"/>
  <Override PartName="/ppt/media/image2.pct" ContentType="image/x-pict"/>
  <Override PartName="/ppt/media/image4.png" ContentType="image/png"/>
  <Override PartName="/ppt/media/image1.pct" ContentType="image/x-pict"/>
  <Override PartName="/ppt/media/image14.png" ContentType="image/png"/>
  <Override PartName="/ppt/media/image27.pct" ContentType="image/x-pict"/>
  <Override PartName="/ppt/media/image26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8.png" ContentType="image/png"/>
  <Override PartName="/ppt/media/image20.png" ContentType="image/png"/>
  <Override PartName="/ppt/media/image17.png" ContentType="image/png"/>
  <Override PartName="/ppt/media/image16.png" ContentType="image/png"/>
  <Override PartName="/ppt/media/image1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66DEC-9F1D-4F7E-921F-D74E698D8F85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Se sabe de antemano que el boot-block es el primero de los bloques, y que el segundo es el superblock que guarda toda la informaci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ón relevan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1.- Se agrega un nuevo nodo ra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íz que es raíz para todos los espacios de nombres (locales, foráneo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2.- Por ende, todo el sistema ve todos los espacios como prop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3.- Por lo tanto, al aumentar el número de espacios, la performance decre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apa 1: La raiz y sus cercanos inmutab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apa 2: Nodos manejados por cada organizaci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ón semi-inmutab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apa 3: Nodos variab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El resolver toma toda la direcci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ón y contacta primero al root name server, quien sólo puede resolver “nl” y le responde con la dirección asociada al name server de “nl”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El resolver entonces contacta a ese name server y le pregunta por el resto de la dirección, así hasta llegar al servidor ftp, a quien lo contacta con los parámetros ftp:&lt;pub,globe,index.txt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El resolver del cliente s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ólo contacta al root server, quien se encarga de distribuir la consulta a quien corresponda.  El root server es quien contacta al servidor ftp y quien devuelve el archivo solicitado al clien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Dominio = sub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árbol del espacio de nomb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El problema de este esquema es que limita el n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úmero de referencias externa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Problema: cadenas de referencias =&gt; m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ás probabildiad de alguna fal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614FE-5990-4E8A-BD09-CEEAA371A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0D447-2472-4EB3-9FD1-0EE60989F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8C145-FBFB-42B4-AEFF-D4B243BA0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8C02B-A70B-4E87-AE30-EBEF0599E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E119F-1BE6-463E-8FB8-877333AB4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1267C-AF89-412B-A504-C6F64A27C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C1B2B-299E-46A3-A55C-659DA2C8E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392BE-00E5-4A57-8918-7E787E80F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3C803-CA01-4DE9-ADB5-BE49F7E4A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90C65-CC2E-4B85-ABA9-453E346A6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5ECA0-1910-4337-9C82-278FD8BF8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9394E-04E1-44A1-8E06-6AF6DEF76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9FDD8-2F9C-4615-81AB-6EBE65A44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5F311-33EE-4137-A826-7465699A7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7E395-202C-44BE-AC3B-020EF3992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2B3F3-AF5C-45E3-AAC8-CEE3DA860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80A9A-B53A-4DBD-90AF-DE60D5F90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35EE6-BFFD-49AC-B5DF-023CEA779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B7CAF-C945-4E2F-8E9F-379BDC3CC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5DAFE-7457-4DC6-93CE-294B8E463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4FA30-27D0-431D-AB04-DC47FDDFC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B5B7C-E5C4-4C00-B3A5-D263E5A63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4D18A-0A10-4C7C-8834-E3EE86ECC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7178B-FFC7-4DEF-9162-F50F93901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Sistemas Distribuid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BDE02-0CB8-48BE-BFEC-AECA50E002D5}" type="slidenum">
              <a:rPr b="0" lang="es-ES_trad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978680" y="138240"/>
            <a:ext cx="1015920" cy="1328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777A8-C396-45C6-BDCB-C321B5CC9612}" type="slidenum">
              <a:rPr b="0" lang="de-DE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7413480" y="3030480"/>
            <a:ext cx="1554480" cy="23972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ct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ct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Naming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Servidores de Nombr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900" spc="-1" strike="noStrike">
                <a:solidFill>
                  <a:srgbClr val="330066"/>
                </a:solidFill>
                <a:latin typeface="Arial"/>
              </a:rPr>
              <a:t>Resoluci</a:t>
            </a:r>
            <a:r>
              <a:rPr b="1" lang="es-ES_tradnl" sz="3900" spc="-1" strike="noStrike">
                <a:solidFill>
                  <a:srgbClr val="330066"/>
                </a:solidFill>
                <a:latin typeface="Arial"/>
                <a:ea typeface="ＭＳ Ｐゴシック"/>
              </a:rPr>
              <a:t>ón de Nombr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Generalmente el espacio de nombres es jerárquic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77400" indent="-29052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Arial"/>
              </a:rPr>
              <a:t>Algunos objetos son contenedores (directorios) de otros objeto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9774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0000"/>
                </a:solidFill>
                <a:latin typeface="Arial"/>
              </a:rPr>
              <a:t>Resolución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: proceso iterativo que parte de un contexto inici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77400" indent="-29052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Arial"/>
              </a:rPr>
              <a:t>Res. absoluta: contexto inicial corresponde con raíz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977400" indent="-29052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Arial"/>
              </a:rPr>
              <a:t>Res. relativa: contexto inicial corresponde con nodo intermedio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rcRect l="23516" t="46376" r="20739" b="40937"/>
          <a:stretch/>
        </p:blipFill>
        <p:spPr>
          <a:xfrm>
            <a:off x="2376360" y="3130560"/>
            <a:ext cx="5867640" cy="189072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900" spc="-1" strike="noStrike">
                <a:solidFill>
                  <a:srgbClr val="330066"/>
                </a:solidFill>
                <a:latin typeface="Arial"/>
              </a:rPr>
              <a:t>Clausur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La resoluci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n de nombres sólo se logrará si sabemos </a:t>
            </a:r>
            <a:r>
              <a:rPr b="1" lang="es-ES_tradnl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onde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y </a:t>
            </a:r>
            <a:r>
              <a:rPr b="1" lang="es-ES_tradnl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ómo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empezar a buscar” (closure mechanism / clausura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Ejemplo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70160" indent="-381240">
              <a:spcBef>
                <a:spcPts val="499"/>
              </a:spcBef>
              <a:buClr>
                <a:srgbClr val="330066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016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016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016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0160" indent="-381240">
              <a:spcBef>
                <a:spcPts val="499"/>
              </a:spcBef>
              <a:buClr>
                <a:srgbClr val="330066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00562676813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040200" y="3908520"/>
            <a:ext cx="206280" cy="4014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4014720" y="4897440"/>
            <a:ext cx="1013040" cy="113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Uso de Alias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24347" t="44411" r="21594" b="39275"/>
          <a:stretch/>
        </p:blipFill>
        <p:spPr>
          <a:xfrm>
            <a:off x="755640" y="2549520"/>
            <a:ext cx="8035920" cy="343224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Link simb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lic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nlazar y montar servicio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12640" y="1917360"/>
            <a:ext cx="7772400" cy="29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ara montar un espacio de nombres for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áneo en un sistema distribuido se necesita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476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El nombre del protocolo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0">
              <a:spcBef>
                <a:spcPts val="476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476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El nombre del servidor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0">
              <a:spcBef>
                <a:spcPts val="476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476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El nombre de referencia (punto de montaje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900" spc="-1" strike="noStrike">
                <a:solidFill>
                  <a:srgbClr val="330066"/>
                </a:solidFill>
                <a:latin typeface="Arial"/>
              </a:rPr>
              <a:t>Ejemplo 1: NF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rcRect l="21165" t="39426" r="19455" b="33535"/>
          <a:stretch/>
        </p:blipFill>
        <p:spPr>
          <a:xfrm>
            <a:off x="728640" y="1974960"/>
            <a:ext cx="7500960" cy="40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jemplo 2: Global Name Service (GNS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rcRect l="28863" t="41843" r="27152" b="36103"/>
          <a:stretch/>
        </p:blipFill>
        <p:spPr>
          <a:xfrm>
            <a:off x="1135080" y="1704960"/>
            <a:ext cx="6689880" cy="437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rcRect l="19883" t="37161" r="16461" b="32025"/>
          <a:stretch/>
        </p:blipFill>
        <p:spPr>
          <a:xfrm>
            <a:off x="663480" y="1601640"/>
            <a:ext cx="7115400" cy="487548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330066"/>
                </a:solidFill>
                <a:latin typeface="Arial"/>
              </a:rPr>
              <a:t>Divisi</a:t>
            </a:r>
            <a:r>
              <a:rPr b="1" lang="en-US" sz="3100" spc="-1" strike="noStrike">
                <a:solidFill>
                  <a:srgbClr val="330066"/>
                </a:solidFill>
                <a:latin typeface="Arial"/>
                <a:ea typeface="ＭＳ Ｐゴシック"/>
              </a:rPr>
              <a:t>ón del espacio de nombres DNS en 3 capas (Cheriton et Mann, 1989)</a:t>
            </a:r>
            <a:endParaRPr b="1" lang="en-US" sz="31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Divisi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  <a:ea typeface="ＭＳ Ｐゴシック"/>
              </a:rPr>
              <a:t>ón del espacio de nombr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28600" y="5277960"/>
            <a:ext cx="86090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abla comparativa de espacio de nombres dividido e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3 capas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global, administrational y managerial layer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277920" y="1625760"/>
          <a:ext cx="8547120" cy="2963880"/>
        </p:xfrm>
        <a:graphic>
          <a:graphicData uri="http://schemas.openxmlformats.org/drawingml/2006/table">
            <a:tbl>
              <a:tblPr/>
              <a:tblGrid>
                <a:gridCol w="3670560"/>
                <a:gridCol w="1434960"/>
                <a:gridCol w="1932120"/>
                <a:gridCol w="1509480"/>
              </a:tblGrid>
              <a:tr h="424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e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lob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ministration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ageri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cala geogr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áfica de la r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ldwid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ganizaci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ó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partmen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úmero total de nod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c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ch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masiados!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puesta a consult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gund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lisegund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media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4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pagaci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ón de actualizacion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n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media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media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úmero de réplic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ch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c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ingun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ch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é en cliente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ve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900" spc="-1" strike="noStrike">
                <a:solidFill>
                  <a:srgbClr val="330066"/>
                </a:solidFill>
                <a:latin typeface="Arial"/>
              </a:rPr>
              <a:t>Implementaci</a:t>
            </a:r>
            <a:r>
              <a:rPr b="1" lang="es-ES_tradnl" sz="3900" spc="-1" strike="noStrike">
                <a:solidFill>
                  <a:srgbClr val="330066"/>
                </a:solidFill>
                <a:latin typeface="Arial"/>
                <a:ea typeface="ＭＳ Ｐゴシック"/>
              </a:rPr>
              <a:t>ón de Resolución de Nombr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Asumiendo que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Los servidores de nombre no son replicad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No se usa el cach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é de clien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odo cliente tiene acceso a un </a:t>
            </a:r>
            <a:r>
              <a:rPr b="1" i="1" lang="es-ES_tradnl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lver 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 nombres loc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Veremos la resoluci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n de nombres iterativa y recursiva para </a:t>
            </a:r>
            <a:r>
              <a:rPr b="0" lang="es-ES_tradnl" sz="2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ftp://ftp.cs.vu.nl/pub/globe/index.tx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Iterativa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24347" t="42598" r="21380" b="36404"/>
          <a:stretch/>
        </p:blipFill>
        <p:spPr>
          <a:xfrm>
            <a:off x="380880" y="1511280"/>
            <a:ext cx="8529840" cy="467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900" spc="-1" strike="noStrike">
                <a:solidFill>
                  <a:srgbClr val="330066"/>
                </a:solidFill>
                <a:latin typeface="Arial"/>
              </a:rPr>
              <a:t>Introducci</a:t>
            </a:r>
            <a:r>
              <a:rPr b="1" lang="es-ES_tradnl" sz="3900" spc="-1" strike="noStrike">
                <a:solidFill>
                  <a:srgbClr val="330066"/>
                </a:solidFill>
                <a:latin typeface="Arial"/>
                <a:ea typeface="ＭＳ Ｐゴシック"/>
              </a:rPr>
              <a:t>ó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822320"/>
            <a:ext cx="7772400" cy="40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Objetivo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Un servicio de nombres general para todo el sistema distribuid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Por ejemplo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Para archivos (servicio de directorio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Para servicios (HTTP/FTP/RPC/RMI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Recursiva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24347" t="43505" r="21594" b="37916"/>
          <a:stretch/>
        </p:blipFill>
        <p:spPr>
          <a:xfrm>
            <a:off x="498600" y="1916280"/>
            <a:ext cx="7958160" cy="40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Costos: Iterativa v/s Recursiva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20951" t="44411" r="18386" b="38972"/>
          <a:stretch/>
        </p:blipFill>
        <p:spPr>
          <a:xfrm>
            <a:off x="533520" y="2297160"/>
            <a:ext cx="8105760" cy="31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Ejemplo: Espacio de Nombres de DNS, principales registros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162000" y="1644480"/>
          <a:ext cx="8805960" cy="4692960"/>
        </p:xfrm>
        <a:graphic>
          <a:graphicData uri="http://schemas.openxmlformats.org/drawingml/2006/table">
            <a:tbl>
              <a:tblPr/>
              <a:tblGrid>
                <a:gridCol w="1136520"/>
                <a:gridCol w="1400400"/>
                <a:gridCol w="6269040"/>
              </a:tblGrid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p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tidad asociad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cripci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ó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iene informaci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ón de la zona representada, su administrador, el host donde se encuentra la raíz de esa zona, etc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iene la IP del nodo a quien representa, en caso de m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últiples IP, se utilizarán múltiples registros 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ma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ferencia al mailserver del dominio (quien procesar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á todo el correo para un dominio determinado)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6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R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ma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mbre del servidor para un servicio espec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ífico (ejemplo: Web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 nombre del NameServer que implementa una zona espec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ífic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6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NA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d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nonical Nam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Nombre primario de un nodo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T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iene el nombre primario de un host para consultas por IP. Por ejemplo: gauss.udp.cl es 200.14.84.188, por lo tanto PTR ser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ía 188.84.14.200.in-addr.arp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6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NF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ormaci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ón adicional del ho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X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y ki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ormaci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ón adicional de la entidad representada por el nod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900" spc="-1" strike="noStrike">
                <a:solidFill>
                  <a:srgbClr val="330066"/>
                </a:solidFill>
                <a:latin typeface="Arial"/>
              </a:rPr>
              <a:t>Ejemplo: DNS para udp.cl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$ dig udp.cl +tr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;; AUTHORITY SECTION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udp.cl.                 3600    IN      SOA     mbulnes.udp.cl. root.mbulnes.cce.udp.cl. 2007103157 3600 120 604800 9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;; global options:  printcm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cl.                     172800  IN      NS      SEC3.APNIC.NE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cl.                     172800  IN      NS      SLAVE.STH.NETNOD.S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cl.                     172800  IN      NS      NS-EXT.ISC.OR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cl.                     172800  IN      NS      A.NIC.c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cl.                     172800  IN      NS      NS.NIC.c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cl.                     172800  IN      NS      CL1.DNSNODE.NE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cl.                     172800  IN      NS      NS3.NIC.F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;; Received 404 bytes from 192.36.148.17#53(i.root-servers.net) in 216 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udp.cl.                 3600    IN      NS      mbulnes.udp.c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udp.cl.                 3600    IN      NS      secundario.nic.c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;; Received 107 bytes from 202.12.28.140#53(SEC3.APNIC.NET) in 285 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mbulnes.udp.cl.         3600    IN      A       200.14.86.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;; Received 48 bytes from 200.14.86.4#53(mbulnes.udp.cl) in 1 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Naming v/s Entidades de Localizaci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  <a:ea typeface="ＭＳ Ｐゴシック"/>
              </a:rPr>
              <a:t>ó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5067360"/>
            <a:ext cx="82533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550"/>
              </a:spcBef>
              <a:buClr>
                <a:srgbClr val="330066"/>
              </a:buClr>
              <a:buSzPct val="7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recto, relaci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n directa entre nombres y direccion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50"/>
              </a:spcBef>
              <a:buClr>
                <a:srgbClr val="330066"/>
              </a:buClr>
              <a:buSzPct val="7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laci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n indirecta, a través de identificador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rcRect l="19669" t="45620" r="17744" b="39578"/>
          <a:stretch/>
        </p:blipFill>
        <p:spPr>
          <a:xfrm>
            <a:off x="528480" y="1562040"/>
            <a:ext cx="8120160" cy="332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900" spc="-1" strike="noStrike">
                <a:solidFill>
                  <a:srgbClr val="330066"/>
                </a:solidFill>
                <a:latin typeface="Arial"/>
              </a:rPr>
              <a:t>¿C</a:t>
            </a:r>
            <a:r>
              <a:rPr b="1" lang="es-ES_tradnl" sz="3900" spc="-1" strike="noStrike">
                <a:solidFill>
                  <a:srgbClr val="330066"/>
                </a:solidFill>
                <a:latin typeface="Arial"/>
                <a:ea typeface="ＭＳ Ｐゴシック"/>
              </a:rPr>
              <a:t>ómo localizar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Broadcasting (como el protocolo AR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Redirecci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n de referenci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ome-based (primera comunicación siempre hacia la misma dirección), usado en telefonía celular (por ejemplo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squema jerárquic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Redirecci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  <a:ea typeface="ＭＳ Ｐゴシック"/>
              </a:rPr>
              <a:t>ón de referencia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3828960"/>
            <a:ext cx="7772400" cy="20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principle of forwarding pointers using (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proxy, skeleto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pair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28649" t="43354" r="24347" b="37765"/>
          <a:stretch/>
        </p:blipFill>
        <p:spPr>
          <a:xfrm>
            <a:off x="439560" y="1533600"/>
            <a:ext cx="837756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Redirecci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  <a:ea typeface="ＭＳ Ｐゴシック"/>
              </a:rPr>
              <a:t>ón con actualizació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724040" y="5349600"/>
            <a:ext cx="5865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l proxy actualiza su referencia hacia el skeleton cuando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éste le informa de su nueva dirección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rcRect l="19883" t="45015" r="16890" b="38972"/>
          <a:stretch/>
        </p:blipFill>
        <p:spPr>
          <a:xfrm>
            <a:off x="466560" y="2112840"/>
            <a:ext cx="8677440" cy="31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Home-Based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3281040"/>
            <a:ext cx="7772400" cy="25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principle of Mobile IP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20739" t="39578" r="17744" b="34442"/>
          <a:stretch/>
        </p:blipFill>
        <p:spPr>
          <a:xfrm>
            <a:off x="523800" y="1668600"/>
            <a:ext cx="7610400" cy="45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0066"/>
                </a:solidFill>
                <a:latin typeface="Arial"/>
              </a:rPr>
              <a:t>Esquema jer</a:t>
            </a:r>
            <a:r>
              <a:rPr b="1" lang="en-US" sz="3000" spc="-1" strike="noStrike">
                <a:solidFill>
                  <a:srgbClr val="330066"/>
                </a:solidFill>
                <a:latin typeface="Arial"/>
                <a:ea typeface="ＭＳ Ｐゴシック"/>
              </a:rPr>
              <a:t>árquico</a:t>
            </a:r>
            <a:endParaRPr b="1" lang="en-US" sz="3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369800" y="5057640"/>
            <a:ext cx="6584760" cy="7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5000"/>
          </a:bodyPr>
          <a:p>
            <a:pPr marL="222840" indent="-222840">
              <a:lnSpc>
                <a:spcPct val="9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rganizaci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n jerárquica del servicio de localización en dominios, cada dominio posee su propio nodo de directori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>
              <a:lnSpc>
                <a:spcPct val="9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chain of forwarding pointers to the leaf node is creat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861080" y="3241800"/>
            <a:ext cx="138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21594" t="43656" r="21380" b="37916"/>
          <a:stretch/>
        </p:blipFill>
        <p:spPr>
          <a:xfrm>
            <a:off x="1014480" y="1428840"/>
            <a:ext cx="8029440" cy="367164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 flipV="1">
            <a:off x="1270080" y="1711440"/>
            <a:ext cx="0" cy="26366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60200" y="2709720"/>
            <a:ext cx="111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s-ES_tradnl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úsque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900" spc="-1" strike="noStrike">
                <a:solidFill>
                  <a:srgbClr val="330066"/>
                </a:solidFill>
                <a:latin typeface="Arial"/>
              </a:rPr>
              <a:t>Conceptos B</a:t>
            </a:r>
            <a:r>
              <a:rPr b="1" lang="es-ES_tradnl" sz="3900" spc="-1" strike="noStrike">
                <a:solidFill>
                  <a:srgbClr val="330066"/>
                </a:solidFill>
                <a:latin typeface="Arial"/>
                <a:ea typeface="ＭＳ Ｐゴシック"/>
              </a:rPr>
              <a:t>ásico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Arial"/>
              </a:rPr>
              <a:t>Nombres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: Referencias a objetos o entidad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Para operar una entidad, se necesita un punto de acceso, conocido por su </a:t>
            </a:r>
            <a:r>
              <a:rPr b="1" lang="es-ES_tradnl" sz="2600" spc="-1" strike="noStrike">
                <a:solidFill>
                  <a:srgbClr val="000000"/>
                </a:solidFill>
                <a:latin typeface="Arial"/>
              </a:rPr>
              <a:t>direcci</a:t>
            </a:r>
            <a:r>
              <a:rPr b="1" lang="es-ES_tradnl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n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na entidad puede tener </a:t>
            </a:r>
            <a:r>
              <a:rPr b="1" lang="es-ES_tradnl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ás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de un punto de acceso, o </a:t>
            </a:r>
            <a:r>
              <a:rPr b="1" lang="es-ES_tradnl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odificarlos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a lo largo del tiemp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n otras palabras: una dirección </a:t>
            </a:r>
            <a:r>
              <a:rPr b="1" lang="es-ES_tradnl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uede ser modificada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a lo largo del tiemp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1"/>
          <a:srcRect l="20951" t="39578" r="18172" b="33686"/>
          <a:stretch/>
        </p:blipFill>
        <p:spPr>
          <a:xfrm>
            <a:off x="703440" y="1590840"/>
            <a:ext cx="7650000" cy="46875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¿Problemas? Escal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l problema de los objetos no referenciados (basura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27580" t="42297" r="24347" b="36103"/>
          <a:stretch/>
        </p:blipFill>
        <p:spPr>
          <a:xfrm>
            <a:off x="893880" y="1986120"/>
            <a:ext cx="7343640" cy="425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Reference Counting (1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31360" y="5059440"/>
            <a:ext cx="8132760" cy="14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¿C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mo mantener el contador de referencias si el canal de comunicación no es fiable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rcRect l="26912" t="46376" r="23945" b="40333"/>
          <a:stretch/>
        </p:blipFill>
        <p:spPr>
          <a:xfrm>
            <a:off x="385920" y="1600200"/>
            <a:ext cx="875808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Reference Counting (2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9480" y="4807080"/>
            <a:ext cx="7773840" cy="13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piar la referencia a otro proceso con problemas de latenci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oluci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n al problema anteri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rcRect l="19243" t="45015" r="17318" b="39275"/>
          <a:stretch/>
        </p:blipFill>
        <p:spPr>
          <a:xfrm>
            <a:off x="237960" y="1600200"/>
            <a:ext cx="8677440" cy="304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Advanced Referencing Counting (1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44680" y="4894200"/>
            <a:ext cx="8308800" cy="8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3000"/>
          </a:bodyPr>
          <a:p>
            <a:pPr marL="444600" indent="-444600">
              <a:lnSpc>
                <a:spcPct val="9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icialmente el peso de las referencias es igualad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lnSpc>
                <a:spcPct val="9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ada nueva referencia posee un peso parcial, del cual pueden depender nuevas referenci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rcRect l="20951" t="38369" r="17532" b="50001"/>
          <a:stretch/>
        </p:blipFill>
        <p:spPr>
          <a:xfrm>
            <a:off x="114480" y="1657440"/>
            <a:ext cx="8867520" cy="29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Advanced Referencing Counting (2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18680" y="5316480"/>
            <a:ext cx="8247240" cy="90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49"/>
              </a:spcBef>
              <a:buClr>
                <a:srgbClr val="330066"/>
              </a:buClr>
              <a:buSzPct val="70000"/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signaci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n del peso al copiar una referenci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27366" t="50151" r="24347" b="32477"/>
          <a:stretch/>
        </p:blipFill>
        <p:spPr>
          <a:xfrm>
            <a:off x="1073160" y="1619280"/>
            <a:ext cx="7257960" cy="36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adenas de referencia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9680" y="5275080"/>
            <a:ext cx="8913960" cy="121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oluci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n al problema de limite de referencias: El Proceso P1 pasa a ser un proxy de referencia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rcRect l="27792" t="45015" r="24347" b="39426"/>
          <a:stretch/>
        </p:blipFill>
        <p:spPr>
          <a:xfrm>
            <a:off x="268200" y="1461960"/>
            <a:ext cx="8529840" cy="39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ontador de copia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17160" y="5270400"/>
            <a:ext cx="841068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da proceso lleva un contador de copias G[ ] de la referencia, y la generac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n “i” a la que pertenece. Cuando G[i]=0 la entidad se puede borrar y debe comunicarle a la generación anterior el borra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rcRect l="29289" t="46073" r="26938" b="40030"/>
          <a:stretch/>
        </p:blipFill>
        <p:spPr>
          <a:xfrm>
            <a:off x="652320" y="1542960"/>
            <a:ext cx="780120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900" spc="-1" strike="noStrike">
                <a:solidFill>
                  <a:srgbClr val="330066"/>
                </a:solidFill>
                <a:latin typeface="Arial"/>
              </a:rPr>
              <a:t>Pero!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Todos los esquemas anteriores asumen que cada entidad se va a borrar (eliminar) por si mism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No detecta ciclos de basura (entidades inalcanzables desde la ra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íz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Esquema alternativo: </a:t>
            </a:r>
            <a:r>
              <a:rPr b="1" i="1" lang="es-ES_tradnl" sz="3000" spc="-1" strike="noStrike">
                <a:solidFill>
                  <a:srgbClr val="000000"/>
                </a:solidFill>
                <a:latin typeface="Arial"/>
              </a:rPr>
              <a:t>mark &amp; swee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M&amp;S: Marcaje inicial de skeleton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rcRect l="20711" t="24470" r="19883" b="56345"/>
          <a:stretch/>
        </p:blipFill>
        <p:spPr>
          <a:xfrm>
            <a:off x="230040" y="2138400"/>
            <a:ext cx="8301240" cy="379404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2577600" y="3932280"/>
            <a:ext cx="56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ra</a:t>
            </a:r>
            <a:r>
              <a:rPr b="1" lang="es-ES_tradnl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í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63680" y="2286000"/>
            <a:ext cx="3992400" cy="388296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1231920" y="1733400"/>
            <a:ext cx="21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Human-friend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347720" y="1758960"/>
            <a:ext cx="468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ot-so-human-friendly (direccion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716360" y="2230560"/>
            <a:ext cx="4187880" cy="39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M&amp;S: Marca de skeletons hacia proxi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rcRect l="25936" t="43356" r="15708" b="37588"/>
          <a:stretch/>
        </p:blipFill>
        <p:spPr>
          <a:xfrm>
            <a:off x="542880" y="2297160"/>
            <a:ext cx="795348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M&amp;S: Marca de proxies hacia skeleton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rcRect l="28223" t="61935" r="20523" b="19034"/>
          <a:stretch/>
        </p:blipFill>
        <p:spPr>
          <a:xfrm>
            <a:off x="4680" y="1773360"/>
            <a:ext cx="9134640" cy="48006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3815280" y="2638440"/>
            <a:ext cx="100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aso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9840" y="2693880"/>
            <a:ext cx="100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aso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409360" y="3565440"/>
            <a:ext cx="226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aso 3 (deten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106800" y="4071960"/>
            <a:ext cx="4803840" cy="2085840"/>
          </a:xfrm>
          <a:prstGeom prst="roundRect">
            <a:avLst>
              <a:gd name="adj" fmla="val 16667"/>
            </a:avLst>
          </a:prstGeom>
          <a:solidFill>
            <a:srgbClr val="ff0000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2"/>
          <a:stretch/>
        </p:blipFill>
        <p:spPr>
          <a:xfrm>
            <a:off x="4892760" y="4127400"/>
            <a:ext cx="1319040" cy="18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900" spc="-1" strike="noStrike">
                <a:solidFill>
                  <a:srgbClr val="330066"/>
                </a:solidFill>
                <a:latin typeface="Arial"/>
              </a:rPr>
              <a:t>¿dirección = entidad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87480" y="1825560"/>
            <a:ext cx="6816600" cy="417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900"/>
            </a:br>
            <a:r>
              <a:rPr b="1" lang="es-ES_tradnl" sz="3900" spc="-1" strike="noStrike">
                <a:solidFill>
                  <a:srgbClr val="330066"/>
                </a:solidFill>
                <a:latin typeface="Arial"/>
                <a:ea typeface="ＭＳ Ｐゴシック"/>
              </a:rPr>
              <a:t>Identificador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Tipo especial de nombre que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4953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Se refiere a lo m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ás a una entida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4953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Cada entidad es referenciada por a lo m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ás un identificad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4953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n identificador </a:t>
            </a:r>
            <a:r>
              <a:rPr b="1" lang="es-ES_tradnl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iempre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se refiere a la misma entida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jemplo de no-identificadores: “Juan Pérez”, 005626768137, 172.16.40.4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900" spc="-1" strike="noStrike">
                <a:solidFill>
                  <a:srgbClr val="330066"/>
                </a:solidFill>
                <a:latin typeface="Arial"/>
              </a:rPr>
              <a:t>Servicio de Nombr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Arial"/>
              </a:rPr>
              <a:t>Espacio de nombres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: Conjunto de nombres reconocidos por un servicio de nombr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Arial"/>
              </a:rPr>
              <a:t>Resoluci</a:t>
            </a:r>
            <a:r>
              <a:rPr b="1" lang="es-ES_tradnl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n de nombres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Convencional: a partir del nombre se obtienen atributos, ejemplo: p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áginas blanca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or atributos: A partir de 1 o más atributos se obtiene el resto, ejemplo: páginas amarilla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Arial"/>
              </a:rPr>
              <a:t>Servicio de directorio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: basado en atributos (nombre es s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lo un atributo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spacio de Nombr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822320"/>
            <a:ext cx="7772400" cy="40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únmente representado por un grafo dirigido con dos tipos de nodos: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irectorio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(quien guarda la información de etiqueta/hijos) 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ojas  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(la entidad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rcRect l="22448" t="44865" r="20097" b="39879"/>
          <a:stretch/>
        </p:blipFill>
        <p:spPr>
          <a:xfrm>
            <a:off x="1392120" y="3305160"/>
            <a:ext cx="6970680" cy="261936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4687920" y="2214720"/>
            <a:ext cx="295200" cy="306360"/>
          </a:xfrm>
          <a:prstGeom prst="rect">
            <a:avLst/>
          </a:prstGeom>
          <a:solidFill>
            <a:srgbClr val="d8d8e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967360" y="2571840"/>
            <a:ext cx="308160" cy="272880"/>
          </a:xfrm>
          <a:prstGeom prst="ellipse">
            <a:avLst/>
          </a:prstGeom>
          <a:solidFill>
            <a:srgbClr val="d8d8e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300640" y="3219480"/>
            <a:ext cx="51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ra</a:t>
            </a:r>
            <a:r>
              <a:rPr b="1" lang="es-ES_tradnl" sz="1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í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jemplo de espacio de nombr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23516" t="46376" r="20739" b="40937"/>
          <a:stretch/>
        </p:blipFill>
        <p:spPr>
          <a:xfrm>
            <a:off x="2125800" y="4398840"/>
            <a:ext cx="5867280" cy="189072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37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a organizaci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n de un sistema de archivos UNIX en los bloques contiguos de un disco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476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oot-block</a:t>
            </a:r>
            <a:r>
              <a:rPr b="0" lang="es-ES_tradnl" sz="1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: bloque especial de datos e instrucciones que se carga al iniciar el sistema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476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uperblock</a:t>
            </a:r>
            <a:r>
              <a:rPr b="0" lang="es-ES_tradnl" sz="1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: contiene información de todo el sistema de archivos (tamaño, bloques desocupados, etc.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476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-nodes</a:t>
            </a:r>
            <a:r>
              <a:rPr b="0" lang="es-ES_tradnl" sz="1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: Almacena la información de la asociación archivo-bloque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11T14:09:20Z</dcterms:created>
  <dc:creator>Steve  Armstrong</dc:creator>
  <dc:description/>
  <dc:language>en-US</dc:language>
  <cp:lastModifiedBy>Usuario de Office 2004 Test Drive</cp:lastModifiedBy>
  <dcterms:modified xsi:type="dcterms:W3CDTF">2009-01-21T13:34:48Z</dcterms:modified>
  <cp:revision>37</cp:revision>
  <dc:subject/>
  <dc:title>Naming</dc:title>
</cp:coreProperties>
</file>