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7EE8-0FEA-4E06-AC57-3119709B38C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FC81-BC84-40D2-8860-6A9330B02F2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875E-27F1-4240-B86F-39A67B51A05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067B-9665-45D4-8E31-684E10A96AD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4BE8-13D6-4658-B867-27DAC5058CB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4787-DB69-47A1-A441-CBC3C3B66C3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7D4D-F7CC-471E-9206-3BA6C6CEF6E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324D-E7F1-4A64-9A4B-58B934E5DDE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3257-865C-4C47-A285-ED9D3EB4711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33A9-3FBD-455C-8550-C0C0FC705A7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0742-7F50-40DF-A5A9-CBFA8007D14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DF2E-0488-4E18-8CD7-CD4009912AB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0E42-75C9-457B-876B-21FC35512EC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1B8C-A3EE-47D1-92A9-F940A5E166B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AFA6-2ACE-4B28-BD01-128A7AF3FB6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DF1F-2BA0-447D-9D78-B3C34522429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71F6-CB9C-4D83-B3A1-1160FE64F64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853B-1D1E-446B-8BF9-37CE5C4AB1B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A4D9-5410-497B-9533-399B46E75C3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921-679C-49E5-B7ED-78EDCC89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030-4C8B-4B56-B6C3-ACBD93F0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EDA-BE49-4101-99F4-BC89D5D1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4C6-87B1-463F-976F-A3B0DDBC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256E-E02A-4525-AF3B-44185368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4AA4-7BDB-484B-9409-59D96813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2017-95EF-43E4-97AD-3CB2F998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4080-FAE0-4672-AD00-9D09C901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0E89-495D-4E92-BBE1-A3190174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2CFC-592D-4327-8327-44F8CD13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3608-1816-436A-B4BC-6EFAF439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BA9-20BE-4A8F-97AF-6BDC5DCF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0C0F-DE35-4DA6-8A4E-803C285B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1514-B30E-43FE-AAD1-AE4D956C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7393-3D70-4CAD-BD28-9BAF69E1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3F8C-F189-4D9A-B94C-8653D227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A3A3-27E3-40AA-99AD-9FCBB8D9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3626-C823-40CF-90D8-D3D47F9B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E2AD1-C4F6-460A-B5AF-558BD595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2F2E-7CD7-4849-A6F7-60AB680F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A332-BB62-4501-8A0C-2151BA76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2DCF-EA98-4706-910D-1454CB27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0DE-234E-4AC4-B39F-CFCD718C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A498C-775A-4D38-94F6-E4E19AF7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D9F0F-2169-4EAE-A9E9-8F34327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C1FD-A165-47D6-9019-1E0B0A8D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88CD-7E2D-4A6F-AB33-DBCE4B6D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5219-74E9-47BF-9E44-31CD9557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62284-9124-47A8-AC56-118B62BD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4EC24-355B-48B1-B007-2FD649D8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F4A29-9EF7-4D13-8BDF-B7C45DFB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5AA44-09A7-4E55-8044-C545EFF9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F555-BEB8-42AE-99C3-D2857D75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1CD-1E02-4D23-B6CF-A0FC55DC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F2F64-E6A7-4C38-BD72-9C5C12F6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EB3A-4FFD-4704-9DA4-BA4BD396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1FAF5-7B79-40F1-B2A5-AC073A96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5D867-886A-4925-B341-5699E686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0182-AC84-4A7F-89CD-6C2E575A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B1CD-C910-4C99-A7A3-9B0E16EA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FA95-B7FB-443F-B1D6-5D073A27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86939-03E3-4BF8-A406-0A989D18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0F445-A3B1-43EA-A178-88DAFCCD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7F9D8-E62D-4101-A7F4-169EDE08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C24-D169-4173-9004-89D4F7F6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0A124-7A03-4CF6-A648-9A716734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DECC1-66A5-4EC4-9A54-BC7DDC58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A1069-2D38-4E58-9526-0B5C6042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17089-93E4-4210-8693-CE95F25B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2C56A-167C-4219-8655-88F5774F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94C42-5743-47E5-9965-8F7F12E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8A657-795D-470C-ADC4-569F3B4A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2871A-9135-4656-9E16-EB827C2D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CBBAC-C0E2-4194-AB16-01B5B3EB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86B17-FDFA-4809-A727-20FB7A2D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401-EA97-429F-8307-57CC0A68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AFC63-103F-4F7B-9B5B-D780C3B8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0AA80-6CE2-41F5-B5EE-95E510C0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04663-DA83-4F3F-9C11-5A739D68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0146C-626B-4FCD-96D4-BBFE96FF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C86D8-D84D-4890-AAC5-DF7696AA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E69E-9C9C-4D7F-8AB4-4EF2FB7E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B8B9-AB9F-48A7-A482-9B660BE0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27F82-107B-475C-A2F7-F2046067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32DCC-848F-4F77-A2A9-A1544E2D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7E077-6C19-45F1-8DC4-1C9619DF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A93-83D6-4571-B25C-C888D866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575B0-987C-4275-A570-54E90548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42347-5114-4A9A-BA89-3E1A36DB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18C43-EBF8-4387-92CC-FECBC2B2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5FE61-E9E3-4AAC-821C-5DCB8DF5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ACC83-C6B8-439A-B41F-FC6F601D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7FE48-F9C7-4799-B38F-92EAE6CA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DE2D8-0D37-499C-83C1-E820126C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F401F-801E-4429-9C33-6B3D3EC8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25105-8C90-4CE2-8F0F-84391DCF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ACB43-1B2B-4E5B-B2ED-1E20795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6C4-5E5E-4A0B-8963-1C164A30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142E6-9B5F-4F63-9BB6-7A478290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A3E77-E656-4266-8918-5DDEA2F7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391C9-E377-4097-BD53-B2BE32EA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BADF3-2E8B-4FEE-91E4-B2065681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AF71D-12CC-456D-ACFC-BCF1B9CA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491-E6F2-4BFD-B1AA-EF62F33A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D077-676B-4FE2-B044-0D7FDDD39DD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D962-FDE9-4F93-8319-778C3650A1FE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2A6D-566B-42D7-974D-4E7AFAA76BA8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FFBC-F5A1-4502-B79B-3FE28D4D903F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5473-0F5A-430D-8960-10B8094E7076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A2D9-9709-45A8-AF56-9683905841A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FDA0-4294-4453-9D6B-2D3ED9F6930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1401840"/>
            <a:ext cx="8070840" cy="1347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e193"/>
                </a:solidFill>
                <a:latin typeface="Corbel"/>
              </a:rPr>
              <a:t>¿Qué es un buen softwar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6072120" y="1500120"/>
            <a:ext cx="3000600" cy="2089080"/>
          </a:xfrm>
          <a:prstGeom prst="rect">
            <a:avLst/>
          </a:prstGeom>
          <a:ln w="0">
            <a:noFill/>
          </a:ln>
        </p:spPr>
      </p:pic>
      <p:sp>
        <p:nvSpPr>
          <p:cNvPr id="35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7402-3860-4D74-BB24-066C89744F5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42920" y="1752480"/>
            <a:ext cx="6143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portable si puede ejecutarse en 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14240" y="30715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forma de lograr portabilidad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suponer la mínima configur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to penaliza los sistemas que podrían ejecutar mejor haciendo uso del ambiente disponi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Otra opción es determinar sobre la marcha las disponibilidades del ambi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C992-EF71-4832-98D5-2D9D77FDF20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746280" y="1716120"/>
            <a:ext cx="56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1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800" y="311940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s componentes reutilizables son (deben ser) inherentemente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 estandarización de las interfaces promueve la interopera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os sistemas abiertos son casos típicos de sistemas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511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D95A-4750-4FC5-ACCC-129F304ED6C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65040" y="1792440"/>
            <a:ext cx="54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Rectangle 9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275256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productividad de un equipo de desarrollo es generalmente menor que la suma de las productividades individu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xisten métricas para medir la productividad (LOC, puntos de función, etc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automatización y el soporte de software de desarrollo aumen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7" descr=""/>
          <p:cNvPicPr/>
          <p:nvPr/>
        </p:nvPicPr>
        <p:blipFill>
          <a:blip r:embed="rId2"/>
          <a:stretch/>
        </p:blipFill>
        <p:spPr>
          <a:xfrm>
            <a:off x="6572160" y="214200"/>
            <a:ext cx="242892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6215040" y="1550880"/>
            <a:ext cx="3071880" cy="2163960"/>
          </a:xfrm>
          <a:prstGeom prst="rect">
            <a:avLst/>
          </a:prstGeom>
          <a:ln w="0">
            <a:noFill/>
          </a:ln>
        </p:spPr>
      </p:pic>
      <p:sp>
        <p:nvSpPr>
          <p:cNvPr id="37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71E4-16A3-40F5-9EFB-2298148B95F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857160" y="164304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7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714240" y="25718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el producto a tiempo da, en general,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mejor oportunidad comercial, y a vece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hace que el producto sea útil o in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un producto a tiempo sin confiabilidad o eficiencia tampoco es 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Requier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stimación del trabaj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hitos verificab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"/>
          <p:cNvPicPr/>
          <p:nvPr/>
        </p:nvPicPr>
        <p:blipFill>
          <a:blip r:embed="rId1"/>
          <a:srcRect l="66169" t="0" r="0" b="13461"/>
          <a:stretch/>
        </p:blipFill>
        <p:spPr>
          <a:xfrm>
            <a:off x="6757920" y="928800"/>
            <a:ext cx="2314800" cy="1928880"/>
          </a:xfrm>
          <a:prstGeom prst="rect">
            <a:avLst/>
          </a:prstGeom>
          <a:ln w="0">
            <a:noFill/>
          </a:ln>
        </p:spPr>
      </p:pic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124C-9F34-4E3C-98CF-F7C8548848F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42920" y="1643040"/>
            <a:ext cx="78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proceso de desarrollo de software es visible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si todos sus pasos están claramente documentados,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y se puede saber su estado de avance en cada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Rectangle 1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14240" y="3071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iseño, testing, codificación e integración pueden suceder simultáneamente, pero deben coordin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visibilidad ayuda a evaluar el impacto de las decisio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ambién es esencial cuando existe rotación en el person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8D78-F809-4C13-9D2D-FB63877617F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380880" y="1752480"/>
            <a:ext cx="640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Medida de la relación entre las partes de una </a:t>
            </a:r>
            <a:br>
              <a:rPr sz="2400"/>
            </a:b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incident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 relacionad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Lógica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funciones simi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empo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jecución simultán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Procedu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secuencia de contro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unica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arten el inpu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ecuenci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output de uno es input del otr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Fun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partes son necesarias para la fun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acciones actúan sobre los mismos datos del objet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2"/>
          <a:stretch/>
        </p:blipFill>
        <p:spPr>
          <a:xfrm>
            <a:off x="6715080" y="285840"/>
            <a:ext cx="212400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E5B2-F3D2-4A95-ADD2-7426B7C8340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3200040"/>
            <a:ext cx="7918560" cy="2871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muy 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arten variables o información de contro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des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interfaces definidas con listas de parámetr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1424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Corbe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36" descr=""/>
          <p:cNvPicPr/>
          <p:nvPr/>
        </p:nvPicPr>
        <p:blipFill>
          <a:blip r:embed="rId2"/>
          <a:stretch/>
        </p:blipFill>
        <p:spPr>
          <a:xfrm>
            <a:off x="6215040" y="663480"/>
            <a:ext cx="2714760" cy="17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E089-08A1-4919-A3F7-D2932CAB6D0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Rectangle 2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28760" y="26427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22" descr=""/>
          <p:cNvPicPr/>
          <p:nvPr/>
        </p:nvPicPr>
        <p:blipFill>
          <a:blip r:embed="rId2"/>
          <a:stretch/>
        </p:blipFill>
        <p:spPr>
          <a:xfrm>
            <a:off x="6215040" y="285840"/>
            <a:ext cx="2760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6773760" y="71280"/>
            <a:ext cx="2298960" cy="2000520"/>
          </a:xfrm>
          <a:prstGeom prst="rect">
            <a:avLst/>
          </a:prstGeom>
          <a:ln w="0">
            <a:noFill/>
          </a:ln>
        </p:spPr>
      </p:pic>
      <p:sp>
        <p:nvSpPr>
          <p:cNvPr id="39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74FE-052E-4BE1-B9AD-CF926F7FF9F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3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6715080" y="1571760"/>
            <a:ext cx="2428920" cy="1904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85840" y="3314520"/>
            <a:ext cx="8472240" cy="311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a estrategia habitual es definir identificación de usuarios para acceder a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Otra estrategia más sofisticada es la definición de perfi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n sistemas abiertos: inundar servidor con solicitudes le impide brindar otros servici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4 Marcador de contenido"/>
          <p:cNvSpPr/>
          <p:nvPr/>
        </p:nvSpPr>
        <p:spPr>
          <a:xfrm>
            <a:off x="214200" y="1774800"/>
            <a:ext cx="65008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oftware es seguro si es capaz de resistir usos maliciosos sin restar funcionalidad a los usos reg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57FA-9106-42DC-BC97-1E874307E0D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0713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rrec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nfi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obus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ficient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mig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erific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ort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Interoper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6213600" y="1500120"/>
            <a:ext cx="2930400" cy="30718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5740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roductiv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 Tiemp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i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hes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Desacoplad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mpre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Manten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scal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6215040" y="1500120"/>
            <a:ext cx="2857680" cy="2041560"/>
          </a:xfrm>
          <a:prstGeom prst="rect">
            <a:avLst/>
          </a:prstGeom>
          <a:ln w="0">
            <a:noFill/>
          </a:ln>
        </p:spPr>
      </p:pic>
      <p:pic>
        <p:nvPicPr>
          <p:cNvPr id="409" name="1 Título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32148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 sistema puede crecer con respecto al número de usuarios, cantidad de datos manejado o alguna otra dimens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Durante el análisis y el diseño del sistema se piensa las dimensiones de crecimiento y se realizan pruebas de esfuerz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2 Marcador de contenido"/>
          <p:cNvSpPr/>
          <p:nvPr/>
        </p:nvSpPr>
        <p:spPr>
          <a:xfrm>
            <a:off x="457200" y="1774800"/>
            <a:ext cx="6186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istema es escalable si puede crecer sin degradarse significa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7235-395D-4946-BE5A-29F6935D256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320" y="2819520"/>
            <a:ext cx="8032680" cy="3657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definición supon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xistencia de un especificación de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posibilidad de determinar sin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ambigüedad la correspondencia entre la especificación y el diseñ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orrectitud del software puede comprobarse probándolo o mediante análi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33520" y="1828800"/>
            <a:ext cx="568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2"/>
          <a:stretch/>
        </p:blipFill>
        <p:spPr>
          <a:xfrm>
            <a:off x="6072120" y="1571760"/>
            <a:ext cx="30718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945D-778C-4677-9A04-E7290363ACC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85800" y="1752480"/>
            <a:ext cx="5958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confiable si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1969560" y="6308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Rectangle 1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85480" y="2804760"/>
            <a:ext cx="8715240" cy="3071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A diferencia de la corrección, la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confiabilidad es algo relativ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l mercado puede admitir algunos errores en el software siempre que en general se comporte en forma esper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No sólo no damos garantías de corrección del software, sino que varios productos incluyen un “disclaimer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6858000" y="15001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CE20-4BCF-4E41-AD7E-5BD88D31CDC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85840" y="1752480"/>
            <a:ext cx="63579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56760" y="2857320"/>
            <a:ext cx="8358120" cy="3524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atos de entrada incorrectos o falla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e hard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antidad de código que se dedica a hacer el software robusto depende de la experiencia de los usuarios o lo crítico de su mis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Si algo se especifica como requisito, cumplirlo es cuestión de corrección; si no está en los requisitos es cuestión de robustez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6595920" y="71280"/>
            <a:ext cx="2476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2C24-51D4-433B-97A4-5203B24F7BA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4200" y="175248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50560" y="2792160"/>
            <a:ext cx="4027320" cy="399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57440" y="2743200"/>
            <a:ext cx="4786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8" descr=""/>
          <p:cNvPicPr/>
          <p:nvPr/>
        </p:nvPicPr>
        <p:blipFill>
          <a:blip r:embed="rId2"/>
          <a:stretch/>
        </p:blipFill>
        <p:spPr>
          <a:xfrm>
            <a:off x="6143760" y="142920"/>
            <a:ext cx="2857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2571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interfaz con el usuario es parte esencial del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ser amig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0B85-7A17-45AC-92DD-937E4650B47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6786720" y="1500120"/>
            <a:ext cx="228096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FF2-51C6-484E-8EDA-858B7EB6BF4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714240" y="1752480"/>
            <a:ext cx="5572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440" y="316548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316548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2"/>
          <a:stretch/>
        </p:blipFill>
        <p:spPr>
          <a:xfrm>
            <a:off x="6402240" y="1571760"/>
            <a:ext cx="25750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8" descr=""/>
          <p:cNvPicPr/>
          <p:nvPr/>
        </p:nvPicPr>
        <p:blipFill>
          <a:blip r:embed="rId1"/>
          <a:srcRect l="0" t="3595" r="0" b="6400"/>
          <a:stretch/>
        </p:blipFill>
        <p:spPr>
          <a:xfrm>
            <a:off x="7108920" y="1557360"/>
            <a:ext cx="2000160" cy="1800360"/>
          </a:xfrm>
          <a:prstGeom prst="rect">
            <a:avLst/>
          </a:prstGeom>
          <a:ln w="0">
            <a:noFill/>
          </a:ln>
        </p:spPr>
      </p:pic>
      <p:sp>
        <p:nvSpPr>
          <p:cNvPr id="35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94EF-F4D7-4A12-B537-992730A2530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642960" y="1571760"/>
            <a:ext cx="70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reusable si una vez construido se puede usar con pocos o ningún cambio como parte de otra apl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50560" y="271440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s bibliotecas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ervicios web son un caso actu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48320" y="2792160"/>
            <a:ext cx="4316400" cy="3779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l reuso es una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cualidad difícil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1-10-13T13:18:03Z</dcterms:modified>
  <cp:revision>602</cp:revision>
  <dc:subject/>
  <dc:title>CC31B – Desarrollo de Software de Aplicación</dc:title>
</cp:coreProperties>
</file>