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24C4-AC7B-4AA8-97AD-B22C683252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E258-1D65-485B-BE66-DF72350ABEB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BC16-BD2D-4A98-AB8C-B0A0FE699E2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29F-6E85-40EB-9C67-C244A64208E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AF1-93C8-48E0-9C9E-5B809F7992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9704-8CC7-4407-B3F2-7285545465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E39F-84B1-4588-A23F-51065F0441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BA2-29CE-4DB8-B056-5962C397A4F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477-8976-4B88-B65A-7E744216712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346-BCC0-4727-91B8-C2EC9C8A7A3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2C3D-976E-4BCA-8F16-E256F9DE77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2AF-6792-46AD-8095-C1AB91407DF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F7B-7C67-4296-8305-885A731856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C6C7-4124-4301-B0D6-AC130F88D9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E64C-A23E-4A76-A7D3-0F473E8C3D1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56C-C2DE-4D35-A7E8-95DE4BCF91D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D2D-4320-4E6E-982F-4BAB3F0236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A1F-DE26-45E1-A033-8C23F2E9925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F69-D76B-43B8-958C-B7C9B33D69A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592-3B5C-4411-A100-F64F7E9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10D-C6B5-4959-A1A1-E7C9FC89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105-2079-469C-8A42-ACEEA86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C96-8023-422D-94FF-D0C7872F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8F6C-FB81-4690-96F1-6867B478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389C-7A39-41B1-BB2E-7356538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E412-584D-4711-8445-76B23208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3777-B37A-4830-A032-AECBC27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1828-3935-4144-91D0-DF907FE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5D39-7C56-46D1-97C9-D6543CB0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6AA-9C5C-43C4-B059-3D913B0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067-31DC-4C1B-A210-B6D5D40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AE9C-7BA6-45DB-8A61-D053CF3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BB8-F03C-4AB1-B784-8397323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B13F-9D4A-4B70-B68D-422F6460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997C-7C2C-4EAC-921C-980EFDBD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F935-E61B-464D-BAFE-BCDD496F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3713-6C4C-4972-862A-C4BA2E9A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A26B-62B2-4CAC-A0DF-45049285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08C4-C1E0-4C15-BB28-4A5868C2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9914-4D9F-4DE0-BE2F-58437F2B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B228-B5E9-4AC4-BDDB-A85283A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9EA-8AFD-4172-9326-B67A52C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79D0-A54F-4BF9-B3F8-F810D4BF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DAD9-DDAE-44ED-A1A5-1D3C83C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DC9E-130B-4E3C-822B-0FD276E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B238-F7C5-43E4-9C91-9FCD7F8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0A1B-9348-41EE-9D33-2897CF8E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90B7-E5B7-4386-9AB6-F1EFCE07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E1D0-E3DF-46A2-8919-F0B5AC33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9C55-62CB-454E-B78C-4165FE52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0369-6BD1-4D79-8FD5-E4933565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43B8-96D4-4742-B9C3-1DC5F20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25D-4D07-4AF5-B0A3-B6B2550F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D160-8A9C-4651-82A6-5AD7BF7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6AD5-6BFF-4A69-A87F-E30744F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77DE-4992-4531-A42C-C02DE75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2340-AF79-4542-A6A1-3F740EF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7953-2C6B-47FF-BF2B-EFED287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7E32-5408-4826-8B0E-A669A70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51DB-01DD-4A5C-A39D-4444777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962B-C223-46B6-B529-9FC14DAC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9382-62AA-48A6-91AD-298B98D0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ABBB-B44A-4EF2-84B4-C6685090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355-AB51-4474-8A9C-9CB7F9C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6106-6723-4360-A9B8-08C87AF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95EA-58EA-46F6-8D9F-4BD3A8E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7585-4C78-4C0B-9E9D-87D3FF0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62D6-2D6E-4A43-8E87-01392D1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AC3B-4DF2-4176-9337-17BF3A9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2A21-DD84-44F6-9071-746732F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41BE-1885-4F00-8C05-26653F6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3C52-506C-41F9-AF98-F1C4844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40A5D-5F83-4F2D-8C66-1A4DADE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87DC-3E2B-47C2-BCA7-29EA6072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481-81EE-43B8-BF7E-0487E73D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0698-BB25-41F5-9372-E97FFF20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DF4F-9A51-40A6-8F98-FFE4E5A0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1807E-80EF-4AA1-9BFD-3D1C0C82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E8DB-4039-495D-B8FF-BF4C7D4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0E91B-84A2-42D6-961A-4200027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E485-7D84-4B57-A2FF-D995265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20E7-9E31-4481-AD68-E3AA6E5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0F0D-AB7A-4D6C-8ED3-0E62C78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12D3-D4AB-4C53-9505-9053C72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7493-994D-40CC-BCF6-72840B8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FD-AC76-451D-9BD5-01223C4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F725-DA0D-4AEA-AAB9-3C0B6C2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BE55-FB17-40C6-91E0-4BEB55BA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DA44-0102-41D3-ACB2-51E9E144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3A35-2177-45E0-A269-1C964425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C804-619D-4027-81FE-B42E1F8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289A-005B-4887-9FFB-26335025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74CC-E1FA-41F5-85C8-99229C9B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BBFD3-2B91-470C-A808-5A409DE1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4D54-A88E-4A39-B266-2B02A11E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9848-229D-41F1-907F-D140EA6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B0F-B1FE-4893-8DD6-3F70B38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BFB6-784C-4899-9294-4122179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BDC3D-C85D-4DA3-BA56-B39449B6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EEFD-BAFE-4927-9760-4F8BEC98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B315A-EF2D-4752-A445-3940FD89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E68E-40CF-4DC0-A150-2AE9F14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6EC-BF12-4B8D-981C-D018535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9613-28F7-4E34-8166-E207F13EFBF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183-82DD-4C85-8075-B11233ADC49A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31D-04F2-4EC3-9F0B-DE221D416DB5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E11-7E47-4FA2-BB23-47CD299872E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5D3-25C3-4E8F-B68F-A7B76C5B119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EDC-108A-4D7D-A053-B56EE5FED82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B6E1-7F70-4A95-87E6-50690AB3473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7F56-DCEE-446F-88A2-DE71B3BAD35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E77-24B5-42AA-95F3-923E6952817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404-A643-4A66-9797-95126636749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550880"/>
            <a:ext cx="3071880" cy="216396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8467-8B10-43A7-A249-1A23BFB205C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69F0-A734-4940-90B0-462750BE648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F537-0B88-4B1B-AA3F-B511D7640DE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E4FC-CDEF-4B72-AD8C-C9CCF0CB0C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91856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424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759-5C85-4059-AFDE-FDFF9540276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3FA-A128-4C95-A9D8-9A93F70473E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07EA-A744-4F72-99C3-5B832419A08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51C-91E1-48C0-9D48-B8E42295106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320" y="2819520"/>
            <a:ext cx="803268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ADB-C1CD-424F-8B72-0FD2F26377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08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280476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confiabilidad 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118-B4B2-4AF1-8144-AFF8FCCDF6A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857320"/>
            <a:ext cx="8358120" cy="3524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C9B-4446-4F41-8375-F6CCB54125C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6F4-242C-41CD-87C5-3E000375E0E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A374-0F73-49A4-885E-F60CC355C1B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rcRect l="0" t="3595" r="0" b="6400"/>
          <a:stretch/>
        </p:blipFill>
        <p:spPr>
          <a:xfrm>
            <a:off x="7108920" y="1557360"/>
            <a:ext cx="2000160" cy="18003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16C-11E9-4C1F-BC54-C8C3FCD284F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puede usar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3T13:18:03Z</dcterms:modified>
  <cp:revision>602</cp:revision>
  <dc:subject/>
  <dc:title>CC31B – Desarrollo de Software de Aplicación</dc:title>
</cp:coreProperties>
</file>