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D7B-6AE4-4CB9-8A42-EBD8E56503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392-A1A4-44E1-9A69-9271163F95F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72CE-BF7A-4153-8B98-D98A01BA10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1CF-E1D0-4D57-9A19-1FA8A1810AD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58C-201A-4529-BCB6-18ABCD44EDF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A546-A79D-4B94-8596-21725109DEA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2B1-508C-4A75-8E9B-C525814C186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F23C-2DC2-4B91-BB76-39D771A099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D132-6377-449B-BA36-4D62B3DD570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37B7-4F46-4351-BA6E-5FA7461D607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BE8C-16A8-439A-A692-E4B59A55E4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D0ED-4FF7-40DC-99CC-201F8CC4DBA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7E3-94AB-42BF-8219-69F61427EE4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5B5-29C1-43F6-8535-27DBF355BA7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141-E83A-4EAA-AEDD-86046BD85F7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F02-4458-4021-8D64-487611D1121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81E9-54AD-41BF-9601-09833A60ED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D3C-A6CA-43D7-9344-FB15AF1C574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1B0-82EC-4A7D-B81A-86CABFE9E13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E24-80DB-478C-80C4-0194F796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C5E-1BD4-47F9-B77F-80E3C14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3F4-555C-415C-A291-7F45EC57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E22-5E18-498E-B837-BC5F755F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AAA-826E-4237-AF16-5772C3BB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497-7E25-4631-85B5-4D574D4B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9F6D-C537-44FF-A1D2-EFAF2DF8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9BE9-76FE-4282-905D-522A2588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F805-0565-466A-93CF-7B22197D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9510-1F17-4B7E-9926-D4F5D2A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3745-1D21-4436-85C1-E7332E6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E1F-6839-4726-A40C-DD186E8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284-741D-4302-9C7E-F4ACB78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4F41-572C-4544-8D6E-01C72DD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827A-4A65-4768-A518-4D4AA7A0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67A-430F-4AA0-96E9-230421C3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8DA2-CAC9-4D1D-98C2-A35DE666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A279-FBE4-4093-9C79-137F84F4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7386-A849-4709-BF8F-3D84FF6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F2AD-A876-4EA7-ABAD-76F794A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56AF-300F-483E-801D-0BBF21A0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F0AA-0B11-4F47-9FF4-FB0F512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005-E2DC-462E-9BD9-43D2028F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0AD5-076F-451A-9DC2-E6CE2D3A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BD2F-A6E3-4E00-9CF7-BA259C9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6A25-985B-450E-A504-51B0E74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ADDA-8828-4578-B3FD-43CC8F7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ED80-6F2D-4B85-94EB-D38B0D11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296C-B056-4E03-B460-A226AAF1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1C21-8381-40E7-8E82-80EEFC78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58B0-62B9-4227-8FF7-66846741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0D71-290F-4E91-973A-EFC8506E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CDB4-5EB5-4285-872E-8677AE5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F5A-7B31-4072-BAEF-85ABAA91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9AC2-E05D-4182-99DF-CFF28A6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7D0F-CA74-44A8-8FB5-FC02958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BF05-C42A-4102-9291-134114E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66D0-A780-4124-9840-3DB13D76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B936-0695-4904-BF85-24C8623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CA37-1784-4D69-9CF9-40069E4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0803-737F-4A91-A48E-A906A04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AAB0-A01E-4083-B294-BA307A08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02C4-4FCE-4C52-8D25-1B0B3D04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A0ED-DA52-4905-9224-8A2EC472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7B1-335D-4856-85C0-73B44C05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66AA-8FCB-4F37-B49B-3CA7B5C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8F59-DC5F-4CBA-8CA1-5B38D18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11E3-1CF1-4548-927D-70CEFEDB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4866-545E-48B6-9955-6625276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FD32-1E12-4B8C-B778-74514DB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7CFA-D13F-4663-8D6D-9ADAD143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D314-662B-4819-8E69-98B808A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662F3-22C9-482A-9861-86A999C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D5A3-45BE-4B21-B0C5-3C228AA3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75D7-EAAD-43ED-8534-DB7EC06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1B2-C021-441B-A628-7D8B552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E0BA-ECE0-429F-A899-CD65180C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EA7F-C585-4ACF-BE84-406BA795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B8CE-D4A9-4A4B-93EE-E04D6579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D743-48AE-4D41-9299-45EE4CD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E450-B1D1-4312-A290-F50B52D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13AD-3FCB-42BF-AF95-C13145B9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BE679-092E-477D-9808-AC95723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2FD2-098D-48C4-8FF5-DE387523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1F19-0FB3-403A-A11A-0202A4F4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F721F-76F5-421D-A2D8-CCBC0BF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215-69C9-4597-87A6-CA75A2E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BA7E-6E58-4597-8726-4125EA1C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AF84-C914-4F0A-8ABA-24E54BEC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D3F5-F003-42F6-ADED-6B9873EB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FE90-D4D8-4D8B-B8A2-9CEBBBA0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1810A-F885-470B-B28B-0A8F6C79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04A5A-5C41-498D-8802-C47AC843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B923-3D62-423C-BAD9-C7649A3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DB89-0129-4C56-AA0C-F61504F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9C8F-59AB-46CE-A345-3D812E1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9AC4-6998-49DF-ACEE-91ABC18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C01-7787-4B76-A7F5-80A0E97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97B9E-734E-4598-84E4-7405B1F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71E0-BE88-45D9-BC21-B86EA13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F278-ED16-45D2-92D8-3BB5E0A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6515-89E6-4906-8134-D6F0154A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CC0C-042B-470C-B64C-B5C58ECA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451-4350-465D-8942-0246D7F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5D8-20F0-431F-A2F6-52E87A0F3F6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AB82-C4E9-4EBF-BDF8-44A906FE1BE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EED-A608-4BA7-B7F5-EFCBCAAF822D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419-B7B2-409A-B8CA-B4D39FC31B3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D5B-BF74-42DE-A340-CA9FAA2D35A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21D-576C-494D-A143-9D67D4ADBFC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C22-C38D-4587-9C2A-58557DC9739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1123-978C-45B2-A308-71E43DB799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D7E4-8E38-4BC4-BA85-41955CF8762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B76A-5699-4F54-9E7E-D889EAD58A9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550880"/>
            <a:ext cx="3071880" cy="216396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B17-49D4-44AE-A857-6BA875B3E52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431-49BC-4846-87AB-32E0D72F508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B215-9BD6-4AD9-838E-EFBFF06038E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5DC-E138-4599-BC3B-8E885A24CFA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91856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1424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1E8-365A-4924-8969-4A29DE62A87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EDF5-73D2-49DD-BF10-3A2B157A79F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4204-4B20-447C-974D-377A82AE502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06E-5075-42D0-9C14-597838F4897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320" y="2819520"/>
            <a:ext cx="803268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89C-BC1F-48FE-A97C-473A19A9414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08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280476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confiabilidad 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558-EC55-48BB-B229-A45EECA6D1E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857320"/>
            <a:ext cx="8358120" cy="3524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999-7B96-4CD7-B53E-F432F2F97C8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566-8A34-49A8-A2FE-5B2E91B546F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CEA-9E3E-4DFA-9165-F7D880121FF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rcRect l="0" t="3595" r="0" b="6400"/>
          <a:stretch/>
        </p:blipFill>
        <p:spPr>
          <a:xfrm>
            <a:off x="7108920" y="1557360"/>
            <a:ext cx="2000160" cy="18003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B03-4E6E-4ED2-81F8-9C702900BA9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puede usar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3T13:18:03Z</dcterms:modified>
  <cp:revision>602</cp:revision>
  <dc:subject/>
  <dc:title>CC31B – Desarrollo de Software de Aplicación</dc:title>
</cp:coreProperties>
</file>